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1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D90-2D6D-4714-B0CB-D5388F09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927-09D0-4B81-B17F-BD5166E8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C18-F149-43CF-901D-5A74DE1E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CEE-63E6-4F33-889C-698C20BB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7067-E8E1-4B9C-A79F-5429A9EC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8599-1987-4BFC-82E1-E9AA27AE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971B-55DF-4FB5-81DB-956A3EC0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3832-DC68-4E86-B3B7-2EEC12C0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2A2E-8E1D-4A29-856E-928E948E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ED82-4E49-4D26-B71E-7DDD51CC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0DF1-B966-466D-A38F-B537E69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5D6-3906-41E4-B4AA-9931E61C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F230-9870-4770-A5BE-2E066268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C73E-F71E-43A0-868A-B1B174FF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DC97-917B-4158-924C-E9D118D6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26F1-26D3-44AF-B22C-1E489CDB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9179-C9A4-418B-8705-EAF6B0EF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733-8209-47AB-AA13-2EA50988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BE8-F0D0-4F6C-BC73-BB993608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535-C50F-413D-88C8-C18767A3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745-2A97-4442-878D-D24D025F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CA2-3018-417B-AEC7-5855B037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78C-7E09-4A60-95AD-FDE5E5B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B34-BDF5-49AC-B0BC-8E9FE3C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E2C2-90A2-4DD8-99A3-144C78997D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D2A2-1B65-4927-A586-85D4CDF92DF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rfoto.ru/V-hobby.html" TargetMode="External"/><Relationship Id="rId2" Type="http://schemas.openxmlformats.org/officeDocument/2006/relationships/hyperlink" Target="http://www.lenagold.ru/fon/clipart/p/pos4.html" TargetMode="External"/><Relationship Id="rId3" Type="http://schemas.openxmlformats.org/officeDocument/2006/relationships/hyperlink" Target="http://www.ivanivanich.ru/disc.php?id=77&amp;pg=3" TargetMode="External"/><Relationship Id="rId4" Type="http://schemas.openxmlformats.org/officeDocument/2006/relationships/hyperlink" Target="http://dwar.org.ua/index.php/&#1060;&#1072;&#1081;&#1083;:Melnik.jpg" TargetMode="External"/><Relationship Id="rId5" Type="http://schemas.openxmlformats.org/officeDocument/2006/relationships/hyperlink" Target="http://kopona.com/9055-rybalka-i-oxota.html" TargetMode="External"/><Relationship Id="rId6" Type="http://schemas.openxmlformats.org/officeDocument/2006/relationships/hyperlink" Target="http://vse-professii.ru/?act=show_info_p&amp;t=11&amp;p=67" TargetMode="External"/><Relationship Id="rId7" Type="http://schemas.openxmlformats.org/officeDocument/2006/relationships/hyperlink" Target="http://www.clipartov.net/show-39-2.html" TargetMode="External"/><Relationship Id="rId8" Type="http://schemas.openxmlformats.org/officeDocument/2006/relationships/hyperlink" Target="http://gigart.ru/clip/vector/2903-stroitelstvo.-vektornyjj-klipart.html" TargetMode="External"/><Relationship Id="rId9" Type="http://schemas.openxmlformats.org/officeDocument/2006/relationships/hyperlink" Target="http://www.lenagold.ru/fon/clipart/alf.html" TargetMode="External"/><Relationship Id="rId10" Type="http://schemas.openxmlformats.org/officeDocument/2006/relationships/hyperlink" Target="http://www.interpres.ru/catalog/prod_show.php?kod_zhanr=4&amp;kod_seriya=68&amp;kod=069587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Все работы хороши, 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выбирай на вкус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10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89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23640" y="242064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ahoma"/>
              </a:rPr>
              <a:t>Молодцы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2138040" cy="2448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"/>
          <p:cNvPicPr/>
          <p:nvPr/>
        </p:nvPicPr>
        <p:blipFill>
          <a:blip r:embed="rId2"/>
          <a:stretch/>
        </p:blipFill>
        <p:spPr>
          <a:xfrm>
            <a:off x="6948360" y="3716280"/>
            <a:ext cx="1619280" cy="2562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"/>
          <p:cNvPicPr/>
          <p:nvPr/>
        </p:nvPicPr>
        <p:blipFill>
          <a:blip r:embed="rId3"/>
          <a:stretch/>
        </p:blipFill>
        <p:spPr>
          <a:xfrm>
            <a:off x="3927600" y="3716280"/>
            <a:ext cx="1214280" cy="25923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"/>
          <p:cNvPicPr/>
          <p:nvPr/>
        </p:nvPicPr>
        <p:blipFill>
          <a:blip r:embed="rId4"/>
          <a:stretch/>
        </p:blipFill>
        <p:spPr>
          <a:xfrm>
            <a:off x="617400" y="189000"/>
            <a:ext cx="1602000" cy="20876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"/>
          <p:cNvPicPr/>
          <p:nvPr/>
        </p:nvPicPr>
        <p:blipFill>
          <a:blip r:embed="rId5"/>
          <a:stretch/>
        </p:blipFill>
        <p:spPr>
          <a:xfrm>
            <a:off x="3708360" y="404640"/>
            <a:ext cx="1889280" cy="1546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"/>
          <p:cNvPicPr/>
          <p:nvPr/>
        </p:nvPicPr>
        <p:blipFill>
          <a:blip r:embed="rId6"/>
          <a:stretch/>
        </p:blipFill>
        <p:spPr>
          <a:xfrm>
            <a:off x="7093080" y="260280"/>
            <a:ext cx="1439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резентации использованы материал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ртниха, художник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1"/>
              </a:rPr>
              <a:t>http://www.yarfoto.ru/V-hobby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вар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2"/>
              </a:rPr>
              <a:t>http://www.lenagold.ru/fon/clipart/p/pos4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ртной, плотник, пожарный, космонавт, строитель, художник, фермер, пчеловод, судья, фотограф, повар, почтальон, портной, ветеринар, маляр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3"/>
              </a:rPr>
              <a:t>http://www.ivanivanich.ru/disc.php?id=77&amp;pg=3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ельник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4"/>
              </a:rPr>
              <a:t>http://dwar.org.ua/index.php/%D0%A4%D0%B0%D0%B9%D0%BB:Melnik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ыболов, охотник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5"/>
              </a:rPr>
              <a:t>http://kopona.com/9055-rybalka-i-oxota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инолог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6"/>
              </a:rPr>
              <a:t>http://vse-professii.ru/?act=show_info_p&amp;t=11&amp;p=6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граммист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7"/>
              </a:rPr>
              <a:t>http://www.clipartov.net/show-39-2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троитель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8"/>
              </a:rPr>
              <a:t>http://gigart.ru/clip/vector/2903-stroitelstvo.-vektornyjj-klipart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лоток, ножницы, фен, лопата, иголка, тёрка, стетоскоп, краски, расчески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9"/>
              </a:rPr>
              <a:t>http://www.lenagold.ru/fon/clipart/alf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 златом крыльце… </a:t>
            </a:r>
            <a:r>
              <a:rPr b="0" lang="ru-RU" sz="1600" spc="-1" strike="noStrike" u="sng">
                <a:solidFill>
                  <a:srgbClr val="a3c145"/>
                </a:solidFill>
                <a:uFillTx/>
                <a:latin typeface="Times New Roman"/>
                <a:hlinkClick r:id="rId10"/>
              </a:rPr>
              <a:t>http://www.interpres.ru/catalog/prod_show.php?kod_zhanr=4&amp;kod_seriya=68&amp;kod=06958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юди разных профессий http://hameleons.com/tags/%EE%F4%E8%F6%E8%E0%ED%F2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етчик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artgrafica.net/2009/09/22/pilot-1.htm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еолог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http://www.calend.ru/holidays/0/0/137/6/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хитектор http://900igr.net/kartinki/chelovek/Professii-5.files/017-Arkhitektor.htm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варщик http://www.gmsgroup.ru/svarshhiki.htm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3357360"/>
            <a:ext cx="8540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554508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На златом крыльце сид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Царь, царевич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ороль, королевич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апожник, портн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то ты будешь тако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7" descr=""/>
          <p:cNvPicPr/>
          <p:nvPr/>
        </p:nvPicPr>
        <p:blipFill>
          <a:blip r:embed="rId1"/>
          <a:stretch/>
        </p:blipFill>
        <p:spPr>
          <a:xfrm>
            <a:off x="6084720" y="836640"/>
            <a:ext cx="2725920" cy="24001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2195640" y="620640"/>
            <a:ext cx="288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1698480" cy="2087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1944720" cy="1749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"/>
          <p:cNvPicPr/>
          <p:nvPr/>
        </p:nvPicPr>
        <p:blipFill>
          <a:blip r:embed="rId3"/>
          <a:stretch/>
        </p:blipFill>
        <p:spPr>
          <a:xfrm>
            <a:off x="3708360" y="3716280"/>
            <a:ext cx="1917720" cy="1944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7" descr=""/>
          <p:cNvPicPr/>
          <p:nvPr/>
        </p:nvPicPr>
        <p:blipFill>
          <a:blip r:embed="rId4"/>
          <a:stretch/>
        </p:blipFill>
        <p:spPr>
          <a:xfrm>
            <a:off x="3780000" y="1052640"/>
            <a:ext cx="1873080" cy="1749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8" descr="рыбак"/>
          <p:cNvPicPr/>
          <p:nvPr/>
        </p:nvPicPr>
        <p:blipFill>
          <a:blip r:embed="rId5"/>
          <a:stretch/>
        </p:blipFill>
        <p:spPr>
          <a:xfrm>
            <a:off x="7164360" y="1125360"/>
            <a:ext cx="1419120" cy="2232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9" descr="охотник"/>
          <p:cNvPicPr/>
          <p:nvPr/>
        </p:nvPicPr>
        <p:blipFill>
          <a:blip r:embed="rId6"/>
          <a:stretch/>
        </p:blipFill>
        <p:spPr>
          <a:xfrm>
            <a:off x="6443640" y="3789360"/>
            <a:ext cx="2119320" cy="19242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22"/>
          <p:cNvSpPr/>
          <p:nvPr/>
        </p:nvSpPr>
        <p:spPr>
          <a:xfrm>
            <a:off x="603360" y="2924280"/>
            <a:ext cx="2023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611280" y="2852640"/>
            <a:ext cx="208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ва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24"/>
          <p:cNvSpPr/>
          <p:nvPr/>
        </p:nvSpPr>
        <p:spPr>
          <a:xfrm>
            <a:off x="3564000" y="2852640"/>
            <a:ext cx="208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рт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25"/>
          <p:cNvSpPr/>
          <p:nvPr/>
        </p:nvSpPr>
        <p:spPr>
          <a:xfrm>
            <a:off x="6372360" y="2852640"/>
            <a:ext cx="208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ыбо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11280" y="566100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ель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3708360" y="566100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лот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6516720" y="566100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хот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0"/>
          <p:cNvSpPr/>
          <p:nvPr/>
        </p:nvSpPr>
        <p:spPr>
          <a:xfrm>
            <a:off x="539640" y="3213000"/>
            <a:ext cx="208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отовил е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1"/>
          <p:cNvSpPr/>
          <p:nvPr/>
        </p:nvSpPr>
        <p:spPr>
          <a:xfrm>
            <a:off x="3564000" y="3213000"/>
            <a:ext cx="208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шил одеж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2"/>
          <p:cNvSpPr/>
          <p:nvPr/>
        </p:nvSpPr>
        <p:spPr>
          <a:xfrm>
            <a:off x="6443640" y="3213000"/>
            <a:ext cx="208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ловил рыб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3"/>
          <p:cNvSpPr/>
          <p:nvPr/>
        </p:nvSpPr>
        <p:spPr>
          <a:xfrm>
            <a:off x="611280" y="602136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олол му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4"/>
          <p:cNvSpPr/>
          <p:nvPr/>
        </p:nvSpPr>
        <p:spPr>
          <a:xfrm>
            <a:off x="3564000" y="602136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троил до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5"/>
          <p:cNvSpPr/>
          <p:nvPr/>
        </p:nvSpPr>
        <p:spPr>
          <a:xfrm>
            <a:off x="5867280" y="6021360"/>
            <a:ext cx="327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хотился на звер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2268360" y="333360"/>
            <a:ext cx="518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Что делал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9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1741680" cy="280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1903320" cy="1903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"/>
          <p:cNvPicPr/>
          <p:nvPr/>
        </p:nvPicPr>
        <p:blipFill>
          <a:blip r:embed="rId3"/>
          <a:stretch/>
        </p:blipFill>
        <p:spPr>
          <a:xfrm>
            <a:off x="1763640" y="3429000"/>
            <a:ext cx="1897200" cy="18972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2"/>
          <p:cNvSpPr/>
          <p:nvPr/>
        </p:nvSpPr>
        <p:spPr>
          <a:xfrm>
            <a:off x="5364000" y="4724280"/>
            <a:ext cx="251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осмонав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1476360" y="2421000"/>
            <a:ext cx="25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иноло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1476360" y="5373720"/>
            <a:ext cx="25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16"/>
          <p:cNvSpPr/>
          <p:nvPr/>
        </p:nvSpPr>
        <p:spPr>
          <a:xfrm>
            <a:off x="971640" y="2781360"/>
            <a:ext cx="40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оспитывает соба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684360" y="5805360"/>
            <a:ext cx="475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аботает на компьютер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5076720" y="5157720"/>
            <a:ext cx="331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летает в косм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4284720" y="404640"/>
            <a:ext cx="41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Что делае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Будем отгадывать загад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476360" y="299736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троит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395280" y="3573360"/>
            <a:ext cx="6337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 огнем бороться мы должны —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Мы смелые работник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 водою мы напарники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Мы очень людям всем нужн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ак кто же мы? - 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3995640" y="573408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ожар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10" descr=""/>
          <p:cNvPicPr/>
          <p:nvPr/>
        </p:nvPicPr>
        <p:blipFill>
          <a:blip r:embed="rId1"/>
          <a:stretch/>
        </p:blipFill>
        <p:spPr>
          <a:xfrm>
            <a:off x="6443640" y="3645000"/>
            <a:ext cx="2397240" cy="2520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1" descr=""/>
          <p:cNvPicPr/>
          <p:nvPr/>
        </p:nvPicPr>
        <p:blipFill>
          <a:blip r:embed="rId2"/>
          <a:stretch/>
        </p:blipFill>
        <p:spPr>
          <a:xfrm>
            <a:off x="6588000" y="1268280"/>
            <a:ext cx="1987560" cy="17827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3"/>
          <p:cNvSpPr/>
          <p:nvPr/>
        </p:nvSpPr>
        <p:spPr>
          <a:xfrm>
            <a:off x="395280" y="1125360"/>
            <a:ext cx="61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редь облаков, на высоте,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Мы дружно строим новый дом,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Чтобы в тепле и красоте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частливо жили люди в нем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4557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то нас одев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красивые плать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то шьёт нам наряд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Чтоб было приятно?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492360" y="2492280"/>
            <a:ext cx="208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ортн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539640" y="2997360"/>
            <a:ext cx="626436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 меня есть карандаш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азноцветная гуаш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Акварель, палитра, ки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И бумаги плотный лис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А еще – мольберт-треножни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Потому что я …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924360" y="558972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Худож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8" descr=""/>
          <p:cNvPicPr/>
          <p:nvPr/>
        </p:nvPicPr>
        <p:blipFill>
          <a:blip r:embed="rId1"/>
          <a:stretch/>
        </p:blipFill>
        <p:spPr>
          <a:xfrm>
            <a:off x="5940360" y="549360"/>
            <a:ext cx="1892520" cy="2303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"/>
          <p:cNvPicPr/>
          <p:nvPr/>
        </p:nvPicPr>
        <p:blipFill>
          <a:blip r:embed="rId2"/>
          <a:stretch/>
        </p:blipFill>
        <p:spPr>
          <a:xfrm>
            <a:off x="6588000" y="3429000"/>
            <a:ext cx="1911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Будем игра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734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Где бывали, мы не скажем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а что делали – покажем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Найди пар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2950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читель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инолог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троитель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Повар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Маляр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рач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4427640" y="1557360"/>
            <a:ext cx="42480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оспитывает соба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арит обе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расит сте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лечит люд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чит дете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троит до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3059280" y="1628640"/>
            <a:ext cx="158400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7"/>
          <p:cNvSpPr/>
          <p:nvPr/>
        </p:nvSpPr>
        <p:spPr>
          <a:xfrm flipV="1">
            <a:off x="2987640" y="1844280"/>
            <a:ext cx="158436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3348000" y="2637000"/>
            <a:ext cx="1295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Line 9"/>
          <p:cNvSpPr/>
          <p:nvPr/>
        </p:nvSpPr>
        <p:spPr>
          <a:xfrm flipV="1">
            <a:off x="2556000" y="2421000"/>
            <a:ext cx="2087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10"/>
          <p:cNvSpPr/>
          <p:nvPr/>
        </p:nvSpPr>
        <p:spPr>
          <a:xfrm flipV="1">
            <a:off x="2627280" y="2852280"/>
            <a:ext cx="201600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11"/>
          <p:cNvSpPr/>
          <p:nvPr/>
        </p:nvSpPr>
        <p:spPr>
          <a:xfrm flipV="1">
            <a:off x="2340000" y="3284280"/>
            <a:ext cx="23032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Кому это нужно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5" name="Picture 12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1195560" cy="7048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"/>
          <p:cNvPicPr/>
          <p:nvPr/>
        </p:nvPicPr>
        <p:blipFill>
          <a:blip r:embed="rId2"/>
          <a:stretch/>
        </p:blipFill>
        <p:spPr>
          <a:xfrm>
            <a:off x="7386480" y="1052640"/>
            <a:ext cx="1008360" cy="38163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"/>
          <p:cNvPicPr/>
          <p:nvPr/>
        </p:nvPicPr>
        <p:blipFill>
          <a:blip r:embed="rId3"/>
          <a:stretch/>
        </p:blipFill>
        <p:spPr>
          <a:xfrm>
            <a:off x="3348000" y="2997360"/>
            <a:ext cx="1940040" cy="14508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"/>
          <p:cNvPicPr/>
          <p:nvPr/>
        </p:nvPicPr>
        <p:blipFill>
          <a:blip r:embed="rId4"/>
          <a:stretch/>
        </p:blipFill>
        <p:spPr>
          <a:xfrm>
            <a:off x="250920" y="692280"/>
            <a:ext cx="1439640" cy="1406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6" descr=""/>
          <p:cNvPicPr/>
          <p:nvPr/>
        </p:nvPicPr>
        <p:blipFill>
          <a:blip r:embed="rId5"/>
          <a:stretch/>
        </p:blipFill>
        <p:spPr>
          <a:xfrm>
            <a:off x="900000" y="3213000"/>
            <a:ext cx="1365480" cy="682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7" descr=""/>
          <p:cNvPicPr/>
          <p:nvPr/>
        </p:nvPicPr>
        <p:blipFill>
          <a:blip r:embed="rId6"/>
          <a:stretch/>
        </p:blipFill>
        <p:spPr>
          <a:xfrm>
            <a:off x="3276720" y="4941720"/>
            <a:ext cx="2084400" cy="986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8" descr=""/>
          <p:cNvPicPr/>
          <p:nvPr/>
        </p:nvPicPr>
        <p:blipFill>
          <a:blip r:embed="rId7"/>
          <a:stretch/>
        </p:blipFill>
        <p:spPr>
          <a:xfrm>
            <a:off x="6156360" y="4076640"/>
            <a:ext cx="887400" cy="2087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9" descr=""/>
          <p:cNvPicPr/>
          <p:nvPr/>
        </p:nvPicPr>
        <p:blipFill>
          <a:blip r:embed="rId8"/>
          <a:stretch/>
        </p:blipFill>
        <p:spPr>
          <a:xfrm>
            <a:off x="971640" y="4724280"/>
            <a:ext cx="1501560" cy="1436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0" descr=""/>
          <p:cNvPicPr/>
          <p:nvPr/>
        </p:nvPicPr>
        <p:blipFill>
          <a:blip r:embed="rId9"/>
          <a:stretch/>
        </p:blipFill>
        <p:spPr>
          <a:xfrm>
            <a:off x="4643280" y="1484280"/>
            <a:ext cx="2124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7:06:46Z</dcterms:created>
  <dc:creator>FuckYouBill</dc:creator>
  <dc:description/>
  <dc:language>en-US</dc:language>
  <cp:lastModifiedBy>12</cp:lastModifiedBy>
  <dcterms:modified xsi:type="dcterms:W3CDTF">2015-04-09T07:40:22Z</dcterms:modified>
  <cp:revision>20</cp:revision>
  <dc:subject/>
  <dc:title>Все работы хороши –  выбирай на вкус.</dc:title>
</cp:coreProperties>
</file>