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047-DB81-48CA-A402-09738A6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1FA-5331-44F4-80E1-C1403E98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E5D-3911-4FB1-A20B-A97F6AF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AEB-4810-4723-8608-D915CE92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52A-B662-4F48-89AC-858E0576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FDF3-6785-474C-964F-ED7AF4D6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2C50-69FF-4072-BD97-19F7AFFE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762E-327A-4305-B69B-FC6E4921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A25-C1C2-4C7F-BF47-2569538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E282-4EDE-43F8-A2BA-1E57A79D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3D2-CCC2-48BA-80D9-C6CCD3B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F36-DF56-42C2-8067-EBFEF1C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FDB-3338-4B3C-9F10-96A228B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378D-2157-4FE6-A16F-B29F804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4CB3-6868-499D-B80D-6BC60CC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1B6D-95FF-40E9-B4EC-F16DF106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B726-6A1C-467F-899C-17AF9B27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1FC-E8BB-4A08-B6ED-A49FBF0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7DC-3BAF-48E0-BE40-33D191F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1C5-5E6D-46C3-9CD1-269FEC3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2D6-83EB-4FAF-B760-972E91C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14D-903C-40F3-80D3-48C13D2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092-BD23-4131-B1F8-5900F3F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B20-BB55-4262-89F1-27FD0E3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5973-D80D-4DF9-AF23-16CBAB74B5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178D-FEBA-4DD4-B389-530DBC944ED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rfoto.ru/V-hobby.html" TargetMode="External"/><Relationship Id="rId2" Type="http://schemas.openxmlformats.org/officeDocument/2006/relationships/hyperlink" Target="http://www.lenagold.ru/fon/clipart/p/pos4.html" TargetMode="External"/><Relationship Id="rId3" Type="http://schemas.openxmlformats.org/officeDocument/2006/relationships/hyperlink" Target="http://www.ivanivanich.ru/disc.php?id=77&amp;pg=3" TargetMode="External"/><Relationship Id="rId4" Type="http://schemas.openxmlformats.org/officeDocument/2006/relationships/hyperlink" Target="http://dwar.org.ua/index.php/&#1060;&#1072;&#1081;&#1083;:Melnik.jpg" TargetMode="External"/><Relationship Id="rId5" Type="http://schemas.openxmlformats.org/officeDocument/2006/relationships/hyperlink" Target="http://kopona.com/9055-rybalka-i-oxota.html" TargetMode="External"/><Relationship Id="rId6" Type="http://schemas.openxmlformats.org/officeDocument/2006/relationships/hyperlink" Target="http://vse-professii.ru/?act=show_info_p&amp;t=11&amp;p=67" TargetMode="External"/><Relationship Id="rId7" Type="http://schemas.openxmlformats.org/officeDocument/2006/relationships/hyperlink" Target="http://www.clipartov.net/show-39-2.html" TargetMode="External"/><Relationship Id="rId8" Type="http://schemas.openxmlformats.org/officeDocument/2006/relationships/hyperlink" Target="http://gigart.ru/clip/vector/2903-stroitelstvo.-vektornyjj-klipart.html" TargetMode="External"/><Relationship Id="rId9" Type="http://schemas.openxmlformats.org/officeDocument/2006/relationships/hyperlink" Target="http://www.lenagold.ru/fon/clipart/alf.html" TargetMode="External"/><Relationship Id="rId10" Type="http://schemas.openxmlformats.org/officeDocument/2006/relationships/hyperlink" Target="http://www.interpres.ru/catalog/prod_show.php?kod_zhanr=4&amp;kod_seriya=68&amp;kod=069587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Все работы хороши,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выбирай на вкус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89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23640" y="242064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Молодцы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138040" cy="244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"/>
          <p:cNvPicPr/>
          <p:nvPr/>
        </p:nvPicPr>
        <p:blipFill>
          <a:blip r:embed="rId2"/>
          <a:stretch/>
        </p:blipFill>
        <p:spPr>
          <a:xfrm>
            <a:off x="6948360" y="3716280"/>
            <a:ext cx="1619280" cy="2562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3"/>
          <a:stretch/>
        </p:blipFill>
        <p:spPr>
          <a:xfrm>
            <a:off x="3927600" y="3716280"/>
            <a:ext cx="1214280" cy="2592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"/>
          <p:cNvPicPr/>
          <p:nvPr/>
        </p:nvPicPr>
        <p:blipFill>
          <a:blip r:embed="rId4"/>
          <a:stretch/>
        </p:blipFill>
        <p:spPr>
          <a:xfrm>
            <a:off x="617400" y="189000"/>
            <a:ext cx="1602000" cy="2087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5"/>
          <a:stretch/>
        </p:blipFill>
        <p:spPr>
          <a:xfrm>
            <a:off x="3708360" y="404640"/>
            <a:ext cx="1889280" cy="1546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6"/>
          <a:stretch/>
        </p:blipFill>
        <p:spPr>
          <a:xfrm>
            <a:off x="7093080" y="260280"/>
            <a:ext cx="143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езентации использованы материал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ниха, худож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1"/>
              </a:rPr>
              <a:t>http://www.yarfoto.ru/V-hobby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ар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http://www.lenagold.ru/fon/clipart/p/pos4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ной, плотник, пожарный, космонавт, строитель, художник, фермер, пчеловод, судья, фотограф, повар, почтальон, портной, ветеринар, маляр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3"/>
              </a:rPr>
              <a:t>http://www.ivanivanich.ru/disc.php?id=77&amp;pg=3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ель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4"/>
              </a:rPr>
              <a:t>http://dwar.org.ua/index.php/%D0%A4%D0%B0%D0%B9%D0%BB:Melnik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ыболов, охот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5"/>
              </a:rPr>
              <a:t>http://kopona.com/9055-rybalka-i-oxota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нолог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6"/>
              </a:rPr>
              <a:t>http://vse-professii.ru/?act=show_info_p&amp;t=11&amp;p=6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ист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7"/>
              </a:rPr>
              <a:t>http://www.clipartov.net/show-39-2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роитель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8"/>
              </a:rPr>
              <a:t>http://gigart.ru/clip/vector/2903-stroitelstvo.-vektornyjj-klipart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лоток, ножницы, фен, лопата, иголка, тёрка, стетоскоп, краски, расчески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9"/>
              </a:rPr>
              <a:t>http://www.lenagold.ru/fon/clipart/alf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златом крыльце…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10"/>
              </a:rPr>
              <a:t>http://www.interpres.ru/catalog/prod_show.php?kod_zhanr=4&amp;kod_seriya=68&amp;kod=069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ди разных профессий http://hameleons.com/tags/%EE%F4%E8%F6%E8%E0%ED%F2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тчик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artgrafica.net/2009/09/22/pilot-1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оло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http://www.calend.ru/holidays/0/0/137/6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хитектор http://900igr.net/kartinki/chelovek/Professii-5.files/017-Arkhitektor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арщик http://www.gmsgroup.ru/svarshhiki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55450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На златом крыльце сид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Царь, царевич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ороль, корол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апожник, портн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ты будешь так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25920" cy="24001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2195640" y="620640"/>
            <a:ext cx="28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1698480" cy="2087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1944720" cy="174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1917720" cy="1944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"/>
          <p:cNvPicPr/>
          <p:nvPr/>
        </p:nvPicPr>
        <p:blipFill>
          <a:blip r:embed="rId4"/>
          <a:stretch/>
        </p:blipFill>
        <p:spPr>
          <a:xfrm>
            <a:off x="3780000" y="1052640"/>
            <a:ext cx="1873080" cy="174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8" descr="рыбак"/>
          <p:cNvPicPr/>
          <p:nvPr/>
        </p:nvPicPr>
        <p:blipFill>
          <a:blip r:embed="rId5"/>
          <a:stretch/>
        </p:blipFill>
        <p:spPr>
          <a:xfrm>
            <a:off x="7164360" y="1125360"/>
            <a:ext cx="1419120" cy="2232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охотник"/>
          <p:cNvPicPr/>
          <p:nvPr/>
        </p:nvPicPr>
        <p:blipFill>
          <a:blip r:embed="rId6"/>
          <a:stretch/>
        </p:blipFill>
        <p:spPr>
          <a:xfrm>
            <a:off x="6443640" y="3789360"/>
            <a:ext cx="2119320" cy="1924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2"/>
          <p:cNvSpPr/>
          <p:nvPr/>
        </p:nvSpPr>
        <p:spPr>
          <a:xfrm>
            <a:off x="603360" y="2924280"/>
            <a:ext cx="2023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61128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в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356400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рт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5"/>
          <p:cNvSpPr/>
          <p:nvPr/>
        </p:nvSpPr>
        <p:spPr>
          <a:xfrm>
            <a:off x="637236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ыбо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1128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370836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лот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651672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хот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539640" y="321300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отовил е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3564000" y="321300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шил одеж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6443640" y="321300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овил рыб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611280" y="6021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лол му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4"/>
          <p:cNvSpPr/>
          <p:nvPr/>
        </p:nvSpPr>
        <p:spPr>
          <a:xfrm>
            <a:off x="3564000" y="6021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троил до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5"/>
          <p:cNvSpPr/>
          <p:nvPr/>
        </p:nvSpPr>
        <p:spPr>
          <a:xfrm>
            <a:off x="5867280" y="6021360"/>
            <a:ext cx="32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хотился на звер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2268360" y="33336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Что дела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1741680" cy="280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1903320" cy="1903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2"/>
          <p:cNvSpPr/>
          <p:nvPr/>
        </p:nvSpPr>
        <p:spPr>
          <a:xfrm>
            <a:off x="5364000" y="4724280"/>
            <a:ext cx="251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осмонав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476360" y="242100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инол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1476360" y="537372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971640" y="2781360"/>
            <a:ext cx="40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оспитывает соба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684360" y="580536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аботает на компьюте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5076720" y="5157720"/>
            <a:ext cx="331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етает в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4284720" y="404640"/>
            <a:ext cx="41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Что делае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Будем отгадывать загад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476360" y="2997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трои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95280" y="3573360"/>
            <a:ext cx="6337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 огнем бороться мы должны —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смелые работни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 водою мы напарник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очень людям всем нужн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к кто же мы? - 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995640" y="57340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жар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10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397240" cy="2520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1987560" cy="1782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3"/>
          <p:cNvSpPr/>
          <p:nvPr/>
        </p:nvSpPr>
        <p:spPr>
          <a:xfrm>
            <a:off x="395280" y="1125360"/>
            <a:ext cx="61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редь облаков, на высоте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дружно строим новый дом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Чтобы в тепле и красоте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частливо жили люди в нем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4557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нас одев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расивые плат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шьёт нам наря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Чтоб было приятно?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492360" y="249228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ртн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39640" y="2997360"/>
            <a:ext cx="6264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меня есть карандаш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зноцветная гуаш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Акварель, палитра, ки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И бумаги плотный ли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А еще – мольберт-треножни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Потому что я 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924360" y="55897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Худож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8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1892520" cy="230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911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Будем игра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734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Где бывали, мы не скаже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а что делали – покажем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айди пар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2950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читель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инолог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троитель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Повар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аляр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рач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427640" y="1557360"/>
            <a:ext cx="4248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спитывает соб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арит обе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расит ст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лечит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чит дет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троит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3059280" y="1628640"/>
            <a:ext cx="158400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7"/>
          <p:cNvSpPr/>
          <p:nvPr/>
        </p:nvSpPr>
        <p:spPr>
          <a:xfrm flipV="1">
            <a:off x="2987640" y="1844280"/>
            <a:ext cx="1584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3348000" y="2637000"/>
            <a:ext cx="129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 flipV="1">
            <a:off x="2556000" y="2421000"/>
            <a:ext cx="2087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 flipV="1">
            <a:off x="2627280" y="2852280"/>
            <a:ext cx="201600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 flipV="1">
            <a:off x="2340000" y="3284280"/>
            <a:ext cx="23032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Кому это ну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Picture 12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1195560" cy="704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"/>
          <p:cNvPicPr/>
          <p:nvPr/>
        </p:nvPicPr>
        <p:blipFill>
          <a:blip r:embed="rId2"/>
          <a:stretch/>
        </p:blipFill>
        <p:spPr>
          <a:xfrm>
            <a:off x="7386480" y="1052640"/>
            <a:ext cx="1008360" cy="3816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1940040" cy="1450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1439640" cy="1406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"/>
          <p:cNvPicPr/>
          <p:nvPr/>
        </p:nvPicPr>
        <p:blipFill>
          <a:blip r:embed="rId5"/>
          <a:stretch/>
        </p:blipFill>
        <p:spPr>
          <a:xfrm>
            <a:off x="900000" y="3213000"/>
            <a:ext cx="1365480" cy="682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7" descr=""/>
          <p:cNvPicPr/>
          <p:nvPr/>
        </p:nvPicPr>
        <p:blipFill>
          <a:blip r:embed="rId6"/>
          <a:stretch/>
        </p:blipFill>
        <p:spPr>
          <a:xfrm>
            <a:off x="3276720" y="4941720"/>
            <a:ext cx="2084400" cy="986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" descr=""/>
          <p:cNvPicPr/>
          <p:nvPr/>
        </p:nvPicPr>
        <p:blipFill>
          <a:blip r:embed="rId7"/>
          <a:stretch/>
        </p:blipFill>
        <p:spPr>
          <a:xfrm>
            <a:off x="6156360" y="4076640"/>
            <a:ext cx="887400" cy="2087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9" descr=""/>
          <p:cNvPicPr/>
          <p:nvPr/>
        </p:nvPicPr>
        <p:blipFill>
          <a:blip r:embed="rId8"/>
          <a:stretch/>
        </p:blipFill>
        <p:spPr>
          <a:xfrm>
            <a:off x="971640" y="4724280"/>
            <a:ext cx="1501560" cy="1436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0" descr=""/>
          <p:cNvPicPr/>
          <p:nvPr/>
        </p:nvPicPr>
        <p:blipFill>
          <a:blip r:embed="rId9"/>
          <a:stretch/>
        </p:blipFill>
        <p:spPr>
          <a:xfrm>
            <a:off x="4643280" y="1484280"/>
            <a:ext cx="2124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7:06:46Z</dcterms:created>
  <dc:creator>FuckYouBill</dc:creator>
  <dc:description/>
  <dc:language>en-US</dc:language>
  <cp:lastModifiedBy>12</cp:lastModifiedBy>
  <dcterms:modified xsi:type="dcterms:W3CDTF">2015-04-09T07:40:22Z</dcterms:modified>
  <cp:revision>20</cp:revision>
  <dc:subject/>
  <dc:title>Все работы хороши –  выбирай на вкус.</dc:title>
</cp:coreProperties>
</file>