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E40-D7AB-4D0B-924F-353F561C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3DA-BF50-40D0-937D-E17C64B3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5BC-6119-4598-A402-A16D07B0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F8F-D3B2-4FAE-90DC-E91FFAEF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9A8-6B9B-4A49-A584-7B1ABF41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B87-7877-4D52-8D97-593EE294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110-3E07-4E8D-9486-952AEAE1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256-A23E-435D-BE47-9F82266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70D-771E-4D5E-9F7C-C31CC82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35C-E577-48B7-B893-6B3EB81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06F-58EA-45E1-860D-2EBC7A4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48D-B85A-4C90-8839-F4A51A1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4647-DF12-4974-A426-965AE3FEB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rewalls.com/pic/201111/1152x864/reWalls.com-54559.jpg"/>
          <p:cNvPicPr/>
          <p:nvPr/>
        </p:nvPicPr>
        <p:blipFill>
          <a:blip r:embed="rId1"/>
          <a:stretch/>
        </p:blipFill>
        <p:spPr>
          <a:xfrm>
            <a:off x="684360" y="260280"/>
            <a:ext cx="8105760" cy="608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имняя книга для малыш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Пашкова Юлия Валерьевна, воспитатель МКДОУ ЦРР – детский сад №18 г.Россош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36003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имой дети одеваются теп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deti06.net/wp-content/uploads/2012/11/520048_Parallel_510067_Arcade_521142_Threedee_521140B_Golygon.jpg"/>
          <p:cNvPicPr/>
          <p:nvPr/>
        </p:nvPicPr>
        <p:blipFill>
          <a:blip r:embed="rId1"/>
          <a:stretch/>
        </p:blipFill>
        <p:spPr>
          <a:xfrm>
            <a:off x="179280" y="1141560"/>
            <a:ext cx="856944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http://img-fotki.yandex.ru/get/3105/prostoekaterina.6/0_1f039_7828cd56_XL"/>
          <p:cNvPicPr/>
          <p:nvPr/>
        </p:nvPicPr>
        <p:blipFill>
          <a:blip r:embed="rId1"/>
          <a:stretch/>
        </p:blipFill>
        <p:spPr>
          <a:xfrm>
            <a:off x="6386400" y="4149720"/>
            <a:ext cx="2757600" cy="2066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льчик надел вареж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yk-news.kz/sites/default/files/photo_in_news/www.lifeisphoto.ru_.jpeg"/>
          <p:cNvPicPr/>
          <p:nvPr/>
        </p:nvPicPr>
        <p:blipFill>
          <a:blip r:embed="rId2"/>
          <a:stretch/>
        </p:blipFill>
        <p:spPr>
          <a:xfrm>
            <a:off x="58680" y="1484280"/>
            <a:ext cx="6529320" cy="474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ttp://blog.yarn.com/wp-content/uploads/2011/02/WS11INSTANTMITT.jpg"/>
          <p:cNvPicPr/>
          <p:nvPr/>
        </p:nvPicPr>
        <p:blipFill>
          <a:blip r:embed="rId3"/>
          <a:stretch/>
        </p:blipFill>
        <p:spPr>
          <a:xfrm>
            <a:off x="6516720" y="1413000"/>
            <a:ext cx="27874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вочка надела теплую шап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fc00.deviantart.net/fs41/f/2009/010/8/5/The_winter____by_mechtaniya.jpg"/>
          <p:cNvPicPr/>
          <p:nvPr/>
        </p:nvPicPr>
        <p:blipFill>
          <a:blip r:embed="rId1"/>
          <a:stretch/>
        </p:blipFill>
        <p:spPr>
          <a:xfrm>
            <a:off x="611280" y="765000"/>
            <a:ext cx="7983360" cy="58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ти улыбаются! Они веселы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lvivpost.net/images/stories/2012/1188/d4.jpg"/>
          <p:cNvPicPr/>
          <p:nvPr/>
        </p:nvPicPr>
        <p:blipFill>
          <a:blip r:embed="rId1"/>
          <a:stretch/>
        </p:blipFill>
        <p:spPr>
          <a:xfrm>
            <a:off x="611280" y="1413000"/>
            <a:ext cx="7705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ти лепят снегов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Samsung\Google Диск\добро\написать\два года\new\времена года Любовь Новооселова\67659174_robertduncanartworksnowman.jpg"/>
          <p:cNvPicPr/>
          <p:nvPr/>
        </p:nvPicPr>
        <p:blipFill>
          <a:blip r:embed="rId1"/>
          <a:stretch/>
        </p:blipFill>
        <p:spPr>
          <a:xfrm>
            <a:off x="1332000" y="1343160"/>
            <a:ext cx="65530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ти катаются на сан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http://vialyonka.wallst.ru/d13.jpg"/>
          <p:cNvPicPr/>
          <p:nvPr/>
        </p:nvPicPr>
        <p:blipFill>
          <a:blip r:embed="rId1"/>
          <a:stretch/>
        </p:blipFill>
        <p:spPr>
          <a:xfrm>
            <a:off x="1332000" y="1197000"/>
            <a:ext cx="6437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т зима, кругом бело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ного снега намело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tapetky.sk/images/wallpapers/Zima-353101.jpeg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тром Ваня в санки сел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Быстро с горки полетел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://vanishdeti.ru/system/articles/images/000/000/028/medium/Sport6.jpg?1346933241"/>
          <p:cNvPicPr/>
          <p:nvPr/>
        </p:nvPicPr>
        <p:blipFill>
          <a:blip r:embed="rId1"/>
          <a:stretch/>
        </p:blipFill>
        <p:spPr>
          <a:xfrm>
            <a:off x="430200" y="981000"/>
            <a:ext cx="824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ступила зим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allpaper.goodfon.ru/image/217521-1920x1200.jpg"/>
          <p:cNvPicPr/>
          <p:nvPr/>
        </p:nvPicPr>
        <p:blipFill>
          <a:blip r:embed="rId1"/>
          <a:stretch/>
        </p:blipFill>
        <p:spPr>
          <a:xfrm>
            <a:off x="324000" y="1268280"/>
            <a:ext cx="8366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е кругом бело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allpaper.goodfon.ru/image/96891-1280x960.jpg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 зайка одел белую шуб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kartinki24.ru/uploads/gallery/main/276/kartinki24_ru_animals_hares_0007.jpeg"/>
          <p:cNvPicPr/>
          <p:nvPr/>
        </p:nvPicPr>
        <p:blipFill>
          <a:blip r:embed="rId1"/>
          <a:stretch/>
        </p:blipFill>
        <p:spPr>
          <a:xfrm>
            <a:off x="69840" y="1379520"/>
            <a:ext cx="8962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дет сне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g.sunhome.ru/UsersGallery/112008/25141447.gif"/>
          <p:cNvPicPr/>
          <p:nvPr/>
        </p:nvPicPr>
        <p:blipFill>
          <a:blip r:embed="rId1"/>
          <a:stretch/>
        </p:blipFill>
        <p:spPr>
          <a:xfrm>
            <a:off x="826920" y="1092240"/>
            <a:ext cx="76327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й! Снег падает на котенк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1259767960_529747639_1040522.gif"/>
          <p:cNvPicPr/>
          <p:nvPr/>
        </p:nvPicPr>
        <p:blipFill>
          <a:blip r:embed="rId1"/>
          <a:stretch/>
        </p:blipFill>
        <p:spPr>
          <a:xfrm>
            <a:off x="2700360" y="1268280"/>
            <a:ext cx="3889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е деревья в сне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ttp://www.1280x800.net/large/201206/7301.jpg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ег на крышах до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allpaperscraft.ru/image/dom_elka_sneg_zima_novyy_god_most_rozhdestvo_otkrytka_1000_1280x1024.jpg"/>
          <p:cNvPicPr/>
          <p:nvPr/>
        </p:nvPicPr>
        <p:blipFill>
          <a:blip r:embed="rId1"/>
          <a:stretch/>
        </p:blipFill>
        <p:spPr>
          <a:xfrm>
            <a:off x="900000" y="866880"/>
            <a:ext cx="74883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у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img-fotki.yandex.ru/get/4813/62104631.d/0_58382_139edf98_XL"/>
          <p:cNvPicPr/>
          <p:nvPr/>
        </p:nvPicPr>
        <p:blipFill>
          <a:blip r:embed="rId1"/>
          <a:stretch/>
        </p:blipFill>
        <p:spPr>
          <a:xfrm>
            <a:off x="5014800" y="314172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forpost.tv/img/catalog/1826_2.jpg"/>
          <p:cNvPicPr/>
          <p:nvPr/>
        </p:nvPicPr>
        <p:blipFill>
          <a:blip r:embed="rId2"/>
          <a:stretch/>
        </p:blipFill>
        <p:spPr>
          <a:xfrm>
            <a:off x="5219640" y="836640"/>
            <a:ext cx="355284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suburbanferndaleark.files.wordpress.com/2011/02/2-5-bright-icicles.jpg"/>
          <p:cNvPicPr/>
          <p:nvPr/>
        </p:nvPicPr>
        <p:blipFill>
          <a:blip r:embed="rId3"/>
          <a:stretch/>
        </p:blipFill>
        <p:spPr>
          <a:xfrm>
            <a:off x="826920" y="1052640"/>
            <a:ext cx="3745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1:42:30Z</dcterms:created>
  <dc:creator>Samsung</dc:creator>
  <dc:description/>
  <dc:language>en-US</dc:language>
  <cp:lastModifiedBy>Пользователь</cp:lastModifiedBy>
  <dcterms:modified xsi:type="dcterms:W3CDTF">2017-06-13T18:36:23Z</dcterms:modified>
  <cp:revision>9</cp:revision>
  <dc:subject/>
  <dc:title>Зимняя книга для малышей</dc:title>
</cp:coreProperties>
</file>