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859640"/>
            <a:ext cx="86076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85964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85964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85964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1480" y="485964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1720" y="485964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F6C-87F3-4F37-84E6-E84FFADA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B2C-4F5C-464F-8E10-74D252E4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A39-4B1B-4C62-AB52-BEC397C3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098-3324-41E3-A803-2A972491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9CD-E9D5-4CD9-9145-C5BD774D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62712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DD9-F7AA-48F3-81BF-2731D7B7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1240" y="485964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CC9-63ED-46C1-9B04-CB92CAD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1960" y="485964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954-A99C-4A19-9876-7A638E5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1240" y="4859640"/>
            <a:ext cx="86076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50A-7311-45AF-B279-3B0DA655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1240" y="4859640"/>
            <a:ext cx="86076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FCC-8903-45C9-AD6C-A3E18CE7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1240" y="485964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1960" y="485964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1FE-4046-4AF5-A8C9-C33F43C4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1240" y="485964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1480" y="485964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1720" y="4859640"/>
            <a:ext cx="27712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C3C-2906-4C62-8FBD-71F79061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2712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85964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85964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859640"/>
            <a:ext cx="860760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341280">
              <a:spcAft>
                <a:spcPts val="1412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1280" indent="-341280">
              <a:spcAft>
                <a:spcPts val="1412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1280" indent="-341280">
              <a:spcAft>
                <a:spcPts val="1412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1280" indent="-341280">
              <a:spcAft>
                <a:spcPts val="1412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1280" indent="-341280">
              <a:spcAft>
                <a:spcPts val="1412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1280" indent="-341280">
              <a:spcAft>
                <a:spcPts val="1412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12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494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494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494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494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494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6D92-609C-48B4-9FF8-00898E65563C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12480"/>
            <a:ext cx="90727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Игра на социализацию для детей 5-7 л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-360" y="1665360"/>
            <a:ext cx="907092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Я и друг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Цель: Учить детей управлять собой в обществе других люд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D:\Documents\доки\Маме\Рисунок11.jpg"/>
          <p:cNvPicPr/>
          <p:nvPr/>
        </p:nvPicPr>
        <p:blipFill>
          <a:blip r:embed="rId1"/>
          <a:stretch/>
        </p:blipFill>
        <p:spPr>
          <a:xfrm>
            <a:off x="2587680" y="34920"/>
            <a:ext cx="5040360" cy="74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D:\Documents\доки\Маме\Рисунок12.jpg"/>
          <p:cNvPicPr/>
          <p:nvPr/>
        </p:nvPicPr>
        <p:blipFill>
          <a:blip r:embed="rId1"/>
          <a:stretch/>
        </p:blipFill>
        <p:spPr>
          <a:xfrm>
            <a:off x="2232000" y="0"/>
            <a:ext cx="5472000" cy="74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D:\Documents\доки\Маме\Рисунок13.jpg"/>
          <p:cNvPicPr/>
          <p:nvPr/>
        </p:nvPicPr>
        <p:blipFill>
          <a:blip r:embed="rId1"/>
          <a:stretch/>
        </p:blipFill>
        <p:spPr>
          <a:xfrm>
            <a:off x="0" y="6480"/>
            <a:ext cx="9972720" cy="744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Documents\доки\Маме\Рисунок3.jpg"/>
          <p:cNvPicPr/>
          <p:nvPr/>
        </p:nvPicPr>
        <p:blipFill>
          <a:blip r:embed="rId1"/>
          <a:stretch/>
        </p:blipFill>
        <p:spPr>
          <a:xfrm>
            <a:off x="0" y="34920"/>
            <a:ext cx="10009080" cy="74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:\Documents\доки\Маме\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936000" cy="74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D:\Documents\доки\Маме\Рисунок6.jpg"/>
          <p:cNvPicPr/>
          <p:nvPr/>
        </p:nvPicPr>
        <p:blipFill>
          <a:blip r:embed="rId1"/>
          <a:stretch/>
        </p:blipFill>
        <p:spPr>
          <a:xfrm>
            <a:off x="2160720" y="34920"/>
            <a:ext cx="5562360" cy="74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03640" y="52560"/>
            <a:ext cx="6097320" cy="74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:\Documents\доки\Маме\Рисунок7.jpg"/>
          <p:cNvPicPr/>
          <p:nvPr/>
        </p:nvPicPr>
        <p:blipFill>
          <a:blip r:embed="rId1"/>
          <a:stretch/>
        </p:blipFill>
        <p:spPr>
          <a:xfrm>
            <a:off x="0" y="0"/>
            <a:ext cx="9936000" cy="74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Documents\доки\Маме\Рисунок8.jpg"/>
          <p:cNvPicPr/>
          <p:nvPr/>
        </p:nvPicPr>
        <p:blipFill>
          <a:blip r:embed="rId1"/>
          <a:stretch/>
        </p:blipFill>
        <p:spPr>
          <a:xfrm>
            <a:off x="0" y="0"/>
            <a:ext cx="9936000" cy="74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:\Documents\доки\Маме\Рисунок9.jpg"/>
          <p:cNvPicPr/>
          <p:nvPr/>
        </p:nvPicPr>
        <p:blipFill>
          <a:blip r:embed="rId1"/>
          <a:stretch/>
        </p:blipFill>
        <p:spPr>
          <a:xfrm>
            <a:off x="0" y="0"/>
            <a:ext cx="9936000" cy="74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D:\Documents\доки\Маме\Рисунок10.jpg"/>
          <p:cNvPicPr/>
          <p:nvPr/>
        </p:nvPicPr>
        <p:blipFill>
          <a:blip r:embed="rId1"/>
          <a:stretch/>
        </p:blipFill>
        <p:spPr>
          <a:xfrm>
            <a:off x="0" y="9360"/>
            <a:ext cx="9936000" cy="744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Ринат</dc:creator>
  <dc:description/>
  <dc:language>en-US</dc:language>
  <cp:lastModifiedBy>ффф</cp:lastModifiedBy>
  <dcterms:modified xsi:type="dcterms:W3CDTF">2017-01-21T14:38:54Z</dcterms:modified>
  <cp:revision>14</cp:revision>
  <dc:subject/>
  <dc:title>Игра на социализацию для детей 5-7 лет</dc:title>
</cp:coreProperties>
</file>