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B51-B7B9-4133-80B4-7A05D7A4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215-EA6A-4CF4-82E5-2305939D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4FC-CAE7-40A4-913D-7AE9E20F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2A7-3BAD-4082-B6BC-97FCFE6B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280-5C1F-4CB6-A027-92BB09A7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3BF-C2E5-489A-9B94-9739864C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69D-98C6-4B96-81B5-992D4CFA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A71-13F8-4B12-88E4-0213403E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397-494F-402D-A3DC-F29495E9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D36-EB84-474C-8793-3B0C43FB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415-F83A-4E1D-B85D-007B5558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2B1-8CC6-42F1-8810-AFA907B0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0150-3F5B-4DDA-8599-437299E3D6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927000" y="1725480"/>
            <a:ext cx="7283520" cy="242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500040" y="1109520"/>
            <a:ext cx="8137440" cy="291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:\Мои рисунки000\ВО!\ученик с вопросом.gif"/>
          <p:cNvPicPr/>
          <p:nvPr/>
        </p:nvPicPr>
        <p:blipFill>
          <a:blip r:embed="rId2"/>
          <a:stretch/>
        </p:blipFill>
        <p:spPr>
          <a:xfrm>
            <a:off x="762120" y="53352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2819520" y="533520"/>
            <a:ext cx="48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рауларга җавап бир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www.politsovet.info/files.php?file=shkola_655752564.jpg"/>
          <p:cNvPicPr/>
          <p:nvPr/>
        </p:nvPicPr>
        <p:blipFill>
          <a:blip r:embed="rId3"/>
          <a:stretch/>
        </p:blipFill>
        <p:spPr>
          <a:xfrm>
            <a:off x="5943600" y="3809880"/>
            <a:ext cx="2209680" cy="23623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990720" y="2550960"/>
            <a:ext cx="43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ем нинди сүз төркем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мя существительное какое часть речи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инди сорауларга җавап бирә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какие вопросы отвечает?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әрсәләр белән төрлән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чем склоняются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:\Мои рисунки000\ВО!\ученик с вопросом.gif"/>
          <p:cNvPicPr/>
          <p:nvPr/>
        </p:nvPicPr>
        <p:blipFill>
          <a:blip r:embed="rId2"/>
          <a:stretch/>
        </p:blipFill>
        <p:spPr>
          <a:xfrm>
            <a:off x="762120" y="53352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2286000" y="5335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тар телендә нич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леш ба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politsovet.info/files.php?file=shkola_655752564.jpg"/>
          <p:cNvPicPr/>
          <p:nvPr/>
        </p:nvPicPr>
        <p:blipFill>
          <a:blip r:embed="rId3"/>
          <a:stretch/>
        </p:blipFill>
        <p:spPr>
          <a:xfrm>
            <a:off x="5943600" y="3809880"/>
            <a:ext cx="2209680" cy="23623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6"/>
          <p:cNvSpPr/>
          <p:nvPr/>
        </p:nvSpPr>
        <p:spPr>
          <a:xfrm>
            <a:off x="990720" y="255096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знең                  Б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рек                     Илд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Юрганга              Юкты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өренеп              Тиңс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анага                 Чырш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тырды               Урм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H:\Мои рисунки000\ВО!\ученик с вопросом.gif"/>
          <p:cNvPicPr/>
          <p:nvPr/>
        </p:nvPicPr>
        <p:blipFill>
          <a:blip r:embed="rId2"/>
          <a:stretch/>
        </p:blipFill>
        <p:spPr>
          <a:xfrm>
            <a:off x="304920" y="22860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www.politsovet.info/files.php?file=shkola_655752564.jpg"/>
          <p:cNvPicPr/>
          <p:nvPr/>
        </p:nvPicPr>
        <p:blipFill>
          <a:blip r:embed="rId3"/>
          <a:stretch/>
        </p:blipFill>
        <p:spPr>
          <a:xfrm>
            <a:off x="6019920" y="3962520"/>
            <a:ext cx="2209680" cy="23619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6"/>
          <p:cNvSpPr/>
          <p:nvPr/>
        </p:nvSpPr>
        <p:spPr>
          <a:xfrm>
            <a:off x="1752480" y="457200"/>
            <a:ext cx="6096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йсы килеш исемнәре сузык авазга башл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йсы килешләрнең исемнәрендә “Ш” тартыгы ба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йсы килешнең исеме яңгырау тартыктан башл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йсы килешләрнең исеме саңгырау тартыктан башл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H:\Мои рисунки000\ВО!\ученик с вопросом.gif"/>
          <p:cNvPicPr/>
          <p:nvPr/>
        </p:nvPicPr>
        <p:blipFill>
          <a:blip r:embed="rId2"/>
          <a:stretch/>
        </p:blipFill>
        <p:spPr>
          <a:xfrm>
            <a:off x="457200" y="5335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politsovet.info/files.php?file=shkola_655752564.jpg"/>
          <p:cNvPicPr/>
          <p:nvPr/>
        </p:nvPicPr>
        <p:blipFill>
          <a:blip r:embed="rId3"/>
          <a:stretch/>
        </p:blipFill>
        <p:spPr>
          <a:xfrm>
            <a:off x="6019920" y="3962520"/>
            <a:ext cx="2209680" cy="23619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"/>
          <p:cNvSpPr/>
          <p:nvPr/>
        </p:nvSpPr>
        <p:spPr>
          <a:xfrm>
            <a:off x="2209680" y="838080"/>
            <a:ext cx="5639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йсы килешнең исеме ике аваз кушылмасын белдергән хәрефтән башл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йсы килешнең исеме яңгырау тартыкка тәмамл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ң озын исемле килешне әйтеге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www.politsovet.info/files.php?file=shkola_655752564.jpg"/>
          <p:cNvPicPr/>
          <p:nvPr/>
        </p:nvPicPr>
        <p:blipFill>
          <a:blip r:embed="rId2"/>
          <a:stretch/>
        </p:blipFill>
        <p:spPr>
          <a:xfrm>
            <a:off x="6019920" y="3962520"/>
            <a:ext cx="2209680" cy="23619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6"/>
          <p:cNvSpPr/>
          <p:nvPr/>
        </p:nvSpPr>
        <p:spPr>
          <a:xfrm>
            <a:off x="2209680" y="83808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3450960" y="357120"/>
            <a:ext cx="200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л ми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600200" y="1523880"/>
            <a:ext cx="509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әзер бераз ял ит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әнебезгә көч керт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р урында таптаный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кергәләп тә алый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р чүгәлик, бер басый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ул тегермәне ясый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из армаска тырышый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рганнарга булышый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://gimg.dt00.net/goods/4600/460016/9055253big.jpg"/>
          <p:cNvPicPr/>
          <p:nvPr/>
        </p:nvPicPr>
        <p:blipFill>
          <a:blip r:embed="rId3"/>
          <a:stretch/>
        </p:blipFill>
        <p:spPr>
          <a:xfrm>
            <a:off x="5786280" y="2000160"/>
            <a:ext cx="2899080" cy="398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6" descr=""/>
          <p:cNvPicPr/>
          <p:nvPr/>
        </p:nvPicPr>
        <p:blipFill>
          <a:blip r:embed="rId2"/>
          <a:stretch/>
        </p:blipFill>
        <p:spPr>
          <a:xfrm>
            <a:off x="2103480" y="285840"/>
            <a:ext cx="5595840" cy="688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politsovet.info/files.php?file=shkola_655752564.jpg"/>
          <p:cNvPicPr/>
          <p:nvPr/>
        </p:nvPicPr>
        <p:blipFill>
          <a:blip r:embed="rId3"/>
          <a:stretch/>
        </p:blipFill>
        <p:spPr>
          <a:xfrm>
            <a:off x="5867280" y="457200"/>
            <a:ext cx="2210040" cy="27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H:\DISTRIBUTIV\АЛСУ.1\Мои рисунки\7.gif"/>
          <p:cNvPicPr/>
          <p:nvPr/>
        </p:nvPicPr>
        <p:blipFill>
          <a:blip r:embed="rId2"/>
          <a:stretch/>
        </p:blipFill>
        <p:spPr>
          <a:xfrm>
            <a:off x="1523880" y="3962520"/>
            <a:ext cx="1533600" cy="1409760"/>
          </a:xfrm>
          <a:prstGeom prst="rect">
            <a:avLst/>
          </a:prstGeom>
          <a:ln w="0">
            <a:noFill/>
          </a:ln>
        </p:spPr>
      </p:pic>
      <p:sp>
        <p:nvSpPr>
          <p:cNvPr id="74" name="TextBox 28"/>
          <p:cNvSpPr/>
          <p:nvPr/>
        </p:nvSpPr>
        <p:spPr>
          <a:xfrm>
            <a:off x="3276720" y="4714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Georgia"/>
              </a:rPr>
              <a:t>-   белем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6" descr="http://www.svyato.info/uploads/posts/2009-04/1239883658_istochnik-beloe-ozero31.jpg"/>
          <p:cNvPicPr/>
          <p:nvPr/>
        </p:nvPicPr>
        <p:blipFill>
          <a:blip r:embed="rId3"/>
          <a:stretch/>
        </p:blipFill>
        <p:spPr>
          <a:xfrm>
            <a:off x="4572000" y="4038480"/>
            <a:ext cx="1905120" cy="16844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2"/>
          <p:cNvSpPr/>
          <p:nvPr/>
        </p:nvSpPr>
        <p:spPr>
          <a:xfrm>
            <a:off x="1523880" y="1447920"/>
            <a:ext cx="6096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әрестә нәрсәләр турында сөйләшт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емнәрнең килеш белән төрләнеш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бус чиш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143000" y="476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Йомгаклау –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әтиҗә яса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5:35:46Z</dcterms:created>
  <dc:creator>Admin</dc:creator>
  <dc:description/>
  <dc:language>en-US</dc:language>
  <cp:lastModifiedBy>Саида</cp:lastModifiedBy>
  <dcterms:modified xsi:type="dcterms:W3CDTF">2016-11-17T16:20:42Z</dcterms:modified>
  <cp:revision>10</cp:revision>
  <dc:subject/>
  <dc:title>Слайд 1</dc:title>
</cp:coreProperties>
</file>