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0A2-2706-459A-B1C2-B66828C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86D-A73B-4DC7-9D67-E3FA661E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81E-D67A-4200-AA7C-CCAE88F3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58D-1018-4099-BCE9-93F511DE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3CC98-C503-46DD-8DDE-E52C1FF3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6E9A3-0EB0-4604-A1B1-8254E72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760FF-3DA4-4AC1-9FDA-4828111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DC10-B259-42D7-9F4A-B1CEB281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B49A8-62B0-4BE3-BEC9-11E8F4A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93DCF-46E9-4FBE-A852-AF4FBE5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C0909-3BCA-4D70-9E8B-5D9156E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B83-B4E3-4D18-809B-4169D2E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07AD9-EBF5-4922-AAE6-DCC29D4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F2A9-A21D-428A-83B4-EB2B5D2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B1862-F0E0-4CD4-AF22-3DFA09BA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A38C-6AEC-4E51-8C13-7E983776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B50B1-9B16-48D2-9BA7-0A109CE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9E2-B0C8-4D50-A7D3-4A9F637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61C-4328-4D6A-A97D-85AFBCB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D14-68B7-4736-9DFA-EA36D98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4EB-9555-4266-8DB6-5B4AEBB6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A02-765C-4EF7-83B7-BD5E751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DF9-1BBA-45BA-9DEC-16AD2FB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CDA-6B12-4D65-AAD4-59BB7D87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A433-400F-4C95-8832-70B5CEDED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5F2E-34D0-45EE-BE84-C1E476DE7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Красная книг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128520"/>
            <a:ext cx="830556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2400" y="291960"/>
            <a:ext cx="8086680" cy="606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71280"/>
            <a:ext cx="830592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85760"/>
            <a:ext cx="8305920" cy="62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28520"/>
            <a:ext cx="830556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534520" cy="639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0960" y="291960"/>
            <a:ext cx="8088120" cy="606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Правила поведения на природе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266760"/>
            <a:ext cx="7925040" cy="613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9280"/>
            <a:ext cx="8229600" cy="618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414360"/>
            <a:ext cx="8229600" cy="591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511200"/>
            <a:ext cx="8077320" cy="539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74840"/>
            <a:ext cx="8686800" cy="566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184320"/>
            <a:ext cx="8458200" cy="634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68400"/>
            <a:ext cx="8534520" cy="640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185760"/>
            <a:ext cx="8153640" cy="611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28520"/>
            <a:ext cx="830556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185760"/>
            <a:ext cx="8229600" cy="6170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28520"/>
            <a:ext cx="830556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71280"/>
            <a:ext cx="8458200" cy="634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128520"/>
            <a:ext cx="8305560" cy="622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1T20:04:32Z</dcterms:created>
  <dc:creator>ЭЛЕЧКА</dc:creator>
  <dc:description/>
  <dc:language>en-US</dc:language>
  <cp:lastModifiedBy>ЭЛЕЧКА</cp:lastModifiedBy>
  <dcterms:modified xsi:type="dcterms:W3CDTF">2017-05-21T20:26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