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D459-B5E5-4EEF-AB40-79806A14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D4E9-E9E3-4279-8DA0-135AE2D5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3EAC-3947-4D80-B772-4D4A12B97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3B70-6EC2-489D-B543-964F5632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8036-77E3-470C-ADD4-D58F8347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92D0-4205-4C51-86C2-AA2C5F22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4EE4-4014-4D18-B3F3-7665066D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7952-8A56-4D20-AAFE-8082456B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CD7F-E04B-4F1C-98C3-0033AA27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6AFD-FCDA-47E6-9D28-739045E3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0564-F893-42EA-97E0-345B6CD3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BC03-9D5B-44E1-BD0A-1EDF5FE8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BA9D-D6D2-4A7B-A448-0B6CF30B0A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00000" y="1484280"/>
            <a:ext cx="763272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история искусств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24000" y="51436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16. Творчество И.Крамского, Н.Ге (19 ве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инова Валентина Ю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работы: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Мухтоловская основ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img282"/>
          <p:cNvPicPr/>
          <p:nvPr/>
        </p:nvPicPr>
        <p:blipFill>
          <a:blip r:embed="rId1"/>
          <a:stretch/>
        </p:blipFill>
        <p:spPr>
          <a:xfrm>
            <a:off x="2124000" y="765000"/>
            <a:ext cx="4753080" cy="5832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395280" y="189000"/>
            <a:ext cx="8353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амской Иван Николаевич (1837-188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img257"/>
          <p:cNvPicPr/>
          <p:nvPr/>
        </p:nvPicPr>
        <p:blipFill>
          <a:blip r:embed="rId1"/>
          <a:stretch/>
        </p:blipFill>
        <p:spPr>
          <a:xfrm>
            <a:off x="1908000" y="333360"/>
            <a:ext cx="5257800" cy="5759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2268360" y="6237360"/>
            <a:ext cx="4680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ристос в пустыне. 187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img257"/>
          <p:cNvPicPr/>
          <p:nvPr/>
        </p:nvPicPr>
        <p:blipFill>
          <a:blip r:embed="rId1"/>
          <a:stretch/>
        </p:blipFill>
        <p:spPr>
          <a:xfrm>
            <a:off x="2268360" y="189000"/>
            <a:ext cx="4608720" cy="58323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2050920" y="6165720"/>
            <a:ext cx="5113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тре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.Н.Толстого. 187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img258"/>
          <p:cNvPicPr/>
          <p:nvPr/>
        </p:nvPicPr>
        <p:blipFill>
          <a:blip r:embed="rId1"/>
          <a:stretch/>
        </p:blipFill>
        <p:spPr>
          <a:xfrm>
            <a:off x="755640" y="333360"/>
            <a:ext cx="7561440" cy="5759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2268360" y="6165720"/>
            <a:ext cx="4680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известная. 188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img259"/>
          <p:cNvPicPr/>
          <p:nvPr/>
        </p:nvPicPr>
        <p:blipFill>
          <a:blip r:embed="rId1"/>
          <a:stretch/>
        </p:blipFill>
        <p:spPr>
          <a:xfrm>
            <a:off x="1116000" y="765000"/>
            <a:ext cx="6912000" cy="54007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324000" y="189000"/>
            <a:ext cx="8424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е Николай Николаевич (1831-18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195640" y="6165720"/>
            <a:ext cx="4680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йная вечеря. 186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img279"/>
          <p:cNvPicPr/>
          <p:nvPr/>
        </p:nvPicPr>
        <p:blipFill>
          <a:blip r:embed="rId1"/>
          <a:stretch/>
        </p:blipFill>
        <p:spPr>
          <a:xfrm>
            <a:off x="1187280" y="260280"/>
            <a:ext cx="6840720" cy="56898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971640" y="5877000"/>
            <a:ext cx="7272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ётр допрашивает царевича Алексея Петровича в Петергофе. 187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img278"/>
          <p:cNvPicPr/>
          <p:nvPr/>
        </p:nvPicPr>
        <p:blipFill>
          <a:blip r:embed="rId1"/>
          <a:stretch/>
        </p:blipFill>
        <p:spPr>
          <a:xfrm>
            <a:off x="1403280" y="260280"/>
            <a:ext cx="6337440" cy="57610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1187280" y="6165720"/>
            <a:ext cx="684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С.Пушкин в селе Михайловском. 187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06:00:50Z</dcterms:created>
  <dc:creator>Customer</dc:creator>
  <dc:description/>
  <dc:language>en-US</dc:language>
  <cp:lastModifiedBy>Alex</cp:lastModifiedBy>
  <dcterms:modified xsi:type="dcterms:W3CDTF">2017-06-17T08:19:55Z</dcterms:modified>
  <cp:revision>184</cp:revision>
  <dc:subject/>
  <dc:title>Слайд 1</dc:title>
</cp:coreProperties>
</file>