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414C-B5D5-492D-8ADC-FC51AECA5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46C40-0E61-4D1E-B49A-0CEDA5418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47B6-C1FA-4D43-BF07-FAE7815F3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53F38-7A1C-4A16-8063-4A8F61FE88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AFB9C-B7D6-4F3A-BF81-453CC2DE08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B18F-D7FD-40E5-A5F8-8472B2193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6E06-3E70-41F9-85BA-E363294E3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1C39-E8ED-48A4-81A5-53AC103AB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BE49-D32C-4ABC-A422-5006A3BDE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7FF4E-1417-4DF7-AD1A-AF9C048D6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BC7A-AE2C-42B6-9983-DD990DD3E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1497-5012-4172-BF54-006ED009F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3C4E4-B64E-409E-8F16-B59139F2AA3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1547640" y="1079640"/>
            <a:ext cx="6336000" cy="53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spcAft>
                <a:spcPts val="72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ccccff"/>
                </a:solidFill>
                <a:latin typeface="Arial"/>
              </a:rPr>
              <a:t>Teil 1</a:t>
            </a:r>
            <a:br>
              <a:rPr sz="3600"/>
            </a:br>
            <a:r>
              <a:rPr b="1" i="1" lang="en-US" sz="3600" spc="-1" strike="noStrike">
                <a:solidFill>
                  <a:srgbClr val="ccccff"/>
                </a:solidFill>
                <a:latin typeface="Arial"/>
              </a:rPr>
              <a:t>Teil 2</a:t>
            </a:r>
            <a:r>
              <a:rPr b="1" i="1" lang="ru-RU" sz="3600" spc="-1" strike="noStrike">
                <a:solidFill>
                  <a:srgbClr val="99cc00"/>
                </a:solidFill>
                <a:latin typeface="Arial"/>
              </a:rPr>
              <a:t>                                   </a:t>
            </a:r>
            <a:r>
              <a:rPr b="1" i="1" lang="en-US" sz="3600" spc="-1" strike="noStrike">
                <a:solidFill>
                  <a:srgbClr val="ccccff"/>
                </a:solidFill>
                <a:latin typeface="Arial"/>
              </a:rPr>
              <a:t>Teil 3                     </a:t>
            </a:r>
            <a:r>
              <a:rPr b="1" i="1" lang="ru-RU" sz="3600" spc="-1" strike="noStrike">
                <a:solidFill>
                  <a:srgbClr val="ccccff"/>
                </a:solidFill>
                <a:latin typeface="Arial"/>
              </a:rPr>
              <a:t>              </a:t>
            </a:r>
            <a:r>
              <a:rPr b="1" i="1" lang="en-US" sz="3600" spc="-1" strike="noStrike">
                <a:solidFill>
                  <a:srgbClr val="ccccff"/>
                </a:solidFill>
                <a:latin typeface="Arial"/>
              </a:rPr>
              <a:t>Teil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77840" y="360360"/>
            <a:ext cx="8715240" cy="539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Einheitliche Staatliche Prüfung Deuts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2879640" y="1079640"/>
            <a:ext cx="3780000" cy="404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SPREC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77840" y="5580000"/>
            <a:ext cx="9001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Hadishat Kamalowa, Gymnasium № 1, Kislj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619280" y="0"/>
            <a:ext cx="540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Task 4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Study the two photograph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8459640" y="0"/>
            <a:ext cx="684360" cy="260280"/>
          </a:xfrm>
          <a:custGeom>
            <a:avLst/>
            <a:gdLst>
              <a:gd name="textAreaLeft" fmla="*/ 16560 w 684360"/>
              <a:gd name="textAreaRight" fmla="*/ 667800 w 684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6745" h="21600">
                <a:moveTo>
                  <a:pt x="0" y="0"/>
                </a:moveTo>
                <a:lnTo>
                  <a:pt x="56745" y="0"/>
                </a:lnTo>
                <a:lnTo>
                  <a:pt x="56745" y="21600"/>
                </a:lnTo>
                <a:lnTo>
                  <a:pt x="0" y="21600"/>
                </a:lnTo>
                <a:close/>
              </a:path>
              <a:path fill="lightenLess" w="56745" h="21600">
                <a:moveTo>
                  <a:pt x="0" y="0"/>
                </a:moveTo>
                <a:lnTo>
                  <a:pt x="56745" y="0"/>
                </a:lnTo>
                <a:lnTo>
                  <a:pt x="55345" y="1400"/>
                </a:lnTo>
                <a:lnTo>
                  <a:pt x="1400" y="1400"/>
                </a:lnTo>
                <a:close/>
              </a:path>
              <a:path fill="darken" w="56745" h="21600">
                <a:moveTo>
                  <a:pt x="56745" y="0"/>
                </a:moveTo>
                <a:lnTo>
                  <a:pt x="56745" y="21600"/>
                </a:lnTo>
                <a:lnTo>
                  <a:pt x="55345" y="20200"/>
                </a:lnTo>
                <a:lnTo>
                  <a:pt x="55345" y="1400"/>
                </a:lnTo>
                <a:close/>
              </a:path>
              <a:path fill="darkenLess" w="56745" h="21600">
                <a:moveTo>
                  <a:pt x="56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45" y="20200"/>
                </a:lnTo>
                <a:close/>
              </a:path>
              <a:path fill="lighten" w="56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4149720"/>
            <a:ext cx="878544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In 1.5 minutes be ready to compare and contrast the photograph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363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give a brief description of the photos (action, location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363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say what the pictures have in comm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363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say in what way the pictures are differ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363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say what these people are doing togeth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363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explain why it is important to do these things toget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You will speak for not more than 2 minutes. You have to talk continuous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7667640" y="0"/>
            <a:ext cx="684360" cy="260280"/>
          </a:xfrm>
          <a:custGeom>
            <a:avLst/>
            <a:gdLst>
              <a:gd name="textAreaLeft" fmla="*/ 16560 w 684360"/>
              <a:gd name="textAreaRight" fmla="*/ 667800 w 684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6745" h="21600">
                <a:moveTo>
                  <a:pt x="0" y="0"/>
                </a:moveTo>
                <a:lnTo>
                  <a:pt x="56745" y="0"/>
                </a:lnTo>
                <a:lnTo>
                  <a:pt x="56745" y="21600"/>
                </a:lnTo>
                <a:lnTo>
                  <a:pt x="0" y="21600"/>
                </a:lnTo>
                <a:close/>
              </a:path>
              <a:path fill="lightenLess" w="56745" h="21600">
                <a:moveTo>
                  <a:pt x="0" y="0"/>
                </a:moveTo>
                <a:lnTo>
                  <a:pt x="56745" y="0"/>
                </a:lnTo>
                <a:lnTo>
                  <a:pt x="55345" y="1400"/>
                </a:lnTo>
                <a:lnTo>
                  <a:pt x="1400" y="1400"/>
                </a:lnTo>
                <a:close/>
              </a:path>
              <a:path fill="darken" w="56745" h="21600">
                <a:moveTo>
                  <a:pt x="56745" y="0"/>
                </a:moveTo>
                <a:lnTo>
                  <a:pt x="56745" y="21600"/>
                </a:lnTo>
                <a:lnTo>
                  <a:pt x="55345" y="20200"/>
                </a:lnTo>
                <a:lnTo>
                  <a:pt x="55345" y="1400"/>
                </a:lnTo>
                <a:close/>
              </a:path>
              <a:path fill="darkenLess" w="56745" h="21600">
                <a:moveTo>
                  <a:pt x="56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45" y="20200"/>
                </a:lnTo>
                <a:close/>
              </a:path>
              <a:path fill="lighten" w="56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d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4643280" y="390600"/>
            <a:ext cx="3445200" cy="3741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826920" y="314280"/>
            <a:ext cx="3421080" cy="38480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7"/>
          <p:cNvSpPr/>
          <p:nvPr/>
        </p:nvSpPr>
        <p:spPr>
          <a:xfrm>
            <a:off x="395280" y="6381720"/>
            <a:ext cx="3168720" cy="287280"/>
          </a:xfrm>
          <a:custGeom>
            <a:avLst/>
            <a:gdLst>
              <a:gd name="textAreaLeft" fmla="*/ 18360 w 3168720"/>
              <a:gd name="textAreaRight" fmla="*/ 3150360 w 316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37978" h="21600">
                <a:moveTo>
                  <a:pt x="0" y="0"/>
                </a:moveTo>
                <a:lnTo>
                  <a:pt x="237978" y="0"/>
                </a:lnTo>
                <a:lnTo>
                  <a:pt x="237978" y="21600"/>
                </a:lnTo>
                <a:lnTo>
                  <a:pt x="0" y="21600"/>
                </a:lnTo>
                <a:close/>
              </a:path>
              <a:path fill="lightenLess" w="237978" h="21600">
                <a:moveTo>
                  <a:pt x="0" y="0"/>
                </a:moveTo>
                <a:lnTo>
                  <a:pt x="237978" y="0"/>
                </a:lnTo>
                <a:lnTo>
                  <a:pt x="236579" y="1400"/>
                </a:lnTo>
                <a:lnTo>
                  <a:pt x="1400" y="1400"/>
                </a:lnTo>
                <a:close/>
              </a:path>
              <a:path fill="darken" w="237978" h="21600">
                <a:moveTo>
                  <a:pt x="237978" y="0"/>
                </a:moveTo>
                <a:lnTo>
                  <a:pt x="237978" y="21600"/>
                </a:lnTo>
                <a:lnTo>
                  <a:pt x="236579" y="20200"/>
                </a:lnTo>
                <a:lnTo>
                  <a:pt x="236579" y="1400"/>
                </a:lnTo>
                <a:close/>
              </a:path>
              <a:path fill="darkenLess" w="237978" h="21600">
                <a:moveTo>
                  <a:pt x="237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79" y="20200"/>
                </a:lnTo>
                <a:close/>
              </a:path>
              <a:path fill="lighten" w="237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5 minute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prep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250920" y="6742080"/>
            <a:ext cx="3457440" cy="1800"/>
          </a:xfrm>
          <a:prstGeom prst="line">
            <a:avLst/>
          </a:prstGeom>
          <a:ln w="28440">
            <a:solidFill>
              <a:srgbClr val="a4706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924360" y="6383160"/>
            <a:ext cx="696960" cy="368280"/>
          </a:xfrm>
          <a:prstGeom prst="rect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5076720" y="6381720"/>
            <a:ext cx="3167280" cy="287280"/>
          </a:xfrm>
          <a:custGeom>
            <a:avLst/>
            <a:gdLst>
              <a:gd name="textAreaLeft" fmla="*/ 18360 w 3167280"/>
              <a:gd name="textAreaRight" fmla="*/ 3148920 w 316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37870" h="21600">
                <a:moveTo>
                  <a:pt x="0" y="0"/>
                </a:moveTo>
                <a:lnTo>
                  <a:pt x="237870" y="0"/>
                </a:lnTo>
                <a:lnTo>
                  <a:pt x="237870" y="21600"/>
                </a:lnTo>
                <a:lnTo>
                  <a:pt x="0" y="21600"/>
                </a:lnTo>
                <a:close/>
              </a:path>
              <a:path fill="lightenLess" w="237870" h="21600">
                <a:moveTo>
                  <a:pt x="0" y="0"/>
                </a:moveTo>
                <a:lnTo>
                  <a:pt x="237870" y="0"/>
                </a:lnTo>
                <a:lnTo>
                  <a:pt x="236470" y="1400"/>
                </a:lnTo>
                <a:lnTo>
                  <a:pt x="1400" y="1400"/>
                </a:lnTo>
                <a:close/>
              </a:path>
              <a:path fill="darken" w="237870" h="21600">
                <a:moveTo>
                  <a:pt x="237870" y="0"/>
                </a:moveTo>
                <a:lnTo>
                  <a:pt x="237870" y="21600"/>
                </a:lnTo>
                <a:lnTo>
                  <a:pt x="236470" y="20200"/>
                </a:lnTo>
                <a:lnTo>
                  <a:pt x="236470" y="1400"/>
                </a:lnTo>
                <a:close/>
              </a:path>
              <a:path fill="darkenLess" w="237870" h="21600">
                <a:moveTo>
                  <a:pt x="237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470" y="20200"/>
                </a:lnTo>
                <a:close/>
              </a:path>
              <a:path fill="lighten" w="237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minute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spe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4932360" y="6742080"/>
            <a:ext cx="3456000" cy="1800"/>
          </a:xfrm>
          <a:prstGeom prst="line">
            <a:avLst/>
          </a:prstGeom>
          <a:ln w="28440">
            <a:solidFill>
              <a:srgbClr val="a4706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par>
              <p:cTn id="159" nodeType="interactiveSeq" fill="hold">
                <p:childTnLst>
                  <p:par>
                    <p:cTn id="160" fill="hold"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3" dur="90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65" nodeType="interactiveSeq" fill="hold">
                <p:childTnLst>
                  <p:par>
                    <p:cTn id="166" fill="hold"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4" dur="120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20000"/>
                            </p:stCondLst>
                            <p:childTnLst>
                              <p:par>
                                <p:cTn id="177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371484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2">
            <a:hlinkClick r:id="" action="ppaction://hlinkshowjump?jump=previous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ck to the slid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>
            <a:hlinkClick r:id="" action="ppaction://hlinkshowjump?jump=previous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ck to the slid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7100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>
            <a:hlinkClick r:id="" action="ppaction://hlinkshowjump?jump=previous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ck to the slid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2190600" y="0"/>
            <a:ext cx="3938760" cy="1844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2195640" y="1844640"/>
            <a:ext cx="3921120" cy="5013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>
            <a:hlinkClick r:id="" action="ppaction://hlinkshowjump?jump=nextslide"/>
          </p:cNvPr>
          <p:cNvSpPr/>
          <p:nvPr/>
        </p:nvSpPr>
        <p:spPr>
          <a:xfrm>
            <a:off x="8388360" y="6597720"/>
            <a:ext cx="755640" cy="260280"/>
          </a:xfrm>
          <a:custGeom>
            <a:avLst/>
            <a:gdLst>
              <a:gd name="textAreaLeft" fmla="*/ 16560 w 755640"/>
              <a:gd name="textAreaRight" fmla="*/ 739080 w 755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62652" h="21600">
                <a:moveTo>
                  <a:pt x="0" y="0"/>
                </a:moveTo>
                <a:lnTo>
                  <a:pt x="62652" y="0"/>
                </a:lnTo>
                <a:lnTo>
                  <a:pt x="62652" y="21600"/>
                </a:lnTo>
                <a:lnTo>
                  <a:pt x="0" y="21600"/>
                </a:lnTo>
                <a:close/>
              </a:path>
              <a:path fill="lightenLess" w="62652" h="21600">
                <a:moveTo>
                  <a:pt x="0" y="0"/>
                </a:moveTo>
                <a:lnTo>
                  <a:pt x="62652" y="0"/>
                </a:lnTo>
                <a:lnTo>
                  <a:pt x="61252" y="1400"/>
                </a:lnTo>
                <a:lnTo>
                  <a:pt x="1400" y="1400"/>
                </a:lnTo>
                <a:close/>
              </a:path>
              <a:path fill="darken" w="62652" h="21600">
                <a:moveTo>
                  <a:pt x="62652" y="0"/>
                </a:moveTo>
                <a:lnTo>
                  <a:pt x="62652" y="21600"/>
                </a:lnTo>
                <a:lnTo>
                  <a:pt x="61252" y="20200"/>
                </a:lnTo>
                <a:lnTo>
                  <a:pt x="61252" y="1400"/>
                </a:lnTo>
                <a:close/>
              </a:path>
              <a:path fill="darkenLess" w="62652" h="21600">
                <a:moveTo>
                  <a:pt x="626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52" y="20200"/>
                </a:lnTo>
                <a:close/>
              </a:path>
              <a:path fill="lighten" w="626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>
            <a:hlinkClick r:id="rId1" action="ppaction://hlinksldjump"/>
          </p:cNvPr>
          <p:cNvSpPr/>
          <p:nvPr/>
        </p:nvSpPr>
        <p:spPr>
          <a:xfrm>
            <a:off x="8101080" y="0"/>
            <a:ext cx="1042920" cy="260280"/>
          </a:xfrm>
          <a:custGeom>
            <a:avLst/>
            <a:gdLst>
              <a:gd name="textAreaLeft" fmla="*/ 16560 w 1042920"/>
              <a:gd name="textAreaRight" fmla="*/ 1026360 w 10429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86460" h="21600">
                <a:moveTo>
                  <a:pt x="0" y="0"/>
                </a:moveTo>
                <a:lnTo>
                  <a:pt x="86460" y="0"/>
                </a:lnTo>
                <a:lnTo>
                  <a:pt x="86460" y="21600"/>
                </a:lnTo>
                <a:lnTo>
                  <a:pt x="0" y="21600"/>
                </a:lnTo>
                <a:close/>
              </a:path>
              <a:path fill="lightenLess" w="86460" h="21600">
                <a:moveTo>
                  <a:pt x="0" y="0"/>
                </a:moveTo>
                <a:lnTo>
                  <a:pt x="86460" y="0"/>
                </a:lnTo>
                <a:lnTo>
                  <a:pt x="85060" y="1400"/>
                </a:lnTo>
                <a:lnTo>
                  <a:pt x="1400" y="1400"/>
                </a:lnTo>
                <a:close/>
              </a:path>
              <a:path fill="darken" w="86460" h="21600">
                <a:moveTo>
                  <a:pt x="86460" y="0"/>
                </a:moveTo>
                <a:lnTo>
                  <a:pt x="86460" y="21600"/>
                </a:lnTo>
                <a:lnTo>
                  <a:pt x="85060" y="20200"/>
                </a:lnTo>
                <a:lnTo>
                  <a:pt x="85060" y="1400"/>
                </a:lnTo>
                <a:close/>
              </a:path>
              <a:path fill="darkenLess" w="86460" h="21600">
                <a:moveTo>
                  <a:pt x="864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60" y="20200"/>
                </a:lnTo>
                <a:close/>
              </a:path>
              <a:path fill="lighten" w="864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0"/>
            <a:ext cx="8209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ufgabe 1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die dkononkln,n,jljljllj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79280" y="1052640"/>
            <a:ext cx="878544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539640" y="6372360"/>
            <a:ext cx="3168720" cy="287280"/>
          </a:xfrm>
          <a:custGeom>
            <a:avLst/>
            <a:gdLst>
              <a:gd name="textAreaLeft" fmla="*/ 18360 w 3168720"/>
              <a:gd name="textAreaRight" fmla="*/ 3150360 w 316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37978" h="21600">
                <a:moveTo>
                  <a:pt x="0" y="0"/>
                </a:moveTo>
                <a:lnTo>
                  <a:pt x="237978" y="0"/>
                </a:lnTo>
                <a:lnTo>
                  <a:pt x="237978" y="21600"/>
                </a:lnTo>
                <a:lnTo>
                  <a:pt x="0" y="21600"/>
                </a:lnTo>
                <a:close/>
              </a:path>
              <a:path fill="lightenLess" w="237978" h="21600">
                <a:moveTo>
                  <a:pt x="0" y="0"/>
                </a:moveTo>
                <a:lnTo>
                  <a:pt x="237978" y="0"/>
                </a:lnTo>
                <a:lnTo>
                  <a:pt x="236579" y="1400"/>
                </a:lnTo>
                <a:lnTo>
                  <a:pt x="1400" y="1400"/>
                </a:lnTo>
                <a:close/>
              </a:path>
              <a:path fill="darken" w="237978" h="21600">
                <a:moveTo>
                  <a:pt x="237978" y="0"/>
                </a:moveTo>
                <a:lnTo>
                  <a:pt x="237978" y="21600"/>
                </a:lnTo>
                <a:lnTo>
                  <a:pt x="236579" y="20200"/>
                </a:lnTo>
                <a:lnTo>
                  <a:pt x="236579" y="1400"/>
                </a:lnTo>
                <a:close/>
              </a:path>
              <a:path fill="darkenLess" w="237978" h="21600">
                <a:moveTo>
                  <a:pt x="237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79" y="20200"/>
                </a:lnTo>
                <a:close/>
              </a:path>
              <a:path fill="lighten" w="237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5 Minuten vorbereit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250920" y="6742080"/>
            <a:ext cx="3457440" cy="1800"/>
          </a:xfrm>
          <a:prstGeom prst="line">
            <a:avLst/>
          </a:prstGeom>
          <a:ln w="28440">
            <a:solidFill>
              <a:srgbClr val="a4706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924360" y="6383160"/>
            <a:ext cx="696960" cy="368280"/>
          </a:xfrm>
          <a:prstGeom prst="rect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5076720" y="6381720"/>
            <a:ext cx="3167280" cy="287280"/>
          </a:xfrm>
          <a:custGeom>
            <a:avLst/>
            <a:gdLst>
              <a:gd name="textAreaLeft" fmla="*/ 18360 w 3167280"/>
              <a:gd name="textAreaRight" fmla="*/ 3148920 w 316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37870" h="21600">
                <a:moveTo>
                  <a:pt x="0" y="0"/>
                </a:moveTo>
                <a:lnTo>
                  <a:pt x="237870" y="0"/>
                </a:lnTo>
                <a:lnTo>
                  <a:pt x="237870" y="21600"/>
                </a:lnTo>
                <a:lnTo>
                  <a:pt x="0" y="21600"/>
                </a:lnTo>
                <a:close/>
              </a:path>
              <a:path fill="lightenLess" w="237870" h="21600">
                <a:moveTo>
                  <a:pt x="0" y="0"/>
                </a:moveTo>
                <a:lnTo>
                  <a:pt x="237870" y="0"/>
                </a:lnTo>
                <a:lnTo>
                  <a:pt x="236470" y="1400"/>
                </a:lnTo>
                <a:lnTo>
                  <a:pt x="1400" y="1400"/>
                </a:lnTo>
                <a:close/>
              </a:path>
              <a:path fill="darken" w="237870" h="21600">
                <a:moveTo>
                  <a:pt x="237870" y="0"/>
                </a:moveTo>
                <a:lnTo>
                  <a:pt x="237870" y="21600"/>
                </a:lnTo>
                <a:lnTo>
                  <a:pt x="236470" y="20200"/>
                </a:lnTo>
                <a:lnTo>
                  <a:pt x="236470" y="1400"/>
                </a:lnTo>
                <a:close/>
              </a:path>
              <a:path fill="darkenLess" w="237870" h="21600">
                <a:moveTo>
                  <a:pt x="237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470" y="20200"/>
                </a:lnTo>
                <a:close/>
              </a:path>
              <a:path fill="lighten" w="237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5 Minuten für das Vorles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>
            <a:off x="4932360" y="6742080"/>
            <a:ext cx="3456000" cy="1800"/>
          </a:xfrm>
          <a:prstGeom prst="line">
            <a:avLst/>
          </a:prstGeom>
          <a:ln w="28440">
            <a:solidFill>
              <a:srgbClr val="a4706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0">
            <a:hlinkClick r:id="rId2" action="ppaction://hlinksldjump"/>
          </p:cNvPr>
          <p:cNvSpPr/>
          <p:nvPr/>
        </p:nvSpPr>
        <p:spPr>
          <a:xfrm>
            <a:off x="8101080" y="333360"/>
            <a:ext cx="1042920" cy="322200"/>
          </a:xfrm>
          <a:custGeom>
            <a:avLst/>
            <a:gdLst>
              <a:gd name="textAreaLeft" fmla="*/ 20880 w 1042920"/>
              <a:gd name="textAreaRight" fmla="*/ 1022040 w 104292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69863" h="21600">
                <a:moveTo>
                  <a:pt x="0" y="0"/>
                </a:moveTo>
                <a:lnTo>
                  <a:pt x="69863" y="0"/>
                </a:lnTo>
                <a:lnTo>
                  <a:pt x="69863" y="21600"/>
                </a:lnTo>
                <a:lnTo>
                  <a:pt x="0" y="21600"/>
                </a:lnTo>
                <a:close/>
              </a:path>
              <a:path fill="lightenLess" w="69863" h="21600">
                <a:moveTo>
                  <a:pt x="0" y="0"/>
                </a:moveTo>
                <a:lnTo>
                  <a:pt x="69863" y="0"/>
                </a:lnTo>
                <a:lnTo>
                  <a:pt x="68463" y="1400"/>
                </a:lnTo>
                <a:lnTo>
                  <a:pt x="1400" y="1400"/>
                </a:lnTo>
                <a:close/>
              </a:path>
              <a:path fill="darken" w="69863" h="21600">
                <a:moveTo>
                  <a:pt x="69863" y="0"/>
                </a:moveTo>
                <a:lnTo>
                  <a:pt x="69863" y="21600"/>
                </a:lnTo>
                <a:lnTo>
                  <a:pt x="68463" y="20200"/>
                </a:lnTo>
                <a:lnTo>
                  <a:pt x="68463" y="1400"/>
                </a:lnTo>
                <a:close/>
              </a:path>
              <a:path fill="darkenLess" w="69863" h="21600">
                <a:moveTo>
                  <a:pt x="69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63" y="20200"/>
                </a:lnTo>
                <a:close/>
              </a:path>
              <a:path fill="lighten" w="69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merk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par>
              <p:cTn id="11" nodeType="interactiveSeq" fill="hold">
                <p:childTnLst>
                  <p:par>
                    <p:cTn id="12" fill="hold"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" dur="9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7" nodeType="interactiveSeq" fill="hold">
                <p:childTnLst>
                  <p:par>
                    <p:cTn id="18" fill="hold"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6" dur="90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0"/>
                            </p:stCondLst>
                            <p:childTnLst>
                              <p:par>
                                <p:cTn id="29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932360" y="836640"/>
            <a:ext cx="40323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ufgabe 2. 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auen Sie das Foto 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2">
            <a:hlinkClick r:id="" action="ppaction://hlinkshowjump?jump=nextslide"/>
          </p:cNvPr>
          <p:cNvSpPr/>
          <p:nvPr/>
        </p:nvSpPr>
        <p:spPr>
          <a:xfrm>
            <a:off x="8280360" y="6597720"/>
            <a:ext cx="863640" cy="260280"/>
          </a:xfrm>
          <a:custGeom>
            <a:avLst/>
            <a:gdLst>
              <a:gd name="textAreaLeft" fmla="*/ 16560 w 863640"/>
              <a:gd name="textAreaRight" fmla="*/ 847080 w 863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71602" h="21600">
                <a:moveTo>
                  <a:pt x="0" y="0"/>
                </a:moveTo>
                <a:lnTo>
                  <a:pt x="71602" y="0"/>
                </a:lnTo>
                <a:lnTo>
                  <a:pt x="71602" y="21600"/>
                </a:lnTo>
                <a:lnTo>
                  <a:pt x="0" y="21600"/>
                </a:lnTo>
                <a:close/>
              </a:path>
              <a:path fill="lightenLess" w="71602" h="21600">
                <a:moveTo>
                  <a:pt x="0" y="0"/>
                </a:moveTo>
                <a:lnTo>
                  <a:pt x="71602" y="0"/>
                </a:lnTo>
                <a:lnTo>
                  <a:pt x="70202" y="1400"/>
                </a:lnTo>
                <a:lnTo>
                  <a:pt x="1400" y="1400"/>
                </a:lnTo>
                <a:close/>
              </a:path>
              <a:path fill="darken" w="71602" h="21600">
                <a:moveTo>
                  <a:pt x="71602" y="0"/>
                </a:moveTo>
                <a:lnTo>
                  <a:pt x="71602" y="21600"/>
                </a:lnTo>
                <a:lnTo>
                  <a:pt x="70202" y="20200"/>
                </a:lnTo>
                <a:lnTo>
                  <a:pt x="70202" y="1400"/>
                </a:lnTo>
                <a:close/>
              </a:path>
              <a:path fill="darkenLess" w="71602" h="21600">
                <a:moveTo>
                  <a:pt x="71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202" y="20200"/>
                </a:lnTo>
                <a:close/>
              </a:path>
              <a:path fill="lighten" w="71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8244000" y="0"/>
            <a:ext cx="900000" cy="260280"/>
          </a:xfrm>
          <a:custGeom>
            <a:avLst/>
            <a:gdLst>
              <a:gd name="textAreaLeft" fmla="*/ 16560 w 900000"/>
              <a:gd name="textAreaRight" fmla="*/ 883440 w 900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74615" h="21600">
                <a:moveTo>
                  <a:pt x="0" y="0"/>
                </a:moveTo>
                <a:lnTo>
                  <a:pt x="74615" y="0"/>
                </a:lnTo>
                <a:lnTo>
                  <a:pt x="74615" y="21600"/>
                </a:lnTo>
                <a:lnTo>
                  <a:pt x="0" y="21600"/>
                </a:lnTo>
                <a:close/>
              </a:path>
              <a:path fill="lightenLess" w="74615" h="21600">
                <a:moveTo>
                  <a:pt x="0" y="0"/>
                </a:moveTo>
                <a:lnTo>
                  <a:pt x="74615" y="0"/>
                </a:lnTo>
                <a:lnTo>
                  <a:pt x="73216" y="1400"/>
                </a:lnTo>
                <a:lnTo>
                  <a:pt x="1400" y="1400"/>
                </a:lnTo>
                <a:close/>
              </a:path>
              <a:path fill="darken" w="74615" h="21600">
                <a:moveTo>
                  <a:pt x="74615" y="0"/>
                </a:moveTo>
                <a:lnTo>
                  <a:pt x="74615" y="21600"/>
                </a:lnTo>
                <a:lnTo>
                  <a:pt x="73216" y="20200"/>
                </a:lnTo>
                <a:lnTo>
                  <a:pt x="73216" y="1400"/>
                </a:lnTo>
                <a:close/>
              </a:path>
              <a:path fill="darkenLess" w="74615" h="21600">
                <a:moveTo>
                  <a:pt x="74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216" y="20200"/>
                </a:lnTo>
                <a:close/>
              </a:path>
              <a:path fill="lighten" w="74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79280" y="3274920"/>
            <a:ext cx="878544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Sie haben vor, ein paar Sportschuhe in einem Online-Shop zu kaufen. Sie rufen um einige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Erläuterungen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In 1,5 Minuten sollen Sie  fünf Fragen stellen, um  Folgendes herauszufinde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) ob es um Männer- oder Frauen-Sportschuhe handel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) ob man Eink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äufe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t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Kreditkarten bezahlen darf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) Preis für Versand nach Russland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) Lieferze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) Möglichkeit zur Rückkehr Schuhe im Falle der falschen Größ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Sie haben 20 Sekunden  f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r jede Fr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5) возможность возврата обуви в случае неподходящего разм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 вас есть 20 секунд, чтобы задать каждый вопр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8244000" y="333360"/>
            <a:ext cx="900000" cy="260280"/>
          </a:xfrm>
          <a:custGeom>
            <a:avLst/>
            <a:gdLst>
              <a:gd name="textAreaLeft" fmla="*/ 16560 w 900000"/>
              <a:gd name="textAreaRight" fmla="*/ 883440 w 900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74615" h="21600">
                <a:moveTo>
                  <a:pt x="0" y="0"/>
                </a:moveTo>
                <a:lnTo>
                  <a:pt x="74615" y="0"/>
                </a:lnTo>
                <a:lnTo>
                  <a:pt x="74615" y="21600"/>
                </a:lnTo>
                <a:lnTo>
                  <a:pt x="0" y="21600"/>
                </a:lnTo>
                <a:close/>
              </a:path>
              <a:path fill="lightenLess" w="74615" h="21600">
                <a:moveTo>
                  <a:pt x="0" y="0"/>
                </a:moveTo>
                <a:lnTo>
                  <a:pt x="74615" y="0"/>
                </a:lnTo>
                <a:lnTo>
                  <a:pt x="73216" y="1400"/>
                </a:lnTo>
                <a:lnTo>
                  <a:pt x="1400" y="1400"/>
                </a:lnTo>
                <a:close/>
              </a:path>
              <a:path fill="darken" w="74615" h="21600">
                <a:moveTo>
                  <a:pt x="74615" y="0"/>
                </a:moveTo>
                <a:lnTo>
                  <a:pt x="74615" y="21600"/>
                </a:lnTo>
                <a:lnTo>
                  <a:pt x="73216" y="20200"/>
                </a:lnTo>
                <a:lnTo>
                  <a:pt x="73216" y="1400"/>
                </a:lnTo>
                <a:close/>
              </a:path>
              <a:path fill="darkenLess" w="74615" h="21600">
                <a:moveTo>
                  <a:pt x="74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216" y="20200"/>
                </a:lnTo>
                <a:close/>
              </a:path>
              <a:path fill="lighten" w="74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merkun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rcRect l="5174" t="7672" r="25095" b="5704"/>
          <a:stretch/>
        </p:blipFill>
        <p:spPr>
          <a:xfrm>
            <a:off x="0" y="0"/>
            <a:ext cx="4716360" cy="32940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7"/>
          <p:cNvSpPr/>
          <p:nvPr/>
        </p:nvSpPr>
        <p:spPr>
          <a:xfrm>
            <a:off x="395280" y="6372360"/>
            <a:ext cx="3168720" cy="287280"/>
          </a:xfrm>
          <a:custGeom>
            <a:avLst/>
            <a:gdLst>
              <a:gd name="textAreaLeft" fmla="*/ 18360 w 3168720"/>
              <a:gd name="textAreaRight" fmla="*/ 3150360 w 316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37978" h="21600">
                <a:moveTo>
                  <a:pt x="0" y="0"/>
                </a:moveTo>
                <a:lnTo>
                  <a:pt x="237978" y="0"/>
                </a:lnTo>
                <a:lnTo>
                  <a:pt x="237978" y="21600"/>
                </a:lnTo>
                <a:lnTo>
                  <a:pt x="0" y="21600"/>
                </a:lnTo>
                <a:close/>
              </a:path>
              <a:path fill="lightenLess" w="237978" h="21600">
                <a:moveTo>
                  <a:pt x="0" y="0"/>
                </a:moveTo>
                <a:lnTo>
                  <a:pt x="237978" y="0"/>
                </a:lnTo>
                <a:lnTo>
                  <a:pt x="236579" y="1400"/>
                </a:lnTo>
                <a:lnTo>
                  <a:pt x="1400" y="1400"/>
                </a:lnTo>
                <a:close/>
              </a:path>
              <a:path fill="darken" w="237978" h="21600">
                <a:moveTo>
                  <a:pt x="237978" y="0"/>
                </a:moveTo>
                <a:lnTo>
                  <a:pt x="237978" y="21600"/>
                </a:lnTo>
                <a:lnTo>
                  <a:pt x="236579" y="20200"/>
                </a:lnTo>
                <a:lnTo>
                  <a:pt x="236579" y="1400"/>
                </a:lnTo>
                <a:close/>
              </a:path>
              <a:path fill="darkenLess" w="237978" h="21600">
                <a:moveTo>
                  <a:pt x="237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79" y="20200"/>
                </a:lnTo>
                <a:close/>
              </a:path>
              <a:path fill="lighten" w="237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5 Minuten vorbereit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>
            <a:off x="250920" y="6742080"/>
            <a:ext cx="3457440" cy="1800"/>
          </a:xfrm>
          <a:prstGeom prst="line">
            <a:avLst/>
          </a:prstGeom>
          <a:ln w="28440">
            <a:solidFill>
              <a:srgbClr val="a4706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3924360" y="6383160"/>
            <a:ext cx="696960" cy="368280"/>
          </a:xfrm>
          <a:prstGeom prst="rect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10">
            <a:hlinkClick r:id="" action="ppaction://hlinkshowjump?jump=nextslide"/>
          </p:cNvPr>
          <p:cNvSpPr/>
          <p:nvPr/>
        </p:nvSpPr>
        <p:spPr>
          <a:xfrm>
            <a:off x="5076720" y="6381720"/>
            <a:ext cx="3167280" cy="287280"/>
          </a:xfrm>
          <a:custGeom>
            <a:avLst/>
            <a:gdLst>
              <a:gd name="textAreaLeft" fmla="*/ 18360 w 3167280"/>
              <a:gd name="textAreaRight" fmla="*/ 3148920 w 316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37870" h="21600">
                <a:moveTo>
                  <a:pt x="0" y="0"/>
                </a:moveTo>
                <a:lnTo>
                  <a:pt x="237870" y="0"/>
                </a:lnTo>
                <a:lnTo>
                  <a:pt x="237870" y="21600"/>
                </a:lnTo>
                <a:lnTo>
                  <a:pt x="0" y="21600"/>
                </a:lnTo>
                <a:close/>
              </a:path>
              <a:path fill="lightenLess" w="237870" h="21600">
                <a:moveTo>
                  <a:pt x="0" y="0"/>
                </a:moveTo>
                <a:lnTo>
                  <a:pt x="237870" y="0"/>
                </a:lnTo>
                <a:lnTo>
                  <a:pt x="236470" y="1400"/>
                </a:lnTo>
                <a:lnTo>
                  <a:pt x="1400" y="1400"/>
                </a:lnTo>
                <a:close/>
              </a:path>
              <a:path fill="darken" w="237870" h="21600">
                <a:moveTo>
                  <a:pt x="237870" y="0"/>
                </a:moveTo>
                <a:lnTo>
                  <a:pt x="237870" y="21600"/>
                </a:lnTo>
                <a:lnTo>
                  <a:pt x="236470" y="20200"/>
                </a:lnTo>
                <a:lnTo>
                  <a:pt x="236470" y="1400"/>
                </a:lnTo>
                <a:close/>
              </a:path>
              <a:path fill="darkenLess" w="237870" h="21600">
                <a:moveTo>
                  <a:pt x="237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470" y="20200"/>
                </a:lnTo>
                <a:close/>
              </a:path>
              <a:path fill="lighten" w="237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 Sekunden für  die Antwort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11"/>
          <p:cNvSpPr/>
          <p:nvPr/>
        </p:nvSpPr>
        <p:spPr>
          <a:xfrm>
            <a:off x="4932360" y="6742080"/>
            <a:ext cx="3456000" cy="1800"/>
          </a:xfrm>
          <a:prstGeom prst="line">
            <a:avLst/>
          </a:prstGeom>
          <a:ln w="28440">
            <a:solidFill>
              <a:srgbClr val="a4706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par>
              <p:cTn id="42" nodeType="interactiveSeq" fill="hold">
                <p:childTnLst>
                  <p:par>
                    <p:cTn id="43" fill="hold"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6" dur="9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48" nodeType="interactiveSeq" fill="hold">
                <p:childTnLst>
                  <p:par>
                    <p:cTn id="49" fill="hold"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7" dur="10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0"/>
                            </p:stCondLst>
                            <p:childTnLst>
                              <p:par>
                                <p:cTn id="60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5111640" y="981000"/>
            <a:ext cx="38530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ufgabe 2. </a:t>
            </a:r>
            <a:br>
              <a:rPr sz="1800"/>
            </a:b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chauen Sie das Foto 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">
            <a:hlinkClick r:id="" action="ppaction://hlinkshowjump?jump=nextslide"/>
          </p:cNvPr>
          <p:cNvSpPr/>
          <p:nvPr/>
        </p:nvSpPr>
        <p:spPr>
          <a:xfrm>
            <a:off x="8317080" y="6567480"/>
            <a:ext cx="826920" cy="290520"/>
          </a:xfrm>
          <a:custGeom>
            <a:avLst/>
            <a:gdLst>
              <a:gd name="textAreaLeft" fmla="*/ 18720 w 826920"/>
              <a:gd name="textAreaRight" fmla="*/ 808200 w 826920"/>
              <a:gd name="textAreaTop" fmla="*/ 18720 h 290520"/>
              <a:gd name="textAreaBottom" fmla="*/ 271800 h 290520"/>
            </a:gdLst>
            <a:ahLst/>
            <a:rect l="textAreaLeft" t="textAreaTop" r="textAreaRight" b="textAreaBottom"/>
            <a:pathLst>
              <a:path w="61432" h="21600">
                <a:moveTo>
                  <a:pt x="0" y="0"/>
                </a:moveTo>
                <a:lnTo>
                  <a:pt x="61432" y="0"/>
                </a:lnTo>
                <a:lnTo>
                  <a:pt x="61432" y="21600"/>
                </a:lnTo>
                <a:lnTo>
                  <a:pt x="0" y="21600"/>
                </a:lnTo>
                <a:close/>
              </a:path>
              <a:path fill="lightenLess" w="61432" h="21600">
                <a:moveTo>
                  <a:pt x="0" y="0"/>
                </a:moveTo>
                <a:lnTo>
                  <a:pt x="61432" y="0"/>
                </a:lnTo>
                <a:lnTo>
                  <a:pt x="60032" y="1400"/>
                </a:lnTo>
                <a:lnTo>
                  <a:pt x="1400" y="1400"/>
                </a:lnTo>
                <a:close/>
              </a:path>
              <a:path fill="darken" w="61432" h="21600">
                <a:moveTo>
                  <a:pt x="61432" y="0"/>
                </a:moveTo>
                <a:lnTo>
                  <a:pt x="61432" y="21600"/>
                </a:lnTo>
                <a:lnTo>
                  <a:pt x="60032" y="20200"/>
                </a:lnTo>
                <a:lnTo>
                  <a:pt x="60032" y="1400"/>
                </a:lnTo>
                <a:close/>
              </a:path>
              <a:path fill="darkenLess" w="61432" h="21600">
                <a:moveTo>
                  <a:pt x="61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032" y="20200"/>
                </a:lnTo>
                <a:close/>
              </a:path>
              <a:path fill="lighten" w="61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3"/>
          <p:cNvSpPr/>
          <p:nvPr/>
        </p:nvSpPr>
        <p:spPr>
          <a:xfrm>
            <a:off x="8244000" y="0"/>
            <a:ext cx="900000" cy="333360"/>
          </a:xfrm>
          <a:custGeom>
            <a:avLst/>
            <a:gdLst>
              <a:gd name="textAreaLeft" fmla="*/ 21600 w 900000"/>
              <a:gd name="textAreaRight" fmla="*/ 878400 w 900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8276" h="21600">
                <a:moveTo>
                  <a:pt x="0" y="0"/>
                </a:moveTo>
                <a:lnTo>
                  <a:pt x="58276" y="0"/>
                </a:lnTo>
                <a:lnTo>
                  <a:pt x="58276" y="21600"/>
                </a:lnTo>
                <a:lnTo>
                  <a:pt x="0" y="21600"/>
                </a:lnTo>
                <a:close/>
              </a:path>
              <a:path fill="lightenLess" w="58276" h="21600">
                <a:moveTo>
                  <a:pt x="0" y="0"/>
                </a:moveTo>
                <a:lnTo>
                  <a:pt x="58276" y="0"/>
                </a:lnTo>
                <a:lnTo>
                  <a:pt x="56876" y="1400"/>
                </a:lnTo>
                <a:lnTo>
                  <a:pt x="1400" y="1400"/>
                </a:lnTo>
                <a:close/>
              </a:path>
              <a:path fill="darken" w="58276" h="21600">
                <a:moveTo>
                  <a:pt x="58276" y="0"/>
                </a:moveTo>
                <a:lnTo>
                  <a:pt x="58276" y="21600"/>
                </a:lnTo>
                <a:lnTo>
                  <a:pt x="56876" y="20200"/>
                </a:lnTo>
                <a:lnTo>
                  <a:pt x="56876" y="1400"/>
                </a:lnTo>
                <a:close/>
              </a:path>
              <a:path fill="darkenLess" w="58276" h="21600">
                <a:moveTo>
                  <a:pt x="582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76" y="20200"/>
                </a:lnTo>
                <a:close/>
              </a:path>
              <a:path fill="lighten" w="582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79280" y="3284640"/>
            <a:ext cx="8785440" cy="28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ie haben vor, ein paar Sportschuhe in einem Online-Shop zu kaufen. Sie rufen um einige Erläuterungen. In 1,5 Minuten sollen Sie  fünf Fragen stellen, um  Folgendes herauszufinde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363600" algn="just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ob es um Männer- oder  Frauen-Sportschuhe handel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ie haben 20 Sekunden  für jede Fr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8244000" y="425520"/>
            <a:ext cx="900000" cy="3585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4184" h="21600">
                <a:moveTo>
                  <a:pt x="0" y="0"/>
                </a:moveTo>
                <a:lnTo>
                  <a:pt x="54184" y="0"/>
                </a:lnTo>
                <a:lnTo>
                  <a:pt x="54184" y="21600"/>
                </a:lnTo>
                <a:lnTo>
                  <a:pt x="0" y="21600"/>
                </a:lnTo>
                <a:close/>
              </a:path>
              <a:path fill="lightenLess" w="54184" h="21600">
                <a:moveTo>
                  <a:pt x="0" y="0"/>
                </a:moveTo>
                <a:lnTo>
                  <a:pt x="54184" y="0"/>
                </a:lnTo>
                <a:lnTo>
                  <a:pt x="52784" y="1400"/>
                </a:lnTo>
                <a:lnTo>
                  <a:pt x="1400" y="1400"/>
                </a:lnTo>
                <a:close/>
              </a:path>
              <a:path fill="darken" w="54184" h="21600">
                <a:moveTo>
                  <a:pt x="54184" y="0"/>
                </a:moveTo>
                <a:lnTo>
                  <a:pt x="54184" y="21600"/>
                </a:lnTo>
                <a:lnTo>
                  <a:pt x="52784" y="20200"/>
                </a:lnTo>
                <a:lnTo>
                  <a:pt x="52784" y="1400"/>
                </a:lnTo>
                <a:close/>
              </a:path>
              <a:path fill="darkenLess" w="54184" h="21600">
                <a:moveTo>
                  <a:pt x="54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84" y="20200"/>
                </a:lnTo>
                <a:close/>
              </a:path>
              <a:path fill="lighten" w="54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merkun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rcRect l="5174" t="7672" r="25095" b="5704"/>
          <a:stretch/>
        </p:blipFill>
        <p:spPr>
          <a:xfrm>
            <a:off x="0" y="0"/>
            <a:ext cx="4716360" cy="3294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3924360" y="6383160"/>
            <a:ext cx="696960" cy="368280"/>
          </a:xfrm>
          <a:prstGeom prst="rect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5435640" y="6742080"/>
            <a:ext cx="2089080" cy="1800"/>
          </a:xfrm>
          <a:prstGeom prst="line">
            <a:avLst/>
          </a:prstGeom>
          <a:ln w="28440">
            <a:solidFill>
              <a:srgbClr val="a4706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2"/>
          <a:stretch/>
        </p:blipFill>
        <p:spPr>
          <a:xfrm>
            <a:off x="5251320" y="6238800"/>
            <a:ext cx="2487600" cy="365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8" dur="20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1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5111640" y="981000"/>
            <a:ext cx="38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ufgabe 2. </a:t>
            </a:r>
            <a:br>
              <a:rPr sz="1800"/>
            </a:b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chauen Sie das Foto an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2">
            <a:hlinkClick r:id="" action="ppaction://hlinkshowjump?jump=nextslide"/>
          </p:cNvPr>
          <p:cNvSpPr/>
          <p:nvPr/>
        </p:nvSpPr>
        <p:spPr>
          <a:xfrm>
            <a:off x="8532720" y="6597720"/>
            <a:ext cx="611280" cy="260280"/>
          </a:xfrm>
          <a:custGeom>
            <a:avLst/>
            <a:gdLst>
              <a:gd name="textAreaLeft" fmla="*/ 16560 w 611280"/>
              <a:gd name="textAreaRight" fmla="*/ 594720 w 611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0688" h="21600">
                <a:moveTo>
                  <a:pt x="0" y="0"/>
                </a:moveTo>
                <a:lnTo>
                  <a:pt x="50688" y="0"/>
                </a:lnTo>
                <a:lnTo>
                  <a:pt x="50688" y="21600"/>
                </a:lnTo>
                <a:lnTo>
                  <a:pt x="0" y="21600"/>
                </a:lnTo>
                <a:close/>
              </a:path>
              <a:path fill="lightenLess" w="50688" h="21600">
                <a:moveTo>
                  <a:pt x="0" y="0"/>
                </a:moveTo>
                <a:lnTo>
                  <a:pt x="50688" y="0"/>
                </a:lnTo>
                <a:lnTo>
                  <a:pt x="49288" y="1400"/>
                </a:lnTo>
                <a:lnTo>
                  <a:pt x="1400" y="1400"/>
                </a:lnTo>
                <a:close/>
              </a:path>
              <a:path fill="darken" w="50688" h="21600">
                <a:moveTo>
                  <a:pt x="50688" y="0"/>
                </a:moveTo>
                <a:lnTo>
                  <a:pt x="50688" y="21600"/>
                </a:lnTo>
                <a:lnTo>
                  <a:pt x="49288" y="20200"/>
                </a:lnTo>
                <a:lnTo>
                  <a:pt x="49288" y="1400"/>
                </a:lnTo>
                <a:close/>
              </a:path>
              <a:path fill="darkenLess" w="50688" h="21600">
                <a:moveTo>
                  <a:pt x="50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288" y="20200"/>
                </a:lnTo>
                <a:close/>
              </a:path>
              <a:path fill="lighten" w="50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8220240" y="0"/>
            <a:ext cx="923760" cy="260280"/>
          </a:xfrm>
          <a:custGeom>
            <a:avLst/>
            <a:gdLst>
              <a:gd name="textAreaLeft" fmla="*/ 16560 w 923760"/>
              <a:gd name="textAreaRight" fmla="*/ 907200 w 9237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76585" h="21600">
                <a:moveTo>
                  <a:pt x="0" y="0"/>
                </a:moveTo>
                <a:lnTo>
                  <a:pt x="76585" y="0"/>
                </a:lnTo>
                <a:lnTo>
                  <a:pt x="76585" y="21600"/>
                </a:lnTo>
                <a:lnTo>
                  <a:pt x="0" y="21600"/>
                </a:lnTo>
                <a:close/>
              </a:path>
              <a:path fill="lightenLess" w="76585" h="21600">
                <a:moveTo>
                  <a:pt x="0" y="0"/>
                </a:moveTo>
                <a:lnTo>
                  <a:pt x="76585" y="0"/>
                </a:lnTo>
                <a:lnTo>
                  <a:pt x="75185" y="1400"/>
                </a:lnTo>
                <a:lnTo>
                  <a:pt x="1400" y="1400"/>
                </a:lnTo>
                <a:close/>
              </a:path>
              <a:path fill="darken" w="76585" h="21600">
                <a:moveTo>
                  <a:pt x="76585" y="0"/>
                </a:moveTo>
                <a:lnTo>
                  <a:pt x="76585" y="21600"/>
                </a:lnTo>
                <a:lnTo>
                  <a:pt x="75185" y="20200"/>
                </a:lnTo>
                <a:lnTo>
                  <a:pt x="75185" y="1400"/>
                </a:lnTo>
                <a:close/>
              </a:path>
              <a:path fill="darkenLess" w="76585" h="21600">
                <a:moveTo>
                  <a:pt x="76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85" y="20200"/>
                </a:lnTo>
                <a:close/>
              </a:path>
              <a:path fill="lighten" w="76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79280" y="3284640"/>
            <a:ext cx="8785440" cy="28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ie haben vor, ein paar Sportschuhe in einem Online-Shop zu kaufen. Sie rufen um einige Erläuterungen. In 1,5 Minuten sollen Sie  fünf Fragen stellen, um  Folgendes herauszufinde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2) ob man Einkäufe mit Kreditkarten bezahlen dar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ie haben 20 Sekunden  für jede Fr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8220240" y="333360"/>
            <a:ext cx="923760" cy="358920"/>
          </a:xfrm>
          <a:custGeom>
            <a:avLst/>
            <a:gdLst>
              <a:gd name="textAreaLeft" fmla="*/ 23040 w 923760"/>
              <a:gd name="textAreaRight" fmla="*/ 900720 w 9237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5558" h="21600">
                <a:moveTo>
                  <a:pt x="0" y="0"/>
                </a:moveTo>
                <a:lnTo>
                  <a:pt x="55558" y="0"/>
                </a:lnTo>
                <a:lnTo>
                  <a:pt x="55558" y="21600"/>
                </a:lnTo>
                <a:lnTo>
                  <a:pt x="0" y="21600"/>
                </a:lnTo>
                <a:close/>
              </a:path>
              <a:path fill="lightenLess" w="55558" h="21600">
                <a:moveTo>
                  <a:pt x="0" y="0"/>
                </a:moveTo>
                <a:lnTo>
                  <a:pt x="55558" y="0"/>
                </a:lnTo>
                <a:lnTo>
                  <a:pt x="54158" y="1400"/>
                </a:lnTo>
                <a:lnTo>
                  <a:pt x="1400" y="1400"/>
                </a:lnTo>
                <a:close/>
              </a:path>
              <a:path fill="darken" w="55558" h="21600">
                <a:moveTo>
                  <a:pt x="55558" y="0"/>
                </a:moveTo>
                <a:lnTo>
                  <a:pt x="55558" y="21600"/>
                </a:lnTo>
                <a:lnTo>
                  <a:pt x="54158" y="20200"/>
                </a:lnTo>
                <a:lnTo>
                  <a:pt x="54158" y="1400"/>
                </a:lnTo>
                <a:close/>
              </a:path>
              <a:path fill="darkenLess" w="55558" h="21600">
                <a:moveTo>
                  <a:pt x="5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58" y="20200"/>
                </a:lnTo>
                <a:close/>
              </a:path>
              <a:path fill="lighten" w="5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merkun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rcRect l="5174" t="7672" r="25095" b="5704"/>
          <a:stretch/>
        </p:blipFill>
        <p:spPr>
          <a:xfrm>
            <a:off x="0" y="0"/>
            <a:ext cx="4716360" cy="3294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3924360" y="6383160"/>
            <a:ext cx="696960" cy="368280"/>
          </a:xfrm>
          <a:prstGeom prst="rect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>
            <a:off x="5435640" y="6742080"/>
            <a:ext cx="2089080" cy="1800"/>
          </a:xfrm>
          <a:prstGeom prst="line">
            <a:avLst/>
          </a:prstGeom>
          <a:ln w="28440">
            <a:solidFill>
              <a:srgbClr val="a4706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14" descr=""/>
          <p:cNvPicPr/>
          <p:nvPr/>
        </p:nvPicPr>
        <p:blipFill>
          <a:blip r:embed="rId2"/>
          <a:stretch/>
        </p:blipFill>
        <p:spPr>
          <a:xfrm>
            <a:off x="5251320" y="6238800"/>
            <a:ext cx="2487600" cy="365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9" dur="2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5111640" y="981000"/>
            <a:ext cx="38530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ufgabe 2. 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auen Sie das Foto 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>
            <a:hlinkClick r:id="" action="ppaction://hlinkshowjump?jump=nextslide"/>
          </p:cNvPr>
          <p:cNvSpPr/>
          <p:nvPr/>
        </p:nvSpPr>
        <p:spPr>
          <a:xfrm>
            <a:off x="8317080" y="6597720"/>
            <a:ext cx="826920" cy="260280"/>
          </a:xfrm>
          <a:custGeom>
            <a:avLst/>
            <a:gdLst>
              <a:gd name="textAreaLeft" fmla="*/ 16560 w 826920"/>
              <a:gd name="textAreaRight" fmla="*/ 810360 w 8269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68559" h="21600">
                <a:moveTo>
                  <a:pt x="0" y="0"/>
                </a:moveTo>
                <a:lnTo>
                  <a:pt x="68559" y="0"/>
                </a:lnTo>
                <a:lnTo>
                  <a:pt x="68559" y="21600"/>
                </a:lnTo>
                <a:lnTo>
                  <a:pt x="0" y="21600"/>
                </a:lnTo>
                <a:close/>
              </a:path>
              <a:path fill="lightenLess" w="68559" h="21600">
                <a:moveTo>
                  <a:pt x="0" y="0"/>
                </a:moveTo>
                <a:lnTo>
                  <a:pt x="68559" y="0"/>
                </a:lnTo>
                <a:lnTo>
                  <a:pt x="67159" y="1400"/>
                </a:lnTo>
                <a:lnTo>
                  <a:pt x="1400" y="1400"/>
                </a:lnTo>
                <a:close/>
              </a:path>
              <a:path fill="darken" w="68559" h="21600">
                <a:moveTo>
                  <a:pt x="68559" y="0"/>
                </a:moveTo>
                <a:lnTo>
                  <a:pt x="68559" y="21600"/>
                </a:lnTo>
                <a:lnTo>
                  <a:pt x="67159" y="20200"/>
                </a:lnTo>
                <a:lnTo>
                  <a:pt x="67159" y="1400"/>
                </a:lnTo>
                <a:close/>
              </a:path>
              <a:path fill="darkenLess" w="68559" h="21600">
                <a:moveTo>
                  <a:pt x="685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59" y="20200"/>
                </a:lnTo>
                <a:close/>
              </a:path>
              <a:path fill="lighten" w="685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8172360" y="0"/>
            <a:ext cx="971640" cy="260280"/>
          </a:xfrm>
          <a:custGeom>
            <a:avLst/>
            <a:gdLst>
              <a:gd name="textAreaLeft" fmla="*/ 16560 w 971640"/>
              <a:gd name="textAreaRight" fmla="*/ 955080 w 971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80552" h="21600">
                <a:moveTo>
                  <a:pt x="0" y="0"/>
                </a:moveTo>
                <a:lnTo>
                  <a:pt x="80552" y="0"/>
                </a:lnTo>
                <a:lnTo>
                  <a:pt x="80552" y="21600"/>
                </a:lnTo>
                <a:lnTo>
                  <a:pt x="0" y="21600"/>
                </a:lnTo>
                <a:close/>
              </a:path>
              <a:path fill="lightenLess" w="80552" h="21600">
                <a:moveTo>
                  <a:pt x="0" y="0"/>
                </a:moveTo>
                <a:lnTo>
                  <a:pt x="80552" y="0"/>
                </a:lnTo>
                <a:lnTo>
                  <a:pt x="79153" y="1400"/>
                </a:lnTo>
                <a:lnTo>
                  <a:pt x="1400" y="1400"/>
                </a:lnTo>
                <a:close/>
              </a:path>
              <a:path fill="darken" w="80552" h="21600">
                <a:moveTo>
                  <a:pt x="80552" y="0"/>
                </a:moveTo>
                <a:lnTo>
                  <a:pt x="80552" y="21600"/>
                </a:lnTo>
                <a:lnTo>
                  <a:pt x="79153" y="20200"/>
                </a:lnTo>
                <a:lnTo>
                  <a:pt x="79153" y="1400"/>
                </a:lnTo>
                <a:close/>
              </a:path>
              <a:path fill="darkenLess" w="80552" h="21600">
                <a:moveTo>
                  <a:pt x="80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153" y="20200"/>
                </a:lnTo>
                <a:close/>
              </a:path>
              <a:path fill="lighten" w="80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79280" y="3284640"/>
            <a:ext cx="8785440" cy="28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ie haben vor, ein paar Sportschuhe in einem Online-Shop zu kaufen. Sie rufen um einige Erläuterungen. In 1,5 Minuten sollen Sie  fünf Fragen stellen, um  Folgendes herauszufinde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3) Preis für Versand nach Russland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ie haben 20 Sekunden  für jede Fr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8172360" y="333360"/>
            <a:ext cx="971640" cy="260280"/>
          </a:xfrm>
          <a:custGeom>
            <a:avLst/>
            <a:gdLst>
              <a:gd name="textAreaLeft" fmla="*/ 16560 w 971640"/>
              <a:gd name="textAreaRight" fmla="*/ 955080 w 971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80552" h="21600">
                <a:moveTo>
                  <a:pt x="0" y="0"/>
                </a:moveTo>
                <a:lnTo>
                  <a:pt x="80552" y="0"/>
                </a:lnTo>
                <a:lnTo>
                  <a:pt x="80552" y="21600"/>
                </a:lnTo>
                <a:lnTo>
                  <a:pt x="0" y="21600"/>
                </a:lnTo>
                <a:close/>
              </a:path>
              <a:path fill="lightenLess" w="80552" h="21600">
                <a:moveTo>
                  <a:pt x="0" y="0"/>
                </a:moveTo>
                <a:lnTo>
                  <a:pt x="80552" y="0"/>
                </a:lnTo>
                <a:lnTo>
                  <a:pt x="79153" y="1400"/>
                </a:lnTo>
                <a:lnTo>
                  <a:pt x="1400" y="1400"/>
                </a:lnTo>
                <a:close/>
              </a:path>
              <a:path fill="darken" w="80552" h="21600">
                <a:moveTo>
                  <a:pt x="80552" y="0"/>
                </a:moveTo>
                <a:lnTo>
                  <a:pt x="80552" y="21600"/>
                </a:lnTo>
                <a:lnTo>
                  <a:pt x="79153" y="20200"/>
                </a:lnTo>
                <a:lnTo>
                  <a:pt x="79153" y="1400"/>
                </a:lnTo>
                <a:close/>
              </a:path>
              <a:path fill="darkenLess" w="80552" h="21600">
                <a:moveTo>
                  <a:pt x="80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153" y="20200"/>
                </a:lnTo>
                <a:close/>
              </a:path>
              <a:path fill="lighten" w="80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merk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rcRect l="5174" t="7672" r="25095" b="5704"/>
          <a:stretch/>
        </p:blipFill>
        <p:spPr>
          <a:xfrm>
            <a:off x="0" y="0"/>
            <a:ext cx="4716360" cy="3294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3924360" y="6383160"/>
            <a:ext cx="696960" cy="368280"/>
          </a:xfrm>
          <a:prstGeom prst="rect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5435640" y="6742080"/>
            <a:ext cx="2089080" cy="1800"/>
          </a:xfrm>
          <a:prstGeom prst="line">
            <a:avLst/>
          </a:prstGeom>
          <a:ln w="28440">
            <a:solidFill>
              <a:srgbClr val="a4706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14" descr=""/>
          <p:cNvPicPr/>
          <p:nvPr/>
        </p:nvPicPr>
        <p:blipFill>
          <a:blip r:embed="rId2"/>
          <a:stretch/>
        </p:blipFill>
        <p:spPr>
          <a:xfrm>
            <a:off x="5251320" y="6254640"/>
            <a:ext cx="2487600" cy="365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90" dur="20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3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5111640" y="981000"/>
            <a:ext cx="38530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Aufgabe 2. </a:t>
            </a:r>
            <a:br>
              <a:rPr sz="1800"/>
            </a:b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chauen Sie das Foto 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2">
            <a:hlinkClick r:id="" action="ppaction://hlinkshowjump?jump=nextslide"/>
          </p:cNvPr>
          <p:cNvSpPr/>
          <p:nvPr/>
        </p:nvSpPr>
        <p:spPr>
          <a:xfrm>
            <a:off x="8317080" y="6597720"/>
            <a:ext cx="826920" cy="260280"/>
          </a:xfrm>
          <a:custGeom>
            <a:avLst/>
            <a:gdLst>
              <a:gd name="textAreaLeft" fmla="*/ 16560 w 826920"/>
              <a:gd name="textAreaRight" fmla="*/ 810360 w 8269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68559" h="21600">
                <a:moveTo>
                  <a:pt x="0" y="0"/>
                </a:moveTo>
                <a:lnTo>
                  <a:pt x="68559" y="0"/>
                </a:lnTo>
                <a:lnTo>
                  <a:pt x="68559" y="21600"/>
                </a:lnTo>
                <a:lnTo>
                  <a:pt x="0" y="21600"/>
                </a:lnTo>
                <a:close/>
              </a:path>
              <a:path fill="lightenLess" w="68559" h="21600">
                <a:moveTo>
                  <a:pt x="0" y="0"/>
                </a:moveTo>
                <a:lnTo>
                  <a:pt x="68559" y="0"/>
                </a:lnTo>
                <a:lnTo>
                  <a:pt x="67159" y="1400"/>
                </a:lnTo>
                <a:lnTo>
                  <a:pt x="1400" y="1400"/>
                </a:lnTo>
                <a:close/>
              </a:path>
              <a:path fill="darken" w="68559" h="21600">
                <a:moveTo>
                  <a:pt x="68559" y="0"/>
                </a:moveTo>
                <a:lnTo>
                  <a:pt x="68559" y="21600"/>
                </a:lnTo>
                <a:lnTo>
                  <a:pt x="67159" y="20200"/>
                </a:lnTo>
                <a:lnTo>
                  <a:pt x="67159" y="1400"/>
                </a:lnTo>
                <a:close/>
              </a:path>
              <a:path fill="darkenLess" w="68559" h="21600">
                <a:moveTo>
                  <a:pt x="685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59" y="20200"/>
                </a:lnTo>
                <a:close/>
              </a:path>
              <a:path fill="lighten" w="685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8101080" y="0"/>
            <a:ext cx="1042920" cy="260280"/>
          </a:xfrm>
          <a:custGeom>
            <a:avLst/>
            <a:gdLst>
              <a:gd name="textAreaLeft" fmla="*/ 16560 w 1042920"/>
              <a:gd name="textAreaRight" fmla="*/ 1026360 w 10429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86460" h="21600">
                <a:moveTo>
                  <a:pt x="0" y="0"/>
                </a:moveTo>
                <a:lnTo>
                  <a:pt x="86460" y="0"/>
                </a:lnTo>
                <a:lnTo>
                  <a:pt x="86460" y="21600"/>
                </a:lnTo>
                <a:lnTo>
                  <a:pt x="0" y="21600"/>
                </a:lnTo>
                <a:close/>
              </a:path>
              <a:path fill="lightenLess" w="86460" h="21600">
                <a:moveTo>
                  <a:pt x="0" y="0"/>
                </a:moveTo>
                <a:lnTo>
                  <a:pt x="86460" y="0"/>
                </a:lnTo>
                <a:lnTo>
                  <a:pt x="85060" y="1400"/>
                </a:lnTo>
                <a:lnTo>
                  <a:pt x="1400" y="1400"/>
                </a:lnTo>
                <a:close/>
              </a:path>
              <a:path fill="darken" w="86460" h="21600">
                <a:moveTo>
                  <a:pt x="86460" y="0"/>
                </a:moveTo>
                <a:lnTo>
                  <a:pt x="86460" y="21600"/>
                </a:lnTo>
                <a:lnTo>
                  <a:pt x="85060" y="20200"/>
                </a:lnTo>
                <a:lnTo>
                  <a:pt x="85060" y="1400"/>
                </a:lnTo>
                <a:close/>
              </a:path>
              <a:path fill="darkenLess" w="86460" h="21600">
                <a:moveTo>
                  <a:pt x="864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60" y="20200"/>
                </a:lnTo>
                <a:close/>
              </a:path>
              <a:path fill="lighten" w="864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79280" y="3284640"/>
            <a:ext cx="8785440" cy="28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ie haben vor, ein paar Sportschuhe in einem Online-Shop zu kaufen. Sie rufen um einige Erläuterungen. In 1,5 Minuten sollen Sie  fünf Fragen stellen, um  Folgendes herauszufinde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4) Lieferze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ie haben 20 Sekunden  für jede Fr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8101080" y="333360"/>
            <a:ext cx="1042920" cy="35892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2722" h="21600">
                <a:moveTo>
                  <a:pt x="0" y="0"/>
                </a:moveTo>
                <a:lnTo>
                  <a:pt x="62722" y="0"/>
                </a:lnTo>
                <a:lnTo>
                  <a:pt x="62722" y="21600"/>
                </a:lnTo>
                <a:lnTo>
                  <a:pt x="0" y="21600"/>
                </a:lnTo>
                <a:close/>
              </a:path>
              <a:path fill="lightenLess" w="62722" h="21600">
                <a:moveTo>
                  <a:pt x="0" y="0"/>
                </a:moveTo>
                <a:lnTo>
                  <a:pt x="62722" y="0"/>
                </a:lnTo>
                <a:lnTo>
                  <a:pt x="61322" y="1400"/>
                </a:lnTo>
                <a:lnTo>
                  <a:pt x="1400" y="1400"/>
                </a:lnTo>
                <a:close/>
              </a:path>
              <a:path fill="darken" w="62722" h="21600">
                <a:moveTo>
                  <a:pt x="62722" y="0"/>
                </a:moveTo>
                <a:lnTo>
                  <a:pt x="62722" y="21600"/>
                </a:lnTo>
                <a:lnTo>
                  <a:pt x="61322" y="20200"/>
                </a:lnTo>
                <a:lnTo>
                  <a:pt x="61322" y="1400"/>
                </a:lnTo>
                <a:close/>
              </a:path>
              <a:path fill="darkenLess" w="62722" h="21600">
                <a:moveTo>
                  <a:pt x="62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322" y="20200"/>
                </a:lnTo>
                <a:close/>
              </a:path>
              <a:path fill="lighten" w="62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merk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5174" t="7672" r="25095" b="5704"/>
          <a:stretch/>
        </p:blipFill>
        <p:spPr>
          <a:xfrm>
            <a:off x="0" y="0"/>
            <a:ext cx="4716360" cy="3294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3924360" y="6383160"/>
            <a:ext cx="696960" cy="368280"/>
          </a:xfrm>
          <a:prstGeom prst="rect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5435640" y="6742080"/>
            <a:ext cx="2089080" cy="1800"/>
          </a:xfrm>
          <a:prstGeom prst="line">
            <a:avLst/>
          </a:prstGeom>
          <a:ln w="28440">
            <a:solidFill>
              <a:srgbClr val="a4706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4" descr=""/>
          <p:cNvPicPr/>
          <p:nvPr/>
        </p:nvPicPr>
        <p:blipFill>
          <a:blip r:embed="rId2"/>
          <a:stretch/>
        </p:blipFill>
        <p:spPr>
          <a:xfrm>
            <a:off x="5251320" y="6238800"/>
            <a:ext cx="2487600" cy="365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01" dur="20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5111640" y="981000"/>
            <a:ext cx="38530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ufgabe 2. </a:t>
            </a:r>
            <a:br>
              <a:rPr sz="1800"/>
            </a:b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chauen Sie das Foto 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2">
            <a:hlinkClick r:id="" action="ppaction://hlinkshowjump?jump=nextslide"/>
          </p:cNvPr>
          <p:cNvSpPr/>
          <p:nvPr/>
        </p:nvSpPr>
        <p:spPr>
          <a:xfrm>
            <a:off x="8317080" y="6597720"/>
            <a:ext cx="826920" cy="260280"/>
          </a:xfrm>
          <a:custGeom>
            <a:avLst/>
            <a:gdLst>
              <a:gd name="textAreaLeft" fmla="*/ 16560 w 826920"/>
              <a:gd name="textAreaRight" fmla="*/ 810360 w 8269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68559" h="21600">
                <a:moveTo>
                  <a:pt x="0" y="0"/>
                </a:moveTo>
                <a:lnTo>
                  <a:pt x="68559" y="0"/>
                </a:lnTo>
                <a:lnTo>
                  <a:pt x="68559" y="21600"/>
                </a:lnTo>
                <a:lnTo>
                  <a:pt x="0" y="21600"/>
                </a:lnTo>
                <a:close/>
              </a:path>
              <a:path fill="lightenLess" w="68559" h="21600">
                <a:moveTo>
                  <a:pt x="0" y="0"/>
                </a:moveTo>
                <a:lnTo>
                  <a:pt x="68559" y="0"/>
                </a:lnTo>
                <a:lnTo>
                  <a:pt x="67159" y="1400"/>
                </a:lnTo>
                <a:lnTo>
                  <a:pt x="1400" y="1400"/>
                </a:lnTo>
                <a:close/>
              </a:path>
              <a:path fill="darken" w="68559" h="21600">
                <a:moveTo>
                  <a:pt x="68559" y="0"/>
                </a:moveTo>
                <a:lnTo>
                  <a:pt x="68559" y="21600"/>
                </a:lnTo>
                <a:lnTo>
                  <a:pt x="67159" y="20200"/>
                </a:lnTo>
                <a:lnTo>
                  <a:pt x="67159" y="1400"/>
                </a:lnTo>
                <a:close/>
              </a:path>
              <a:path fill="darkenLess" w="68559" h="21600">
                <a:moveTo>
                  <a:pt x="685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59" y="20200"/>
                </a:lnTo>
                <a:close/>
              </a:path>
              <a:path fill="lighten" w="685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8101080" y="0"/>
            <a:ext cx="1042920" cy="260280"/>
          </a:xfrm>
          <a:custGeom>
            <a:avLst/>
            <a:gdLst>
              <a:gd name="textAreaLeft" fmla="*/ 16560 w 1042920"/>
              <a:gd name="textAreaRight" fmla="*/ 1026360 w 10429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86460" h="21600">
                <a:moveTo>
                  <a:pt x="0" y="0"/>
                </a:moveTo>
                <a:lnTo>
                  <a:pt x="86460" y="0"/>
                </a:lnTo>
                <a:lnTo>
                  <a:pt x="86460" y="21600"/>
                </a:lnTo>
                <a:lnTo>
                  <a:pt x="0" y="21600"/>
                </a:lnTo>
                <a:close/>
              </a:path>
              <a:path fill="lightenLess" w="86460" h="21600">
                <a:moveTo>
                  <a:pt x="0" y="0"/>
                </a:moveTo>
                <a:lnTo>
                  <a:pt x="86460" y="0"/>
                </a:lnTo>
                <a:lnTo>
                  <a:pt x="85060" y="1400"/>
                </a:lnTo>
                <a:lnTo>
                  <a:pt x="1400" y="1400"/>
                </a:lnTo>
                <a:close/>
              </a:path>
              <a:path fill="darken" w="86460" h="21600">
                <a:moveTo>
                  <a:pt x="86460" y="0"/>
                </a:moveTo>
                <a:lnTo>
                  <a:pt x="86460" y="21600"/>
                </a:lnTo>
                <a:lnTo>
                  <a:pt x="85060" y="20200"/>
                </a:lnTo>
                <a:lnTo>
                  <a:pt x="85060" y="1400"/>
                </a:lnTo>
                <a:close/>
              </a:path>
              <a:path fill="darkenLess" w="86460" h="21600">
                <a:moveTo>
                  <a:pt x="864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60" y="20200"/>
                </a:lnTo>
                <a:close/>
              </a:path>
              <a:path fill="lighten" w="864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79280" y="3284640"/>
            <a:ext cx="8785440" cy="28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ie haben vor, ein paar Sportschuhe in einem Online-Shop zu kaufen. Sie rufen um einige Erläuterungen. In 1,5 Minuten sollen Sie  fünf Fragen stellen, um  Folgendes herauszufinde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5) Möglichkeit zur Rückkehr Schuhe im Falle der falschen Größ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ie haben 20 Sekunden  für jede Fr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8101080" y="333360"/>
            <a:ext cx="1042920" cy="260280"/>
          </a:xfrm>
          <a:custGeom>
            <a:avLst/>
            <a:gdLst>
              <a:gd name="textAreaLeft" fmla="*/ 16560 w 1042920"/>
              <a:gd name="textAreaRight" fmla="*/ 1026360 w 10429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86460" h="21600">
                <a:moveTo>
                  <a:pt x="0" y="0"/>
                </a:moveTo>
                <a:lnTo>
                  <a:pt x="86460" y="0"/>
                </a:lnTo>
                <a:lnTo>
                  <a:pt x="86460" y="21600"/>
                </a:lnTo>
                <a:lnTo>
                  <a:pt x="0" y="21600"/>
                </a:lnTo>
                <a:close/>
              </a:path>
              <a:path fill="lightenLess" w="86460" h="21600">
                <a:moveTo>
                  <a:pt x="0" y="0"/>
                </a:moveTo>
                <a:lnTo>
                  <a:pt x="86460" y="0"/>
                </a:lnTo>
                <a:lnTo>
                  <a:pt x="85060" y="1400"/>
                </a:lnTo>
                <a:lnTo>
                  <a:pt x="1400" y="1400"/>
                </a:lnTo>
                <a:close/>
              </a:path>
              <a:path fill="darken" w="86460" h="21600">
                <a:moveTo>
                  <a:pt x="86460" y="0"/>
                </a:moveTo>
                <a:lnTo>
                  <a:pt x="86460" y="21600"/>
                </a:lnTo>
                <a:lnTo>
                  <a:pt x="85060" y="20200"/>
                </a:lnTo>
                <a:lnTo>
                  <a:pt x="85060" y="1400"/>
                </a:lnTo>
                <a:close/>
              </a:path>
              <a:path fill="darkenLess" w="86460" h="21600">
                <a:moveTo>
                  <a:pt x="864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60" y="20200"/>
                </a:lnTo>
                <a:close/>
              </a:path>
              <a:path fill="lighten" w="864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merk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rcRect l="5174" t="7672" r="25095" b="5704"/>
          <a:stretch/>
        </p:blipFill>
        <p:spPr>
          <a:xfrm>
            <a:off x="0" y="0"/>
            <a:ext cx="4716360" cy="3294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7"/>
          <p:cNvSpPr/>
          <p:nvPr/>
        </p:nvSpPr>
        <p:spPr>
          <a:xfrm>
            <a:off x="3924360" y="6383160"/>
            <a:ext cx="696960" cy="368280"/>
          </a:xfrm>
          <a:prstGeom prst="rect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5435640" y="6742080"/>
            <a:ext cx="2089080" cy="1800"/>
          </a:xfrm>
          <a:prstGeom prst="line">
            <a:avLst/>
          </a:prstGeom>
          <a:ln w="28440">
            <a:solidFill>
              <a:srgbClr val="a4706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4" descr=""/>
          <p:cNvPicPr/>
          <p:nvPr/>
        </p:nvPicPr>
        <p:blipFill>
          <a:blip r:embed="rId2"/>
          <a:stretch/>
        </p:blipFill>
        <p:spPr>
          <a:xfrm>
            <a:off x="5251320" y="6238800"/>
            <a:ext cx="2487600" cy="365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2" dur="20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324000" y="0"/>
            <a:ext cx="7848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Task 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Imagine that you took part in a number of community service projects. Choose one photo to present to your frien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2">
            <a:hlinkClick r:id="" action="ppaction://hlinkshowjump?jump=nextslide"/>
          </p:cNvPr>
          <p:cNvSpPr/>
          <p:nvPr/>
        </p:nvSpPr>
        <p:spPr>
          <a:xfrm>
            <a:off x="8532720" y="6597720"/>
            <a:ext cx="611280" cy="260280"/>
          </a:xfrm>
          <a:custGeom>
            <a:avLst/>
            <a:gdLst>
              <a:gd name="textAreaLeft" fmla="*/ 16560 w 611280"/>
              <a:gd name="textAreaRight" fmla="*/ 594720 w 611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0688" h="21600">
                <a:moveTo>
                  <a:pt x="0" y="0"/>
                </a:moveTo>
                <a:lnTo>
                  <a:pt x="50688" y="0"/>
                </a:lnTo>
                <a:lnTo>
                  <a:pt x="50688" y="21600"/>
                </a:lnTo>
                <a:lnTo>
                  <a:pt x="0" y="21600"/>
                </a:lnTo>
                <a:close/>
              </a:path>
              <a:path fill="lightenLess" w="50688" h="21600">
                <a:moveTo>
                  <a:pt x="0" y="0"/>
                </a:moveTo>
                <a:lnTo>
                  <a:pt x="50688" y="0"/>
                </a:lnTo>
                <a:lnTo>
                  <a:pt x="49288" y="1400"/>
                </a:lnTo>
                <a:lnTo>
                  <a:pt x="1400" y="1400"/>
                </a:lnTo>
                <a:close/>
              </a:path>
              <a:path fill="darken" w="50688" h="21600">
                <a:moveTo>
                  <a:pt x="50688" y="0"/>
                </a:moveTo>
                <a:lnTo>
                  <a:pt x="50688" y="21600"/>
                </a:lnTo>
                <a:lnTo>
                  <a:pt x="49288" y="20200"/>
                </a:lnTo>
                <a:lnTo>
                  <a:pt x="49288" y="1400"/>
                </a:lnTo>
                <a:close/>
              </a:path>
              <a:path fill="darkenLess" w="50688" h="21600">
                <a:moveTo>
                  <a:pt x="50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288" y="20200"/>
                </a:lnTo>
                <a:close/>
              </a:path>
              <a:path fill="lighten" w="50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8459640" y="0"/>
            <a:ext cx="684360" cy="260280"/>
          </a:xfrm>
          <a:custGeom>
            <a:avLst/>
            <a:gdLst>
              <a:gd name="textAreaLeft" fmla="*/ 16560 w 684360"/>
              <a:gd name="textAreaRight" fmla="*/ 667800 w 684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6745" h="21600">
                <a:moveTo>
                  <a:pt x="0" y="0"/>
                </a:moveTo>
                <a:lnTo>
                  <a:pt x="56745" y="0"/>
                </a:lnTo>
                <a:lnTo>
                  <a:pt x="56745" y="21600"/>
                </a:lnTo>
                <a:lnTo>
                  <a:pt x="0" y="21600"/>
                </a:lnTo>
                <a:close/>
              </a:path>
              <a:path fill="lightenLess" w="56745" h="21600">
                <a:moveTo>
                  <a:pt x="0" y="0"/>
                </a:moveTo>
                <a:lnTo>
                  <a:pt x="56745" y="0"/>
                </a:lnTo>
                <a:lnTo>
                  <a:pt x="55345" y="1400"/>
                </a:lnTo>
                <a:lnTo>
                  <a:pt x="1400" y="1400"/>
                </a:lnTo>
                <a:close/>
              </a:path>
              <a:path fill="darken" w="56745" h="21600">
                <a:moveTo>
                  <a:pt x="56745" y="0"/>
                </a:moveTo>
                <a:lnTo>
                  <a:pt x="56745" y="21600"/>
                </a:lnTo>
                <a:lnTo>
                  <a:pt x="55345" y="20200"/>
                </a:lnTo>
                <a:lnTo>
                  <a:pt x="55345" y="1400"/>
                </a:lnTo>
                <a:close/>
              </a:path>
              <a:path fill="darkenLess" w="56745" h="21600">
                <a:moveTo>
                  <a:pt x="56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45" y="20200"/>
                </a:lnTo>
                <a:close/>
              </a:path>
              <a:path fill="lighten" w="56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79280" y="3716280"/>
            <a:ext cx="87854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You will have to start speaking in 1.5 minut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and will speak for not more than 2 minut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In your talk remember to speak about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363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when you took the phot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363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what/who is in the phot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363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what is happen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363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why you took the phot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363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why you decided to show the picture to your frie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You have to talk continuously, starting with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I’ve chosen photo number …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8459640" y="333360"/>
            <a:ext cx="684360" cy="260280"/>
          </a:xfrm>
          <a:custGeom>
            <a:avLst/>
            <a:gdLst>
              <a:gd name="textAreaLeft" fmla="*/ 16560 w 684360"/>
              <a:gd name="textAreaRight" fmla="*/ 667800 w 684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6745" h="21600">
                <a:moveTo>
                  <a:pt x="0" y="0"/>
                </a:moveTo>
                <a:lnTo>
                  <a:pt x="56745" y="0"/>
                </a:lnTo>
                <a:lnTo>
                  <a:pt x="56745" y="21600"/>
                </a:lnTo>
                <a:lnTo>
                  <a:pt x="0" y="21600"/>
                </a:lnTo>
                <a:close/>
              </a:path>
              <a:path fill="lightenLess" w="56745" h="21600">
                <a:moveTo>
                  <a:pt x="0" y="0"/>
                </a:moveTo>
                <a:lnTo>
                  <a:pt x="56745" y="0"/>
                </a:lnTo>
                <a:lnTo>
                  <a:pt x="55345" y="1400"/>
                </a:lnTo>
                <a:lnTo>
                  <a:pt x="1400" y="1400"/>
                </a:lnTo>
                <a:close/>
              </a:path>
              <a:path fill="darken" w="56745" h="21600">
                <a:moveTo>
                  <a:pt x="56745" y="0"/>
                </a:moveTo>
                <a:lnTo>
                  <a:pt x="56745" y="21600"/>
                </a:lnTo>
                <a:lnTo>
                  <a:pt x="55345" y="20200"/>
                </a:lnTo>
                <a:lnTo>
                  <a:pt x="55345" y="1400"/>
                </a:lnTo>
                <a:close/>
              </a:path>
              <a:path fill="darkenLess" w="56745" h="21600">
                <a:moveTo>
                  <a:pt x="56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45" y="20200"/>
                </a:lnTo>
                <a:close/>
              </a:path>
              <a:path fill="lighten" w="56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d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4284720" y="620640"/>
            <a:ext cx="3922560" cy="2943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3"/>
          <a:stretch/>
        </p:blipFill>
        <p:spPr>
          <a:xfrm>
            <a:off x="5940360" y="3583080"/>
            <a:ext cx="3203640" cy="24019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9"/>
          <p:cNvSpPr/>
          <p:nvPr/>
        </p:nvSpPr>
        <p:spPr>
          <a:xfrm>
            <a:off x="395280" y="6381720"/>
            <a:ext cx="3168720" cy="287280"/>
          </a:xfrm>
          <a:custGeom>
            <a:avLst/>
            <a:gdLst>
              <a:gd name="textAreaLeft" fmla="*/ 18360 w 3168720"/>
              <a:gd name="textAreaRight" fmla="*/ 3150360 w 316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37978" h="21600">
                <a:moveTo>
                  <a:pt x="0" y="0"/>
                </a:moveTo>
                <a:lnTo>
                  <a:pt x="237978" y="0"/>
                </a:lnTo>
                <a:lnTo>
                  <a:pt x="237978" y="21600"/>
                </a:lnTo>
                <a:lnTo>
                  <a:pt x="0" y="21600"/>
                </a:lnTo>
                <a:close/>
              </a:path>
              <a:path fill="lightenLess" w="237978" h="21600">
                <a:moveTo>
                  <a:pt x="0" y="0"/>
                </a:moveTo>
                <a:lnTo>
                  <a:pt x="237978" y="0"/>
                </a:lnTo>
                <a:lnTo>
                  <a:pt x="236579" y="1400"/>
                </a:lnTo>
                <a:lnTo>
                  <a:pt x="1400" y="1400"/>
                </a:lnTo>
                <a:close/>
              </a:path>
              <a:path fill="darken" w="237978" h="21600">
                <a:moveTo>
                  <a:pt x="237978" y="0"/>
                </a:moveTo>
                <a:lnTo>
                  <a:pt x="237978" y="21600"/>
                </a:lnTo>
                <a:lnTo>
                  <a:pt x="236579" y="20200"/>
                </a:lnTo>
                <a:lnTo>
                  <a:pt x="236579" y="1400"/>
                </a:lnTo>
                <a:close/>
              </a:path>
              <a:path fill="darkenLess" w="237978" h="21600">
                <a:moveTo>
                  <a:pt x="237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79" y="20200"/>
                </a:lnTo>
                <a:close/>
              </a:path>
              <a:path fill="lighten" w="237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5 minute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prep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250920" y="6742080"/>
            <a:ext cx="3457440" cy="1800"/>
          </a:xfrm>
          <a:prstGeom prst="line">
            <a:avLst/>
          </a:prstGeom>
          <a:ln w="28440">
            <a:solidFill>
              <a:srgbClr val="a4706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3924360" y="6383160"/>
            <a:ext cx="696960" cy="368280"/>
          </a:xfrm>
          <a:prstGeom prst="rect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5076720" y="6381720"/>
            <a:ext cx="3167280" cy="287280"/>
          </a:xfrm>
          <a:custGeom>
            <a:avLst/>
            <a:gdLst>
              <a:gd name="textAreaLeft" fmla="*/ 18360 w 3167280"/>
              <a:gd name="textAreaRight" fmla="*/ 3148920 w 316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37870" h="21600">
                <a:moveTo>
                  <a:pt x="0" y="0"/>
                </a:moveTo>
                <a:lnTo>
                  <a:pt x="237870" y="0"/>
                </a:lnTo>
                <a:lnTo>
                  <a:pt x="237870" y="21600"/>
                </a:lnTo>
                <a:lnTo>
                  <a:pt x="0" y="21600"/>
                </a:lnTo>
                <a:close/>
              </a:path>
              <a:path fill="lightenLess" w="237870" h="21600">
                <a:moveTo>
                  <a:pt x="0" y="0"/>
                </a:moveTo>
                <a:lnTo>
                  <a:pt x="237870" y="0"/>
                </a:lnTo>
                <a:lnTo>
                  <a:pt x="236470" y="1400"/>
                </a:lnTo>
                <a:lnTo>
                  <a:pt x="1400" y="1400"/>
                </a:lnTo>
                <a:close/>
              </a:path>
              <a:path fill="darken" w="237870" h="21600">
                <a:moveTo>
                  <a:pt x="237870" y="0"/>
                </a:moveTo>
                <a:lnTo>
                  <a:pt x="237870" y="21600"/>
                </a:lnTo>
                <a:lnTo>
                  <a:pt x="236470" y="20200"/>
                </a:lnTo>
                <a:lnTo>
                  <a:pt x="236470" y="1400"/>
                </a:lnTo>
                <a:close/>
              </a:path>
              <a:path fill="darkenLess" w="237870" h="21600">
                <a:moveTo>
                  <a:pt x="237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470" y="20200"/>
                </a:lnTo>
                <a:close/>
              </a:path>
              <a:path fill="lighten" w="237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minute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spe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4932360" y="6742080"/>
            <a:ext cx="3456000" cy="1800"/>
          </a:xfrm>
          <a:prstGeom prst="line">
            <a:avLst/>
          </a:prstGeom>
          <a:ln w="28440">
            <a:solidFill>
              <a:srgbClr val="a4706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par>
              <p:cTn id="128" nodeType="interactiveSeq" fill="hold">
                <p:childTnLst>
                  <p:par>
                    <p:cTn id="129" fill="hold"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2" dur="90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34" nodeType="interactiveSeq" fill="hold">
                <p:childTnLst>
                  <p:par>
                    <p:cTn id="135" fill="hold"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3" dur="120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20000"/>
                            </p:stCondLst>
                            <p:childTnLst>
                              <p:par>
                                <p:cTn id="146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22:37:57Z</dcterms:created>
  <dc:creator>Dmitriy Klimentyev</dc:creator>
  <dc:description/>
  <dc:language>en-US</dc:language>
  <cp:lastModifiedBy>меседо</cp:lastModifiedBy>
  <dcterms:modified xsi:type="dcterms:W3CDTF">2015-04-15T17:53:58Z</dcterms:modified>
  <cp:revision>80</cp:revision>
  <dc:subject/>
  <dc:title>Слайд 1</dc:title>
</cp:coreProperties>
</file>