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2C9-70C0-4B0B-9B4B-EDC2EF0E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2E8-4A6A-40DF-A2F0-1BE72BA4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3AD-464A-4E0A-ADB9-1921B94E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B60-4359-428A-B57A-05D1D838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3CB-0A6B-4AEB-8BB5-61102A1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26F-2E24-4F58-AA3A-B97DB66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324-D9CD-481C-93D4-A735D310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A42-C623-4272-9D0C-8CE997B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EE1-7626-487B-8373-F79B24DD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8BA-F1C0-4265-ACD7-B7B2DD9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F35-C1BE-4F9B-A763-CC94A51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E02-F98D-4582-835C-0ECEF44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BFE7-23A3-4B65-B9BD-C0DE0D1AF2A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AA0-F042-4C3B-B9D0-4DE9F0C0E1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ency.info/images/iskusstvo/hr.jpg" TargetMode="External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uzei-mira.com/templates/museum/images/paint/naturmort-baskines+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84360" y="2462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втори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9200" y="938160"/>
            <a:ext cx="489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натюрм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главное отличие натюрморта от других жанров живопи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ози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Прави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ления натюрм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иды натюрморта вы можете наз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Натюрмор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1268280"/>
            <a:ext cx="3457440" cy="3745080"/>
          </a:xfrm>
          <a:prstGeom prst="rect">
            <a:avLst/>
          </a:prstGeom>
          <a:ln w="0">
            <a:noFill/>
          </a:ln>
        </p:spPr>
      </p:pic>
      <p:sp>
        <p:nvSpPr>
          <p:cNvPr id="45" name="Управляющая кнопка: далее 2">
            <a:hlinkClick r:id="rId4" action="ppaction://hlinksldjump"/>
          </p:cNvPr>
          <p:cNvSpPr/>
          <p:nvPr/>
        </p:nvSpPr>
        <p:spPr>
          <a:xfrm>
            <a:off x="7524720" y="6108840"/>
            <a:ext cx="1008000" cy="560160"/>
          </a:xfrm>
          <a:custGeom>
            <a:avLst/>
            <a:gdLst>
              <a:gd name="textAreaLeft" fmla="*/ 36000 w 1008000"/>
              <a:gd name="textAreaRight" fmla="*/ 972000 w 1008000"/>
              <a:gd name="textAreaTop" fmla="*/ 36000 h 560160"/>
              <a:gd name="textAreaBottom" fmla="*/ 524160 h 560160"/>
            </a:gdLst>
            <a:ahLst/>
            <a:rect l="textAreaLeft" t="textAreaTop" r="textAreaRight" b="textAreaBottom"/>
            <a:pathLst>
              <a:path w="38858" h="21600">
                <a:moveTo>
                  <a:pt x="0" y="0"/>
                </a:moveTo>
                <a:lnTo>
                  <a:pt x="38858" y="0"/>
                </a:lnTo>
                <a:lnTo>
                  <a:pt x="38858" y="21600"/>
                </a:lnTo>
                <a:lnTo>
                  <a:pt x="0" y="21600"/>
                </a:lnTo>
                <a:close/>
              </a:path>
              <a:path fill="lightenLess" w="38858" h="21600">
                <a:moveTo>
                  <a:pt x="0" y="0"/>
                </a:moveTo>
                <a:lnTo>
                  <a:pt x="38858" y="0"/>
                </a:lnTo>
                <a:lnTo>
                  <a:pt x="37458" y="1400"/>
                </a:lnTo>
                <a:lnTo>
                  <a:pt x="1400" y="1400"/>
                </a:lnTo>
                <a:close/>
              </a:path>
              <a:path fill="darken" w="38858" h="21600">
                <a:moveTo>
                  <a:pt x="38858" y="0"/>
                </a:moveTo>
                <a:lnTo>
                  <a:pt x="38858" y="21600"/>
                </a:lnTo>
                <a:lnTo>
                  <a:pt x="37458" y="20200"/>
                </a:lnTo>
                <a:lnTo>
                  <a:pt x="37458" y="1400"/>
                </a:lnTo>
                <a:close/>
              </a:path>
              <a:path fill="darkenLess" w="38858" h="21600">
                <a:moveTo>
                  <a:pt x="38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58" y="20200"/>
                </a:lnTo>
                <a:close/>
              </a:path>
              <a:path fill="lighten" w="38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58" h="21600">
                <a:moveTo>
                  <a:pt x="12422" y="3794"/>
                </a:moveTo>
                <a:lnTo>
                  <a:pt x="26435" y="10800"/>
                </a:lnTo>
                <a:lnTo>
                  <a:pt x="12422" y="17806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 (459x699, 62Kb)"/>
          <p:cNvPicPr/>
          <p:nvPr/>
        </p:nvPicPr>
        <p:blipFill>
          <a:blip r:embed="rId1"/>
          <a:stretch/>
        </p:blipFill>
        <p:spPr>
          <a:xfrm>
            <a:off x="900000" y="85680"/>
            <a:ext cx="4372200" cy="6658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5580000" y="4065480"/>
            <a:ext cx="33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ЗЫКА В НАТЮРМОРТАХ УИЛЬЯМА МАЙКЛА ХАРНЕ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5844600" y="50324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I848 - I89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4920" y="5631120"/>
            <a:ext cx="85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юрморт с музыкальными инструментами, Эваристо Баскенис, 16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Описание: Натюрморт с музыкальными инструментами, Эваристо Баскенис, 16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82600"/>
            <a:ext cx="5902560" cy="5313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Натюрморт с музыкальными инструментами, Добрынченко Светлана, 15лет..пед, Каракуль О.А. ДШИ.им. Р.В.Сердюка, г Керчь"/>
          <p:cNvPicPr/>
          <p:nvPr/>
        </p:nvPicPr>
        <p:blipFill>
          <a:blip r:embed="rId1"/>
          <a:stretch/>
        </p:blipFill>
        <p:spPr>
          <a:xfrm>
            <a:off x="3959280" y="115920"/>
            <a:ext cx="5168880" cy="6626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250920" y="4581360"/>
            <a:ext cx="37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с музыкальными инструментами, Добрынченко Светлана, 15лет.. г Кер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artica-school.ru/images/cms/thumbs/e4418f3fd0bb2c1b29d0ace0351ea26f99969964/0091_auto_auto_jpg.jpg"/>
          <p:cNvPicPr/>
          <p:nvPr/>
        </p:nvPicPr>
        <p:blipFill>
          <a:blip r:embed="rId1"/>
          <a:stretch/>
        </p:blipFill>
        <p:spPr>
          <a:xfrm>
            <a:off x="395280" y="260280"/>
            <a:ext cx="4753080" cy="65325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5292720" y="4433760"/>
            <a:ext cx="370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академический 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атюрморт с книгами и домброй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а,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900000" y="119700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Натюрморт с музыкальными инструмент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324000" y="386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для 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здать эскиз натюрм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1200" y="188640"/>
            <a:ext cx="8362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Последовательность выполнения натюрмо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14400" y="1052640"/>
            <a:ext cx="91440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 работа проходила успешно, необходимо соблюдать следующие стад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варительный анализ постанов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зиционное размещение изображения на листе бума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 характера формы предметов и их пропор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ивный анализ формы предметов и перспективное построение изображения на плоск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 объема предметов средствами светот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альная прорисовка формы предме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 — подведение итогов работы над рисун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643280" y="602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0520" y="765000"/>
            <a:ext cx="9151920" cy="594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587600" y="2746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мя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116000" y="404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дведем итог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26920" y="1557360"/>
            <a:ext cx="77774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ового вы узнали о натюрмор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трудностями вы встретились во время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на практике вы можете применить умение составлять натюрмор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5680" y="1413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ть работу над натюрмор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Символы и их значение в натюрмортах с музыкальными инструмен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ые Интернет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62828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оздова С. Б. Изобразительное искусство. 6 класс: Поурочные планы по учебнику В. С. Кузина./ – Волгоград: Учитель - АСТ,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кольникова, В. С., Кузин, В. С., Кубышкина, Э. И. Изобразительное искусство: учебник для учащихся 5–8 классов: в 4 частях: Рисунок. Живопись. Композиция. Краткий словарь художественных терминов. – Обнинск: Титул, 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tilleben.narod.ru/gal8/1_1_65-12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0.liveinternet.ru/images/attach/b/3/28/363/28363925_1215117522_YEvaristo_Baskenis__Muzuykal_nuye_instrumentu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3.photosight.ru/a7e/2984185_large.jp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tilleben.narod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rustrana.ru/articles/19719/pln_nsb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http://ppt4web.ru/images/73/11830/640/img18.jpg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36440" y="1197000"/>
            <a:ext cx="8791560" cy="5533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ой натюрморт является тематическ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449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тюрморт с инструмен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инаиды Сотиной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Натюрморт с инструментами"/>
          <p:cNvPicPr/>
          <p:nvPr/>
        </p:nvPicPr>
        <p:blipFill>
          <a:blip r:embed="rId1"/>
          <a:stretch/>
        </p:blipFill>
        <p:spPr>
          <a:xfrm>
            <a:off x="1403280" y="404640"/>
            <a:ext cx="6121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http://www.neizvestniy-geniy.ru/images/works/photo/2013/12/1089552_1.jpg"/>
          <p:cNvPicPr/>
          <p:nvPr/>
        </p:nvPicPr>
        <p:blipFill>
          <a:blip r:embed="rId1"/>
          <a:stretch/>
        </p:blipFill>
        <p:spPr>
          <a:xfrm>
            <a:off x="1619280" y="1268280"/>
            <a:ext cx="5977080" cy="460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755640" y="4190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авайте определим тему этого натюрм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05928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144440" y="10717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атюрм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 музыкальными инструм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116000" y="549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http://f.mypage.ru/1f3de43c56f77999d7669817e44454c0_79215017327f4c213b50db36c542c595.jpg"/>
          <p:cNvPicPr/>
          <p:nvPr/>
        </p:nvPicPr>
        <p:blipFill>
          <a:blip r:embed="rId1"/>
          <a:stretch/>
        </p:blipFill>
        <p:spPr>
          <a:xfrm>
            <a:off x="3059280" y="2565360"/>
            <a:ext cx="53895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96920" y="34005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ваш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оздать натюрморт, основным мотивом которого будут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музыкальные инстр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http://gozefina2009.narod.ru/GiovanniV98.jpg"/>
          <p:cNvPicPr/>
          <p:nvPr/>
        </p:nvPicPr>
        <p:blipFill>
          <a:blip r:embed="rId1"/>
          <a:stretch/>
        </p:blipFill>
        <p:spPr>
          <a:xfrm>
            <a:off x="4788000" y="3087720"/>
            <a:ext cx="410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95280" y="2602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я  о тематическом натюрморте (с музыкальными инструмент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формирование  умений составления  натюрмортов и их живопис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https://artchive.ru/res/media/img/orig/work/2f6/115391.jpg"/>
          <p:cNvPicPr/>
          <p:nvPr/>
        </p:nvPicPr>
        <p:blipFill>
          <a:blip r:embed="rId1"/>
          <a:stretch/>
        </p:blipFill>
        <p:spPr>
          <a:xfrm>
            <a:off x="1187280" y="892080"/>
            <a:ext cx="7581960" cy="4824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609560" y="5875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тер Кл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юрморт   с музыкальными инструментами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826920" y="115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много истор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 (600x511, 115Kb)"/>
          <p:cNvPicPr/>
          <p:nvPr/>
        </p:nvPicPr>
        <p:blipFill>
          <a:blip r:embed="rId1"/>
          <a:stretch/>
        </p:blipFill>
        <p:spPr>
          <a:xfrm>
            <a:off x="971640" y="260280"/>
            <a:ext cx="6602400" cy="5386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539640" y="5950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ЗЫКА В НАТЮРМОРТАХ УИЛЬЯМА МАЙКЛА ХАРНЕ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795840" y="6323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I848 - I89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2-12T13:55:11Z</dcterms:modified>
  <cp:revision>63</cp:revision>
  <dc:subject/>
  <dc:title>Слайд 1</dc:title>
</cp:coreProperties>
</file>