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C04-8E05-4FDE-8CFE-FCDF1D7E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797-C99B-4D98-9484-DE121B2D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491-22CF-4785-855F-1CC44524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23D-D11A-4CBC-98AC-BE983136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29BF-C929-409D-8F3A-B053235C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9861-F63D-48A5-9BFA-0D81E26C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2E83-D057-4B77-A1D6-C40984A2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7F03-F691-4352-9C11-8EA7CC3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A713-F815-4289-A328-2263172D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4CD7-E19F-4CC4-989E-C5EAEEFE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F45C-FA69-4326-A20F-1A743C90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B93-5D6F-439E-A746-34470827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4041-02B4-4F2F-9625-DA982C94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643B-3957-4954-A8B0-7A24F70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115D-A611-452E-B8A3-87096CF7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B469-22DE-4BB5-868C-BDD44717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614F-2C54-4D74-9055-F86B64EA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AB3C2-B2CC-4997-81C9-9B6EDFF5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19A8-0663-433E-B3E3-771BAA04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591A-7BEC-442F-9899-178AF717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7797-53CB-48BD-A61A-199DB6D6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B7E1-85D3-4AEB-81CE-CF05C668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DC6-5D65-4FAC-B103-D80408F5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D1D3-630C-41E1-AA61-9642F950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ED3A-DADF-4440-89D4-03F9289D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DB80-049C-497A-B3CB-B3A1F151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0EB5C-6EC2-47F0-9CC3-B937A92A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FF30-657B-49DE-B1E4-82DBEF4D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BED92-5729-43A3-8591-6B10C21C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CD73-4813-45A4-A260-26F82261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57DFF-0F9D-4B3C-9E09-F87E4396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A4F20-5D2D-423F-B73A-3B7D2C82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7E1CC-3591-4A36-A329-2AF7763B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39F-E285-4BA5-9834-43603A7A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619AE-F915-4FFC-A629-43685A42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EB5F3-39D5-417D-BBE1-D69E201A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CB681-A298-480B-9A0B-C42109F0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B48D9-9C56-475F-BAB0-AD420355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E73F9-CB62-463E-9B5C-6E4D45B4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A9865-38D8-4DFA-9DE0-7EAE2E87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13895-CE09-431B-83E9-A116EDF6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1BDD0-8313-4279-98D8-86B7BC68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69363-5BCE-4C87-B38F-EBE14B55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6D55F-6CF6-4DF5-8005-DEE0E113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562-44EC-4415-9AE8-5BA8DBDA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B6B1B-1435-426C-AF56-AAC15C4A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B69C1-BF22-4369-B669-052ABED6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2060-395F-41C1-B280-8BB890A0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E0660-42EB-4517-8B47-B6D28094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D3117-C643-493A-A76A-A05DED2F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E2AAB-E452-488E-AD9D-01EEFAD2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1ABD7-A7BE-47A3-92F5-90861879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F7399-09D7-490E-AAAA-0D1D77FA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C6D7F-7C2E-4B71-8D65-4B855DD3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50E06-FF86-415F-A76B-0CDD491B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644-8714-4AD7-A93D-66891A43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EB2E7-3494-44EE-971B-34910ED9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EEE-D5B5-4F69-BD74-E4552BAB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5C0-E8D0-4A92-B15F-E7134DE1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45B-4CBC-4A0B-80CA-A2EFEBA7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6718-48CD-42E9-A1A0-6EF9FC24B6B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9960-59E7-4B94-A2C3-AE30EAE9074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0064-37EE-4B8F-823B-7528EB84A23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E39E-0B84-42EA-A8A0-19A8F7C0FC3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6682-3C04-49D3-AC22-80F2A3357D4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631280" cy="3584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ислородсодержащие органические соединения- Спирты»</a:t>
            </a:r>
            <a:br>
              <a:rPr sz="40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класс. УМК Габриеляна О.С. </a:t>
            </a:r>
            <a:br>
              <a:rPr sz="28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826920" y="549360"/>
            <a:ext cx="756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33200"/>
            <a:ext cx="9156960" cy="865080"/>
          </a:xfrm>
          <a:prstGeom prst="rect">
            <a:avLst/>
          </a:prstGeom>
          <a:ln w="0">
            <a:noFill/>
          </a:ln>
        </p:spPr>
      </p:pic>
      <p:pic>
        <p:nvPicPr>
          <p:cNvPr id="323" name="TextBox 3" descr=""/>
          <p:cNvPicPr/>
          <p:nvPr/>
        </p:nvPicPr>
        <p:blipFill>
          <a:blip r:embed="rId2"/>
          <a:stretch/>
        </p:blipFill>
        <p:spPr>
          <a:xfrm>
            <a:off x="-6480" y="628560"/>
            <a:ext cx="9156960" cy="6764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3"/>
          <a:stretch/>
        </p:blipFill>
        <p:spPr>
          <a:xfrm>
            <a:off x="1357200" y="1500120"/>
            <a:ext cx="678672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extBox 3" descr=""/>
          <p:cNvPicPr/>
          <p:nvPr/>
        </p:nvPicPr>
        <p:blipFill>
          <a:blip r:embed="rId1"/>
          <a:stretch/>
        </p:blipFill>
        <p:spPr>
          <a:xfrm>
            <a:off x="-6480" y="628560"/>
            <a:ext cx="9156960" cy="676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1285920" y="1428840"/>
            <a:ext cx="624024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9316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1500120" y="1428840"/>
            <a:ext cx="627084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603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214280" y="1428840"/>
            <a:ext cx="624060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extBox 1" descr=""/>
          <p:cNvPicPr/>
          <p:nvPr/>
        </p:nvPicPr>
        <p:blipFill>
          <a:blip r:embed="rId1"/>
          <a:stretch/>
        </p:blipFill>
        <p:spPr>
          <a:xfrm>
            <a:off x="-6480" y="-13320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0" y="3071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0" y="3571920"/>
            <a:ext cx="914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n + 1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леводородный радик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0" y="1285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рганические соединения, в молекулах которых углеводородный радикал связан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ональ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дроксильной групп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идроксо-групп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0" y="5000760"/>
            <a:ext cx="89298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ол (метиловый спир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ол (этиловый спир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13320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216360" y="1571760"/>
            <a:ext cx="4658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4989240" y="1571760"/>
            <a:ext cx="379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6"/>
          <p:cNvSpPr/>
          <p:nvPr/>
        </p:nvSpPr>
        <p:spPr>
          <a:xfrm flipH="1">
            <a:off x="7071840" y="2000160"/>
            <a:ext cx="180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792480" y="2143080"/>
            <a:ext cx="7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0" y="26431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ол – 1                                 Бутанол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0" y="3571920"/>
            <a:ext cx="464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11"/>
          <p:cNvSpPr/>
          <p:nvPr/>
        </p:nvSpPr>
        <p:spPr>
          <a:xfrm flipH="1">
            <a:off x="1212840" y="4002120"/>
            <a:ext cx="144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942120" y="4143240"/>
            <a:ext cx="863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4"/>
          <p:cNvSpPr/>
          <p:nvPr/>
        </p:nvSpPr>
        <p:spPr>
          <a:xfrm>
            <a:off x="4803840" y="4143240"/>
            <a:ext cx="2495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16"/>
          <p:cNvSpPr/>
          <p:nvPr/>
        </p:nvSpPr>
        <p:spPr>
          <a:xfrm flipV="1">
            <a:off x="5929200" y="40003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20"/>
          <p:cNvSpPr/>
          <p:nvPr/>
        </p:nvSpPr>
        <p:spPr>
          <a:xfrm flipV="1">
            <a:off x="5928480" y="4572000"/>
            <a:ext cx="18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1"/>
          <p:cNvSpPr/>
          <p:nvPr/>
        </p:nvSpPr>
        <p:spPr>
          <a:xfrm>
            <a:off x="5720760" y="4714920"/>
            <a:ext cx="7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2"/>
          <p:cNvSpPr/>
          <p:nvPr/>
        </p:nvSpPr>
        <p:spPr>
          <a:xfrm>
            <a:off x="5657040" y="3500280"/>
            <a:ext cx="863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0" y="52149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тилпропанол – 1         2 метилпропанол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5"/>
          <p:cNvSpPr/>
          <p:nvPr/>
        </p:nvSpPr>
        <p:spPr>
          <a:xfrm>
            <a:off x="0" y="6000840"/>
            <a:ext cx="9144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иэтиловый эфи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7"/>
          <p:cNvSpPr/>
          <p:nvPr/>
        </p:nvSpPr>
        <p:spPr>
          <a:xfrm>
            <a:off x="0" y="85716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 формулы изомеров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928800" y="642960"/>
            <a:ext cx="778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изомерии предельных одноатомных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1000080" y="1857240"/>
            <a:ext cx="757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Углеродного скел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Положения функциональной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Межклассовая изомерия с простыми эфи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13320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357200" y="114300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78604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4143240" y="114300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550080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6858000" y="114300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– Н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9"/>
          <p:cNvSpPr/>
          <p:nvPr/>
        </p:nvSpPr>
        <p:spPr>
          <a:xfrm flipV="1">
            <a:off x="57168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3"/>
          <p:cNvSpPr/>
          <p:nvPr/>
        </p:nvSpPr>
        <p:spPr>
          <a:xfrm flipV="1">
            <a:off x="192888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4"/>
          <p:cNvSpPr/>
          <p:nvPr/>
        </p:nvSpPr>
        <p:spPr>
          <a:xfrm flipV="1">
            <a:off x="342900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5"/>
          <p:cNvSpPr/>
          <p:nvPr/>
        </p:nvSpPr>
        <p:spPr>
          <a:xfrm flipV="1">
            <a:off x="4785480" y="1571400"/>
            <a:ext cx="180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 flipV="1">
            <a:off x="6071400" y="1571400"/>
            <a:ext cx="180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 flipV="1">
            <a:off x="7500960" y="1571400"/>
            <a:ext cx="144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361080" y="1785960"/>
            <a:ext cx="4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9"/>
          <p:cNvSpPr/>
          <p:nvPr/>
        </p:nvSpPr>
        <p:spPr>
          <a:xfrm>
            <a:off x="171720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0"/>
          <p:cNvSpPr/>
          <p:nvPr/>
        </p:nvSpPr>
        <p:spPr>
          <a:xfrm>
            <a:off x="3218760" y="1785960"/>
            <a:ext cx="4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1"/>
          <p:cNvSpPr/>
          <p:nvPr/>
        </p:nvSpPr>
        <p:spPr>
          <a:xfrm>
            <a:off x="464616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2"/>
          <p:cNvSpPr/>
          <p:nvPr/>
        </p:nvSpPr>
        <p:spPr>
          <a:xfrm>
            <a:off x="5861880" y="1785960"/>
            <a:ext cx="4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3"/>
          <p:cNvSpPr/>
          <p:nvPr/>
        </p:nvSpPr>
        <p:spPr>
          <a:xfrm>
            <a:off x="736056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4"/>
          <p:cNvSpPr/>
          <p:nvPr/>
        </p:nvSpPr>
        <p:spPr>
          <a:xfrm>
            <a:off x="0" y="3214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представители гомологического ряда предельных одноатомных спиртов (метанол и этанол) очень хорошо  растворяются в воде, так как образую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ородные связ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лекулами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7"/>
          <p:cNvSpPr/>
          <p:nvPr/>
        </p:nvSpPr>
        <p:spPr>
          <a:xfrm>
            <a:off x="0" y="714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свойств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TextBox 8" descr=""/>
          <p:cNvPicPr/>
          <p:nvPr/>
        </p:nvPicPr>
        <p:blipFill>
          <a:blip r:embed="rId1"/>
          <a:stretch/>
        </p:blipFill>
        <p:spPr>
          <a:xfrm>
            <a:off x="-115920" y="1200240"/>
            <a:ext cx="9369360" cy="6476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10" descr=""/>
          <p:cNvPicPr/>
          <p:nvPr/>
        </p:nvPicPr>
        <p:blipFill>
          <a:blip r:embed="rId2"/>
          <a:stretch/>
        </p:blipFill>
        <p:spPr>
          <a:xfrm>
            <a:off x="-6480" y="-13320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2"/>
          <p:cNvSpPr/>
          <p:nvPr/>
        </p:nvSpPr>
        <p:spPr>
          <a:xfrm>
            <a:off x="0" y="3071880"/>
            <a:ext cx="9144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Na  → 2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Na +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13320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2"/>
          <p:cNvSpPr/>
          <p:nvPr/>
        </p:nvSpPr>
        <p:spPr>
          <a:xfrm>
            <a:off x="0" y="714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свой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TextBox 3" descr=""/>
          <p:cNvPicPr/>
          <p:nvPr/>
        </p:nvPicPr>
        <p:blipFill>
          <a:blip r:embed="rId2"/>
          <a:stretch/>
        </p:blipFill>
        <p:spPr>
          <a:xfrm>
            <a:off x="-6480" y="1195560"/>
            <a:ext cx="9156960" cy="6825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0" y="1857240"/>
            <a:ext cx="4286160" cy="24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нутримолеку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1932480" y="314316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Прямая со стрелкой 8"/>
          <p:cNvCxnSpPr/>
          <p:nvPr/>
        </p:nvCxnSpPr>
        <p:spPr>
          <a:xfrm>
            <a:off x="2928600" y="3357720"/>
            <a:ext cx="12150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6" name="TextBox 10"/>
          <p:cNvSpPr/>
          <p:nvPr/>
        </p:nvSpPr>
        <p:spPr>
          <a:xfrm>
            <a:off x="0" y="4000680"/>
            <a:ext cx="528624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жмолеку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 С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Прямая со стрелкой 12"/>
          <p:cNvCxnSpPr/>
          <p:nvPr/>
        </p:nvCxnSpPr>
        <p:spPr>
          <a:xfrm>
            <a:off x="3929040" y="5143680"/>
            <a:ext cx="12153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8" name="Прямоугольник 13"/>
          <p:cNvSpPr/>
          <p:nvPr/>
        </p:nvSpPr>
        <p:spPr>
          <a:xfrm>
            <a:off x="1003680" y="485784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4"/>
          <p:cNvSpPr/>
          <p:nvPr/>
        </p:nvSpPr>
        <p:spPr>
          <a:xfrm>
            <a:off x="2002680" y="48578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1"/>
          <p:cNvSpPr/>
          <p:nvPr/>
        </p:nvSpPr>
        <p:spPr>
          <a:xfrm>
            <a:off x="288360" y="31431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5786280" y="3143160"/>
            <a:ext cx="2643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7"/>
          <p:cNvSpPr/>
          <p:nvPr/>
        </p:nvSpPr>
        <p:spPr>
          <a:xfrm>
            <a:off x="6143760" y="4857840"/>
            <a:ext cx="30002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С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-С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5"/>
          <p:cNvSpPr/>
          <p:nvPr/>
        </p:nvSpPr>
        <p:spPr>
          <a:xfrm>
            <a:off x="4262400" y="3244680"/>
            <a:ext cx="1238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8"/>
          <p:cNvSpPr/>
          <p:nvPr/>
        </p:nvSpPr>
        <p:spPr>
          <a:xfrm>
            <a:off x="5286240" y="4643280"/>
            <a:ext cx="128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45712 -0.00093 E">
                                      <p:cBhvr>
                                        <p:cTn id="192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0.32292 -0.00093 E">
                                      <p:cBhvr>
                                        <p:cTn id="195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0.48733 0.00115 E">
                                      <p:cBhvr>
                                        <p:cTn id="214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34045 0.00115 E">
                                      <p:cBhvr>
                                        <p:cTn id="22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3320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286" name="TextBox 3"/>
          <p:cNvSpPr/>
          <p:nvPr/>
        </p:nvSpPr>
        <p:spPr>
          <a:xfrm>
            <a:off x="0" y="714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свой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TextBox 4" descr=""/>
          <p:cNvPicPr/>
          <p:nvPr/>
        </p:nvPicPr>
        <p:blipFill>
          <a:blip r:embed="rId2"/>
          <a:stretch/>
        </p:blipFill>
        <p:spPr>
          <a:xfrm>
            <a:off x="-6480" y="1195560"/>
            <a:ext cx="9156960" cy="6825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5"/>
          <p:cNvSpPr/>
          <p:nvPr/>
        </p:nvSpPr>
        <p:spPr>
          <a:xfrm>
            <a:off x="0" y="2714760"/>
            <a:ext cx="9144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uO  → 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 + 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7"/>
          <p:cNvSpPr/>
          <p:nvPr/>
        </p:nvSpPr>
        <p:spPr>
          <a:xfrm flipV="1">
            <a:off x="6072120" y="2643120"/>
            <a:ext cx="28584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8"/>
          <p:cNvSpPr/>
          <p:nvPr/>
        </p:nvSpPr>
        <p:spPr>
          <a:xfrm flipV="1">
            <a:off x="6000840" y="2571840"/>
            <a:ext cx="28584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10"/>
          <p:cNvSpPr/>
          <p:nvPr/>
        </p:nvSpPr>
        <p:spPr>
          <a:xfrm>
            <a:off x="6000120" y="3143160"/>
            <a:ext cx="21420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4214880" y="22860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1"/>
          <p:cNvSpPr/>
          <p:nvPr/>
        </p:nvSpPr>
        <p:spPr>
          <a:xfrm>
            <a:off x="6215040" y="2143080"/>
            <a:ext cx="42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2"/>
          <p:cNvSpPr/>
          <p:nvPr/>
        </p:nvSpPr>
        <p:spPr>
          <a:xfrm>
            <a:off x="6143760" y="32860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786200" y="400068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ксу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деги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4"/>
          <p:cNvSpPr/>
          <p:nvPr/>
        </p:nvSpPr>
        <p:spPr>
          <a:xfrm>
            <a:off x="0" y="4143240"/>
            <a:ext cx="32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овый спи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тан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3320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"/>
          <p:cNvSpPr/>
          <p:nvPr/>
        </p:nvSpPr>
        <p:spPr>
          <a:xfrm>
            <a:off x="0" y="714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свой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TextBox 4" descr=""/>
          <p:cNvPicPr/>
          <p:nvPr/>
        </p:nvPicPr>
        <p:blipFill>
          <a:blip r:embed="rId2"/>
          <a:stretch/>
        </p:blipFill>
        <p:spPr>
          <a:xfrm>
            <a:off x="-6480" y="1195560"/>
            <a:ext cx="9156960" cy="682560"/>
          </a:xfrm>
          <a:prstGeom prst="rect">
            <a:avLst/>
          </a:prstGeom>
          <a:ln w="0">
            <a:noFill/>
          </a:ln>
        </p:spPr>
      </p:pic>
      <p:sp>
        <p:nvSpPr>
          <p:cNvPr id="300" name="TextBox 5"/>
          <p:cNvSpPr/>
          <p:nvPr/>
        </p:nvSpPr>
        <p:spPr>
          <a:xfrm>
            <a:off x="0" y="2714760"/>
            <a:ext cx="514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C    +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- R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3857760" y="2357280"/>
            <a:ext cx="15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4"/>
          <p:cNvSpPr/>
          <p:nvPr/>
        </p:nvSpPr>
        <p:spPr>
          <a:xfrm flipV="1">
            <a:off x="1428840" y="250020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 flipV="1">
            <a:off x="1500120" y="257184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17"/>
          <p:cNvSpPr/>
          <p:nvPr/>
        </p:nvSpPr>
        <p:spPr>
          <a:xfrm>
            <a:off x="1428120" y="3143160"/>
            <a:ext cx="21420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9"/>
          <p:cNvSpPr/>
          <p:nvPr/>
        </p:nvSpPr>
        <p:spPr>
          <a:xfrm>
            <a:off x="1643040" y="20718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0"/>
          <p:cNvSpPr/>
          <p:nvPr/>
        </p:nvSpPr>
        <p:spPr>
          <a:xfrm>
            <a:off x="1500120" y="32860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Прямая со стрелкой 22"/>
          <p:cNvCxnSpPr/>
          <p:nvPr/>
        </p:nvCxnSpPr>
        <p:spPr>
          <a:xfrm>
            <a:off x="3929040" y="2857680"/>
            <a:ext cx="10008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Прямая со стрелкой 23"/>
          <p:cNvCxnSpPr/>
          <p:nvPr/>
        </p:nvCxnSpPr>
        <p:spPr>
          <a:xfrm flipH="1" flipV="1">
            <a:off x="3928680" y="2999520"/>
            <a:ext cx="93888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TextBox 26"/>
          <p:cNvSpPr/>
          <p:nvPr/>
        </p:nvSpPr>
        <p:spPr>
          <a:xfrm>
            <a:off x="1500120" y="3286080"/>
            <a:ext cx="85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7"/>
          <p:cNvSpPr/>
          <p:nvPr/>
        </p:nvSpPr>
        <p:spPr>
          <a:xfrm>
            <a:off x="2500200" y="27147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8"/>
          <p:cNvSpPr/>
          <p:nvPr/>
        </p:nvSpPr>
        <p:spPr>
          <a:xfrm>
            <a:off x="285840" y="41432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0"/>
          <p:cNvSpPr/>
          <p:nvPr/>
        </p:nvSpPr>
        <p:spPr>
          <a:xfrm>
            <a:off x="2428920" y="41432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1"/>
          <p:cNvSpPr/>
          <p:nvPr/>
        </p:nvSpPr>
        <p:spPr>
          <a:xfrm>
            <a:off x="6215040" y="40719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й эф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2"/>
          <p:cNvSpPr/>
          <p:nvPr/>
        </p:nvSpPr>
        <p:spPr>
          <a:xfrm>
            <a:off x="0" y="4857840"/>
            <a:ext cx="91440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↔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                 этиловый          этиловый эф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                 уксусной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24"/>
          <p:cNvSpPr/>
          <p:nvPr/>
        </p:nvSpPr>
        <p:spPr>
          <a:xfrm>
            <a:off x="6364080" y="2643120"/>
            <a:ext cx="16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C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5"/>
          <p:cNvSpPr/>
          <p:nvPr/>
        </p:nvSpPr>
        <p:spPr>
          <a:xfrm>
            <a:off x="7786800" y="32860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ая соединительная линия 29"/>
          <p:cNvSpPr/>
          <p:nvPr/>
        </p:nvSpPr>
        <p:spPr>
          <a:xfrm>
            <a:off x="7715160" y="3143160"/>
            <a:ext cx="21456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ая соединительная линия 33"/>
          <p:cNvSpPr/>
          <p:nvPr/>
        </p:nvSpPr>
        <p:spPr>
          <a:xfrm flipV="1">
            <a:off x="7643880" y="242892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34"/>
          <p:cNvSpPr/>
          <p:nvPr/>
        </p:nvSpPr>
        <p:spPr>
          <a:xfrm flipV="1">
            <a:off x="7715160" y="250020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5"/>
          <p:cNvSpPr/>
          <p:nvPr/>
        </p:nvSpPr>
        <p:spPr>
          <a:xfrm>
            <a:off x="7858080" y="20001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6"/>
          <p:cNvSpPr/>
          <p:nvPr/>
        </p:nvSpPr>
        <p:spPr>
          <a:xfrm>
            <a:off x="4857840" y="2643120"/>
            <a:ext cx="121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43073 -0.0824 E">
                                      <p:cBhvr>
                                        <p:cTn id="318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29375 0.00093 E">
                                      <p:cBhvr>
                                        <p:cTn id="320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32:06Z</dcterms:created>
  <dc:creator>Ирина</dc:creator>
  <dc:description/>
  <dc:language>en-US</dc:language>
  <cp:lastModifiedBy>яна</cp:lastModifiedBy>
  <dcterms:modified xsi:type="dcterms:W3CDTF">2017-06-22T19:00:00Z</dcterms:modified>
  <cp:revision>93</cp:revision>
  <dc:subject/>
  <dc:title>Слайд 1</dc:title>
</cp:coreProperties>
</file>