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D2A1-3E3F-4CE9-9585-421203BAE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9E28-8A1B-4335-BE05-407E4D2E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4D9B-02CF-42C7-9A2F-CAE467B4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4DC4-EA9C-450A-96AA-2ABA2E525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9169-EB06-4FC8-97B8-1287E5DB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D963-A177-47A9-9B77-43B767EF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7204-969A-4819-AFD3-E6081E9A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1E26-85AF-4358-AC43-1A9905C2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6CA6-1265-42A0-B45D-941CBE9F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2F53-C26B-485B-92BB-51F680B9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1D4F-BA79-469E-8994-538D87CE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2971-0AEF-4027-988A-61FB377F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E7E1-264A-4935-887A-7E58B2A9092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50b2f"/>
                </a:solidFill>
                <a:latin typeface="Tahoma"/>
              </a:rPr>
              <a:t>Основные показания к реанимации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583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Потеря созн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Отсутствует пульс на сонных артерия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Расширенные зрач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Отсутствие реакции зрачков на св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Судорожное или поверхностное дыхание или его отсутств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4" descr="Изображение 043"/>
          <p:cNvPicPr/>
          <p:nvPr/>
        </p:nvPicPr>
        <p:blipFill>
          <a:blip r:embed="rId1"/>
          <a:stretch/>
        </p:blipFill>
        <p:spPr>
          <a:xfrm>
            <a:off x="6804000" y="2276640"/>
            <a:ext cx="1828800" cy="2732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50b2f"/>
                </a:solidFill>
                <a:latin typeface="Tahoma"/>
              </a:rPr>
              <a:t>Возможные ошибки при проведении наружного массажа сердц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Tahoma"/>
              </a:rPr>
              <a:t>Неправильное положение рук на грудине может привести к перелому ребе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Tahoma"/>
              </a:rPr>
              <a:t>Недостаточная глубина прогибания груди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Tahoma"/>
              </a:rPr>
              <a:t>Недостаточно мощный, короткий толч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Tahoma"/>
              </a:rPr>
              <a:t>Не ослаблен поя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8244000" y="5516640"/>
            <a:ext cx="610920" cy="1042920"/>
          </a:xfrm>
          <a:custGeom>
            <a:avLst/>
            <a:gdLst>
              <a:gd name="textAreaLeft" fmla="*/ 39600 w 610920"/>
              <a:gd name="textAreaRight" fmla="*/ 571320 w 610920"/>
              <a:gd name="textAreaTop" fmla="*/ 39600 h 1042920"/>
              <a:gd name="textAreaBottom" fmla="*/ 1003320 h 1042920"/>
            </a:gdLst>
            <a:ahLst/>
            <a:rect l="textAreaLeft" t="textAreaTop" r="textAreaRight" b="textAreaBottom"/>
            <a:pathLst>
              <a:path w="21600" h="36865">
                <a:moveTo>
                  <a:pt x="0" y="0"/>
                </a:moveTo>
                <a:lnTo>
                  <a:pt x="21600" y="0"/>
                </a:lnTo>
                <a:lnTo>
                  <a:pt x="21600" y="36865"/>
                </a:lnTo>
                <a:lnTo>
                  <a:pt x="0" y="36865"/>
                </a:lnTo>
                <a:close/>
              </a:path>
              <a:path fill="lightenLess" w="21600" h="368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865">
                <a:moveTo>
                  <a:pt x="21600" y="0"/>
                </a:moveTo>
                <a:lnTo>
                  <a:pt x="21600" y="36865"/>
                </a:lnTo>
                <a:lnTo>
                  <a:pt x="20200" y="35465"/>
                </a:lnTo>
                <a:lnTo>
                  <a:pt x="20200" y="1400"/>
                </a:lnTo>
                <a:close/>
              </a:path>
              <a:path fill="darkenLess" w="21600" h="36865">
                <a:moveTo>
                  <a:pt x="21600" y="36865"/>
                </a:moveTo>
                <a:lnTo>
                  <a:pt x="0" y="36865"/>
                </a:lnTo>
                <a:lnTo>
                  <a:pt x="1400" y="35465"/>
                </a:lnTo>
                <a:lnTo>
                  <a:pt x="20200" y="35465"/>
                </a:lnTo>
                <a:close/>
              </a:path>
              <a:path fill="lighten" w="21600" h="36865">
                <a:moveTo>
                  <a:pt x="0" y="36865"/>
                </a:moveTo>
                <a:lnTo>
                  <a:pt x="0" y="0"/>
                </a:lnTo>
                <a:lnTo>
                  <a:pt x="1400" y="1400"/>
                </a:lnTo>
                <a:lnTo>
                  <a:pt x="1400" y="35465"/>
                </a:lnTo>
                <a:close/>
              </a:path>
              <a:path fill="darken" w="21600" h="36865">
                <a:moveTo>
                  <a:pt x="3794" y="15125"/>
                </a:moveTo>
                <a:lnTo>
                  <a:pt x="7301" y="15125"/>
                </a:lnTo>
                <a:lnTo>
                  <a:pt x="7301" y="20460"/>
                </a:lnTo>
                <a:cubicBezTo>
                  <a:pt x="7301" y="21383"/>
                  <a:pt x="8102" y="22114"/>
                  <a:pt x="9138" y="22114"/>
                </a:cubicBezTo>
                <a:lnTo>
                  <a:pt x="10800" y="22114"/>
                </a:lnTo>
                <a:cubicBezTo>
                  <a:pt x="11836" y="22114"/>
                  <a:pt x="12636" y="21383"/>
                  <a:pt x="12636" y="20460"/>
                </a:cubicBezTo>
                <a:lnTo>
                  <a:pt x="12636" y="15125"/>
                </a:lnTo>
                <a:lnTo>
                  <a:pt x="10800" y="15125"/>
                </a:lnTo>
                <a:lnTo>
                  <a:pt x="14308" y="11618"/>
                </a:lnTo>
                <a:lnTo>
                  <a:pt x="17981" y="15125"/>
                </a:lnTo>
                <a:lnTo>
                  <a:pt x="16144" y="15125"/>
                </a:lnTo>
                <a:lnTo>
                  <a:pt x="16144" y="20460"/>
                </a:lnTo>
                <a:cubicBezTo>
                  <a:pt x="16144" y="23228"/>
                  <a:pt x="13568" y="25787"/>
                  <a:pt x="10800" y="25787"/>
                </a:cubicBezTo>
                <a:lnTo>
                  <a:pt x="9138" y="25787"/>
                </a:lnTo>
                <a:cubicBezTo>
                  <a:pt x="6370" y="25787"/>
                  <a:pt x="3794" y="23228"/>
                  <a:pt x="3794" y="20460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b50b2f"/>
                </a:solidFill>
                <a:latin typeface="Tahoma"/>
              </a:rPr>
              <a:t>ИВЛ </a:t>
            </a:r>
            <a:r>
              <a:rPr b="1" i="1" lang="ru-RU" sz="5400" spc="-1" strike="noStrike">
                <a:solidFill>
                  <a:srgbClr val="e5ffff"/>
                </a:solidFill>
                <a:latin typeface="Tahoma"/>
              </a:rPr>
              <a:t>и </a:t>
            </a:r>
            <a:r>
              <a:rPr b="1" i="1" lang="ru-RU" sz="5400" spc="-1" strike="noStrike">
                <a:solidFill>
                  <a:srgbClr val="b50b2f"/>
                </a:solidFill>
                <a:latin typeface="Tahoma"/>
              </a:rPr>
              <a:t>массаж сердца</a:t>
            </a:r>
            <a:r>
              <a:rPr b="1" i="1" lang="ru-RU" sz="5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ru-RU" sz="5400" spc="-1" strike="noStrike">
                <a:solidFill>
                  <a:srgbClr val="00ff00"/>
                </a:solidFill>
                <a:latin typeface="Tahoma"/>
              </a:rPr>
              <a:t>осуществляются в комплексе, в строгом соотношении друг с другом.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50b2f"/>
                </a:solidFill>
                <a:latin typeface="Tahoma"/>
              </a:rPr>
              <a:t>Последовательность реанимационного комплекса «ИВЛ+массаж сердца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42472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начале в быстром темпе, без пауз, 3-5 вдох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Tahoma"/>
              </a:rPr>
              <a:t>Определяется пульс на сонной артер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При отсутствии эффекта наносится удар кулаком в среднюю треть тела груди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Tahoma"/>
              </a:rPr>
              <a:t>Немедленно вслед за этим проверяется эффективность удара по пульс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При  отсутствии эффекта осуществляется цикл наружного массаж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Tahoma"/>
              </a:rPr>
              <a:t>Соотношение реанимации «ИВЛ+массаж сердца» составляет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: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при одном спасателе – 2:15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при двух спасателях – 1:5</a:t>
            </a:r>
            <a:br>
              <a:rPr sz="4000"/>
            </a:br>
            <a:br>
              <a:rPr sz="4000"/>
            </a:br>
            <a:r>
              <a:rPr b="1" i="1" lang="ru-RU" sz="2800" spc="-1" strike="noStrike" u="sng">
                <a:solidFill>
                  <a:srgbClr val="b50b2f"/>
                </a:solidFill>
                <a:uFillTx/>
                <a:latin typeface="Tahoma"/>
              </a:rPr>
              <a:t>контроль пострадавшего, эффективности реанимации должен быть постоянным на протяжении всей ЭРП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50b2f"/>
                </a:solidFill>
                <a:latin typeface="Tahoma"/>
              </a:rPr>
              <a:t>Контроль осуществляется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8028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По пульсу на сонных артерия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По состоянию зрач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По реакции зрачков на св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По появлению самостоятельного дых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По розовению губ, восстановлению окраски кожных покров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i="1" lang="ru-RU" sz="2000" spc="-1" strike="noStrike" u="sng">
                <a:solidFill>
                  <a:srgbClr val="ffffcc"/>
                </a:solidFill>
                <a:uFillTx/>
                <a:latin typeface="Tahoma"/>
              </a:rPr>
              <a:t>Ведущими являются первые два признак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i="1" lang="ru-RU" sz="2000" spc="-1" strike="noStrike" u="sng">
                <a:solidFill>
                  <a:srgbClr val="ffffcc"/>
                </a:solidFill>
                <a:uFillTx/>
                <a:latin typeface="Tahoma"/>
              </a:rPr>
              <a:t>признаки 4 и 5 служат свидетельством активн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cc"/>
                </a:solidFill>
                <a:uFillTx/>
                <a:latin typeface="Tahoma"/>
              </a:rPr>
              <a:t>выхода пострадавшего из состояния клиническ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cc"/>
                </a:solidFill>
                <a:uFillTx/>
                <a:latin typeface="Tahoma"/>
              </a:rPr>
              <a:t>смер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4" descr="Изображение 045"/>
          <p:cNvPicPr/>
          <p:nvPr/>
        </p:nvPicPr>
        <p:blipFill>
          <a:blip r:embed="rId1"/>
          <a:stretch/>
        </p:blipFill>
        <p:spPr>
          <a:xfrm>
            <a:off x="7020000" y="4365720"/>
            <a:ext cx="1944720" cy="151272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5"/>
          <p:cNvSpPr/>
          <p:nvPr/>
        </p:nvSpPr>
        <p:spPr>
          <a:xfrm>
            <a:off x="7020000" y="6165720"/>
            <a:ext cx="1906560" cy="503280"/>
          </a:xfrm>
          <a:custGeom>
            <a:avLst/>
            <a:gdLst>
              <a:gd name="textAreaLeft" fmla="*/ 32400 w 1906560"/>
              <a:gd name="textAreaRight" fmla="*/ 1874160 w 19065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81784" h="21600">
                <a:moveTo>
                  <a:pt x="0" y="0"/>
                </a:moveTo>
                <a:lnTo>
                  <a:pt x="81784" y="0"/>
                </a:lnTo>
                <a:lnTo>
                  <a:pt x="81784" y="21600"/>
                </a:lnTo>
                <a:lnTo>
                  <a:pt x="0" y="21600"/>
                </a:lnTo>
                <a:close/>
              </a:path>
              <a:path fill="lightenLess" w="81784" h="21600">
                <a:moveTo>
                  <a:pt x="0" y="0"/>
                </a:moveTo>
                <a:lnTo>
                  <a:pt x="81784" y="0"/>
                </a:lnTo>
                <a:lnTo>
                  <a:pt x="80384" y="1400"/>
                </a:lnTo>
                <a:lnTo>
                  <a:pt x="1400" y="1400"/>
                </a:lnTo>
                <a:close/>
              </a:path>
              <a:path fill="darken" w="81784" h="21600">
                <a:moveTo>
                  <a:pt x="81784" y="0"/>
                </a:moveTo>
                <a:lnTo>
                  <a:pt x="81784" y="21600"/>
                </a:lnTo>
                <a:lnTo>
                  <a:pt x="80384" y="20200"/>
                </a:lnTo>
                <a:lnTo>
                  <a:pt x="80384" y="1400"/>
                </a:lnTo>
                <a:close/>
              </a:path>
              <a:path fill="darkenLess" w="81784" h="21600">
                <a:moveTo>
                  <a:pt x="81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384" y="20200"/>
                </a:lnTo>
                <a:close/>
              </a:path>
              <a:path fill="lighten" w="81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784" h="21600">
                <a:moveTo>
                  <a:pt x="33885" y="7493"/>
                </a:moveTo>
                <a:lnTo>
                  <a:pt x="37393" y="7493"/>
                </a:lnTo>
                <a:lnTo>
                  <a:pt x="37393" y="12828"/>
                </a:lnTo>
                <a:cubicBezTo>
                  <a:pt x="37393" y="13751"/>
                  <a:pt x="38194" y="14482"/>
                  <a:pt x="39229" y="14482"/>
                </a:cubicBezTo>
                <a:lnTo>
                  <a:pt x="40892" y="14482"/>
                </a:lnTo>
                <a:cubicBezTo>
                  <a:pt x="41928" y="14482"/>
                  <a:pt x="42728" y="13751"/>
                  <a:pt x="42728" y="12828"/>
                </a:cubicBezTo>
                <a:lnTo>
                  <a:pt x="42728" y="7493"/>
                </a:lnTo>
                <a:lnTo>
                  <a:pt x="40892" y="7493"/>
                </a:lnTo>
                <a:lnTo>
                  <a:pt x="44399" y="3985"/>
                </a:lnTo>
                <a:lnTo>
                  <a:pt x="48072" y="7493"/>
                </a:lnTo>
                <a:lnTo>
                  <a:pt x="46236" y="7493"/>
                </a:lnTo>
                <a:lnTo>
                  <a:pt x="46236" y="12828"/>
                </a:lnTo>
                <a:cubicBezTo>
                  <a:pt x="46236" y="15596"/>
                  <a:pt x="43660" y="18155"/>
                  <a:pt x="40892" y="18155"/>
                </a:cubicBezTo>
                <a:lnTo>
                  <a:pt x="39229" y="18155"/>
                </a:lnTo>
                <a:cubicBezTo>
                  <a:pt x="36462" y="18155"/>
                  <a:pt x="33885" y="15596"/>
                  <a:pt x="33885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9966"/>
                </a:solidFill>
                <a:uFillTx/>
                <a:latin typeface="Tahoma"/>
              </a:rPr>
              <a:t>Три главных признака клинической смерти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0b2f"/>
                </a:solidFill>
                <a:latin typeface="Tahoma"/>
              </a:rPr>
              <a:t>Отсутствие созн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0b2f"/>
                </a:solidFill>
                <a:latin typeface="Tahoma"/>
              </a:rPr>
              <a:t>Сильные боли в области серд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0b2f"/>
                </a:solidFill>
                <a:latin typeface="Tahoma"/>
              </a:rPr>
              <a:t>Широкие, не реагирующие на свет зрач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0b2f"/>
                </a:solidFill>
                <a:latin typeface="Tahoma"/>
              </a:rPr>
              <a:t>Отсутствие пульса на сонной артер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0b2f"/>
                </a:solidFill>
                <a:latin typeface="Tahoma"/>
              </a:rPr>
              <a:t>Помутнение роговиц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0b2f"/>
                </a:solidFill>
                <a:latin typeface="Tahoma"/>
              </a:rPr>
              <a:t>Стеклышко, поднесенное ко рту, не запотева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0b2f"/>
                </a:solidFill>
                <a:latin typeface="Tahoma"/>
              </a:rPr>
              <a:t>Ворсинки ваты или пушинки, поднесенные ко рту, остаются неподвижны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ahoma"/>
              </a:rPr>
              <a:t>Выберите правильные отве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Line 5"/>
          <p:cNvSpPr/>
          <p:nvPr/>
        </p:nvSpPr>
        <p:spPr>
          <a:xfrm>
            <a:off x="1042920" y="2349360"/>
            <a:ext cx="3384720" cy="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Line 6"/>
          <p:cNvSpPr/>
          <p:nvPr/>
        </p:nvSpPr>
        <p:spPr>
          <a:xfrm>
            <a:off x="1042920" y="3213000"/>
            <a:ext cx="6408720" cy="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Line 7"/>
          <p:cNvSpPr/>
          <p:nvPr/>
        </p:nvSpPr>
        <p:spPr>
          <a:xfrm>
            <a:off x="1042920" y="3573360"/>
            <a:ext cx="5689800" cy="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5219640" y="4797360"/>
            <a:ext cx="44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Tahoma"/>
              </a:rPr>
              <a:t>МОЛОДЦЫ! Ес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cc00"/>
                </a:solidFill>
                <a:latin typeface="Tahoma"/>
              </a:rPr>
              <a:t>вы выбрали э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cc00"/>
                </a:solidFill>
                <a:latin typeface="Tahoma"/>
              </a:rPr>
              <a:t>отве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5" dur="250" autoRev="1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-103,-1)"/>
                                      </p:to>
                                    </p:set>
                                    <p:set>
                                      <p:cBhvr>
                                        <p:cTn id="66" dur="250" autoRev="1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-103,-1)"/>
                                      </p:to>
                                    </p:set>
                                    <p:set>
                                      <p:cBhvr>
                                        <p:cTn id="67" dur="250" autoRev="1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9" dur="250" autoRev="1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-103,-1)"/>
                                      </p:to>
                                    </p:set>
                                    <p:set>
                                      <p:cBhvr>
                                        <p:cTn id="70" dur="250" autoRev="1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-103,-1)"/>
                                      </p:to>
                                    </p:set>
                                    <p:set>
                                      <p:cBhvr>
                                        <p:cTn id="71" dur="250" autoRev="1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500" autoRev="1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-103,-1)"/>
                                      </p:to>
                                    </p:set>
                                    <p:set>
                                      <p:cBhvr>
                                        <p:cTn id="74" dur="500" autoRev="1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-103,-1)"/>
                                      </p:to>
                                    </p:set>
                                    <p:set>
                                      <p:cBhvr>
                                        <p:cTn id="75" dur="500" autoRev="1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971640" y="765000"/>
            <a:ext cx="7632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сновная цель реанимации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Tahoma"/>
              </a:rPr>
              <a:t>восстановление функций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5400" spc="-1" strike="noStrike">
                <a:solidFill>
                  <a:srgbClr val="ffcc00"/>
                </a:solidFill>
                <a:latin typeface="Tahoma"/>
              </a:rPr>
              <a:t>мозг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904320" y="4508640"/>
            <a:ext cx="6846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сновная задача реанимации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осстановление сердеч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деятельност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кровообращения и дых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6" descr="j0240719"/>
          <p:cNvPicPr/>
          <p:nvPr/>
        </p:nvPicPr>
        <p:blipFill>
          <a:blip r:embed="rId1"/>
          <a:stretch/>
        </p:blipFill>
        <p:spPr>
          <a:xfrm>
            <a:off x="6804000" y="1557360"/>
            <a:ext cx="2089080" cy="2951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8200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b50b2f"/>
                </a:solidFill>
                <a:uFillTx/>
                <a:latin typeface="Tahoma"/>
              </a:rPr>
              <a:t>Внимание-</a:t>
            </a:r>
            <a:br>
              <a:rPr sz="7200"/>
            </a:br>
            <a:r>
              <a:rPr b="0" lang="ru-RU" sz="4800" spc="-1" strike="noStrike">
                <a:solidFill>
                  <a:srgbClr val="00ff00"/>
                </a:solidFill>
                <a:latin typeface="Tahoma"/>
              </a:rPr>
              <a:t>пульс следует определять только на сонных или бедренных артериях! Ориентироваться на определение пульса на других артериях недопустимо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8" name="Picture 5" descr="j0299125"/>
          <p:cNvPicPr/>
          <p:nvPr/>
        </p:nvPicPr>
        <p:blipFill>
          <a:blip r:embed="rId1"/>
          <a:stretch/>
        </p:blipFill>
        <p:spPr>
          <a:xfrm>
            <a:off x="7667640" y="256536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50b2f"/>
                </a:solidFill>
                <a:latin typeface="Tahoma"/>
              </a:rPr>
              <a:t>Очередность действий при ЭРП.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1332000" y="2205000"/>
            <a:ext cx="6769080" cy="1008000"/>
          </a:xfrm>
          <a:custGeom>
            <a:avLst/>
            <a:gdLst>
              <a:gd name="textAreaLeft" fmla="*/ 65160 w 6769080"/>
              <a:gd name="textAreaRight" fmla="*/ 6703920 w 676908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145008" h="21600">
                <a:moveTo>
                  <a:pt x="0" y="0"/>
                </a:moveTo>
                <a:lnTo>
                  <a:pt x="145008" y="0"/>
                </a:lnTo>
                <a:lnTo>
                  <a:pt x="145008" y="21600"/>
                </a:lnTo>
                <a:lnTo>
                  <a:pt x="0" y="21600"/>
                </a:lnTo>
                <a:close/>
              </a:path>
              <a:path fill="lightenLess" w="145008" h="21600">
                <a:moveTo>
                  <a:pt x="0" y="0"/>
                </a:moveTo>
                <a:lnTo>
                  <a:pt x="145008" y="0"/>
                </a:lnTo>
                <a:lnTo>
                  <a:pt x="143608" y="1400"/>
                </a:lnTo>
                <a:lnTo>
                  <a:pt x="1400" y="1400"/>
                </a:lnTo>
                <a:close/>
              </a:path>
              <a:path fill="darken" w="145008" h="21600">
                <a:moveTo>
                  <a:pt x="145008" y="0"/>
                </a:moveTo>
                <a:lnTo>
                  <a:pt x="145008" y="21600"/>
                </a:lnTo>
                <a:lnTo>
                  <a:pt x="143608" y="20200"/>
                </a:lnTo>
                <a:lnTo>
                  <a:pt x="143608" y="1400"/>
                </a:lnTo>
                <a:close/>
              </a:path>
              <a:path fill="darkenLess" w="145008" h="21600">
                <a:moveTo>
                  <a:pt x="1450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3608" y="20200"/>
                </a:lnTo>
                <a:close/>
              </a:path>
              <a:path fill="lighten" w="1450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Восстановление проходим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дыхательных пут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1403280" y="3357720"/>
            <a:ext cx="6697800" cy="1042920"/>
          </a:xfrm>
          <a:custGeom>
            <a:avLst/>
            <a:gdLst>
              <a:gd name="textAreaLeft" fmla="*/ 67320 w 6697800"/>
              <a:gd name="textAreaRight" fmla="*/ 6630480 w 66978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138678" h="21600">
                <a:moveTo>
                  <a:pt x="0" y="0"/>
                </a:moveTo>
                <a:lnTo>
                  <a:pt x="138678" y="0"/>
                </a:lnTo>
                <a:lnTo>
                  <a:pt x="138678" y="21600"/>
                </a:lnTo>
                <a:lnTo>
                  <a:pt x="0" y="21600"/>
                </a:lnTo>
                <a:close/>
              </a:path>
              <a:path fill="lightenLess" w="138678" h="21600">
                <a:moveTo>
                  <a:pt x="0" y="0"/>
                </a:moveTo>
                <a:lnTo>
                  <a:pt x="138678" y="0"/>
                </a:lnTo>
                <a:lnTo>
                  <a:pt x="137278" y="1400"/>
                </a:lnTo>
                <a:lnTo>
                  <a:pt x="1400" y="1400"/>
                </a:lnTo>
                <a:close/>
              </a:path>
              <a:path fill="darken" w="138678" h="21600">
                <a:moveTo>
                  <a:pt x="138678" y="0"/>
                </a:moveTo>
                <a:lnTo>
                  <a:pt x="138678" y="21600"/>
                </a:lnTo>
                <a:lnTo>
                  <a:pt x="137278" y="20200"/>
                </a:lnTo>
                <a:lnTo>
                  <a:pt x="137278" y="1400"/>
                </a:lnTo>
                <a:close/>
              </a:path>
              <a:path fill="darkenLess" w="138678" h="21600">
                <a:moveTo>
                  <a:pt x="1386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278" y="20200"/>
                </a:lnTo>
                <a:close/>
              </a:path>
              <a:path fill="lighten" w="1386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Проведение искусствен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вентиляции легк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1403280" y="4581360"/>
            <a:ext cx="6697800" cy="1043280"/>
          </a:xfrm>
          <a:custGeom>
            <a:avLst/>
            <a:gdLst>
              <a:gd name="textAreaLeft" fmla="*/ 67320 w 6697800"/>
              <a:gd name="textAreaRight" fmla="*/ 6630480 w 669780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138630" h="21600">
                <a:moveTo>
                  <a:pt x="0" y="0"/>
                </a:moveTo>
                <a:lnTo>
                  <a:pt x="138630" y="0"/>
                </a:lnTo>
                <a:lnTo>
                  <a:pt x="138630" y="21600"/>
                </a:lnTo>
                <a:lnTo>
                  <a:pt x="0" y="21600"/>
                </a:lnTo>
                <a:close/>
              </a:path>
              <a:path fill="lightenLess" w="138630" h="21600">
                <a:moveTo>
                  <a:pt x="0" y="0"/>
                </a:moveTo>
                <a:lnTo>
                  <a:pt x="138630" y="0"/>
                </a:lnTo>
                <a:lnTo>
                  <a:pt x="137230" y="1400"/>
                </a:lnTo>
                <a:lnTo>
                  <a:pt x="1400" y="1400"/>
                </a:lnTo>
                <a:close/>
              </a:path>
              <a:path fill="darken" w="138630" h="21600">
                <a:moveTo>
                  <a:pt x="138630" y="0"/>
                </a:moveTo>
                <a:lnTo>
                  <a:pt x="138630" y="21600"/>
                </a:lnTo>
                <a:lnTo>
                  <a:pt x="137230" y="20200"/>
                </a:lnTo>
                <a:lnTo>
                  <a:pt x="137230" y="1400"/>
                </a:lnTo>
                <a:close/>
              </a:path>
              <a:path fill="darkenLess" w="138630" h="21600">
                <a:moveTo>
                  <a:pt x="138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230" y="20200"/>
                </a:lnTo>
                <a:close/>
              </a:path>
              <a:path fill="lighten" w="138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Массаж сердц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250920" y="3141720"/>
            <a:ext cx="961920" cy="1488960"/>
          </a:xfrm>
          <a:custGeom>
            <a:avLst/>
            <a:gdLst/>
            <a:ahLst/>
            <a:rect l="l" t="t" r="r" b="b"/>
            <a:pathLst>
              <a:path w="962025" h="1489075">
                <a:moveTo>
                  <a:pt x="1" y="568775"/>
                </a:moveTo>
                <a:lnTo>
                  <a:pt x="367463" y="568779"/>
                </a:lnTo>
                <a:lnTo>
                  <a:pt x="481013" y="0"/>
                </a:lnTo>
                <a:lnTo>
                  <a:pt x="594562" y="568779"/>
                </a:lnTo>
                <a:lnTo>
                  <a:pt x="962024" y="568775"/>
                </a:lnTo>
                <a:lnTo>
                  <a:pt x="664740" y="920295"/>
                </a:lnTo>
                <a:lnTo>
                  <a:pt x="778294" y="1489071"/>
                </a:lnTo>
                <a:lnTo>
                  <a:pt x="481013" y="1137544"/>
                </a:lnTo>
                <a:lnTo>
                  <a:pt x="183731" y="1489071"/>
                </a:lnTo>
                <a:lnTo>
                  <a:pt x="297285" y="920295"/>
                </a:lnTo>
                <a:lnTo>
                  <a:pt x="1" y="568775"/>
                </a:lnTo>
                <a:close/>
              </a:path>
            </a:pathLst>
          </a:custGeom>
          <a:solidFill>
            <a:srgbClr val="b50b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AutoShape 9"/>
          <p:cNvSpPr/>
          <p:nvPr/>
        </p:nvSpPr>
        <p:spPr>
          <a:xfrm>
            <a:off x="250920" y="479736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b50b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8182080" y="479736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b50b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AutoShape 11"/>
          <p:cNvSpPr/>
          <p:nvPr/>
        </p:nvSpPr>
        <p:spPr>
          <a:xfrm>
            <a:off x="8182080" y="3141720"/>
            <a:ext cx="961920" cy="1488960"/>
          </a:xfrm>
          <a:custGeom>
            <a:avLst/>
            <a:gdLst/>
            <a:ahLst/>
            <a:rect l="l" t="t" r="r" b="b"/>
            <a:pathLst>
              <a:path w="962025" h="1489075">
                <a:moveTo>
                  <a:pt x="1" y="568775"/>
                </a:moveTo>
                <a:lnTo>
                  <a:pt x="367463" y="568779"/>
                </a:lnTo>
                <a:lnTo>
                  <a:pt x="481013" y="0"/>
                </a:lnTo>
                <a:lnTo>
                  <a:pt x="594562" y="568779"/>
                </a:lnTo>
                <a:lnTo>
                  <a:pt x="962024" y="568775"/>
                </a:lnTo>
                <a:lnTo>
                  <a:pt x="664740" y="920295"/>
                </a:lnTo>
                <a:lnTo>
                  <a:pt x="778294" y="1489071"/>
                </a:lnTo>
                <a:lnTo>
                  <a:pt x="481013" y="1137544"/>
                </a:lnTo>
                <a:lnTo>
                  <a:pt x="183731" y="1489071"/>
                </a:lnTo>
                <a:lnTo>
                  <a:pt x="297285" y="920295"/>
                </a:lnTo>
                <a:lnTo>
                  <a:pt x="1" y="568775"/>
                </a:lnTo>
                <a:close/>
              </a:path>
            </a:pathLst>
          </a:custGeom>
          <a:solidFill>
            <a:srgbClr val="b50b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AutoShape 12"/>
          <p:cNvSpPr/>
          <p:nvPr/>
        </p:nvSpPr>
        <p:spPr>
          <a:xfrm>
            <a:off x="971640" y="1052640"/>
            <a:ext cx="1898640" cy="914400"/>
          </a:xfrm>
          <a:custGeom>
            <a:avLst/>
            <a:gdLst/>
            <a:ahLst/>
            <a:rect l="l" t="t" r="r" b="b"/>
            <a:pathLst>
              <a:path w="1898650" h="914400">
                <a:moveTo>
                  <a:pt x="2" y="349269"/>
                </a:moveTo>
                <a:lnTo>
                  <a:pt x="725224" y="349271"/>
                </a:lnTo>
                <a:lnTo>
                  <a:pt x="949325" y="0"/>
                </a:lnTo>
                <a:lnTo>
                  <a:pt x="1173426" y="349271"/>
                </a:lnTo>
                <a:lnTo>
                  <a:pt x="1898648" y="349269"/>
                </a:lnTo>
                <a:lnTo>
                  <a:pt x="1311928" y="565128"/>
                </a:lnTo>
                <a:lnTo>
                  <a:pt x="1536039" y="914398"/>
                </a:lnTo>
                <a:lnTo>
                  <a:pt x="949325" y="698535"/>
                </a:lnTo>
                <a:lnTo>
                  <a:pt x="362611" y="914398"/>
                </a:lnTo>
                <a:lnTo>
                  <a:pt x="586722" y="565128"/>
                </a:lnTo>
                <a:lnTo>
                  <a:pt x="2" y="349269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AutoShape 13"/>
          <p:cNvSpPr/>
          <p:nvPr/>
        </p:nvSpPr>
        <p:spPr>
          <a:xfrm>
            <a:off x="6659640" y="1052640"/>
            <a:ext cx="2016000" cy="914400"/>
          </a:xfrm>
          <a:custGeom>
            <a:avLst/>
            <a:gdLst/>
            <a:ahLst/>
            <a:rect l="l" t="t" r="r" b="b"/>
            <a:pathLst>
              <a:path w="2016125" h="914400">
                <a:moveTo>
                  <a:pt x="2" y="349269"/>
                </a:moveTo>
                <a:lnTo>
                  <a:pt x="770095" y="349271"/>
                </a:lnTo>
                <a:lnTo>
                  <a:pt x="1008063" y="0"/>
                </a:lnTo>
                <a:lnTo>
                  <a:pt x="1246030" y="349271"/>
                </a:lnTo>
                <a:lnTo>
                  <a:pt x="2016123" y="349269"/>
                </a:lnTo>
                <a:lnTo>
                  <a:pt x="1393101" y="565128"/>
                </a:lnTo>
                <a:lnTo>
                  <a:pt x="1631078" y="914398"/>
                </a:lnTo>
                <a:lnTo>
                  <a:pt x="1008063" y="698535"/>
                </a:lnTo>
                <a:lnTo>
                  <a:pt x="385047" y="914398"/>
                </a:lnTo>
                <a:lnTo>
                  <a:pt x="623024" y="565128"/>
                </a:lnTo>
                <a:lnTo>
                  <a:pt x="2" y="349269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AutoShape 14"/>
          <p:cNvSpPr/>
          <p:nvPr/>
        </p:nvSpPr>
        <p:spPr>
          <a:xfrm>
            <a:off x="8388360" y="6148440"/>
            <a:ext cx="755640" cy="709560"/>
          </a:xfrm>
          <a:custGeom>
            <a:avLst/>
            <a:gdLst>
              <a:gd name="textAreaLeft" fmla="*/ 45720 w 755640"/>
              <a:gd name="textAreaRight" fmla="*/ 709920 w 755640"/>
              <a:gd name="textAreaTop" fmla="*/ 45720 h 709560"/>
              <a:gd name="textAreaBottom" fmla="*/ 663840 h 709560"/>
            </a:gdLst>
            <a:ahLst/>
            <a:rect l="textAreaLeft" t="textAreaTop" r="textAreaRight" b="textAreaBottom"/>
            <a:pathLst>
              <a:path w="23002" h="21600">
                <a:moveTo>
                  <a:pt x="0" y="0"/>
                </a:moveTo>
                <a:lnTo>
                  <a:pt x="23002" y="0"/>
                </a:lnTo>
                <a:lnTo>
                  <a:pt x="23002" y="21600"/>
                </a:lnTo>
                <a:lnTo>
                  <a:pt x="0" y="21600"/>
                </a:lnTo>
                <a:close/>
              </a:path>
              <a:path fill="lightenLess" w="23002" h="21600">
                <a:moveTo>
                  <a:pt x="0" y="0"/>
                </a:moveTo>
                <a:lnTo>
                  <a:pt x="23002" y="0"/>
                </a:lnTo>
                <a:lnTo>
                  <a:pt x="21602" y="1400"/>
                </a:lnTo>
                <a:lnTo>
                  <a:pt x="1400" y="1400"/>
                </a:lnTo>
                <a:close/>
              </a:path>
              <a:path fill="darken" w="23002" h="21600">
                <a:moveTo>
                  <a:pt x="23002" y="0"/>
                </a:moveTo>
                <a:lnTo>
                  <a:pt x="23002" y="21600"/>
                </a:lnTo>
                <a:lnTo>
                  <a:pt x="21602" y="20200"/>
                </a:lnTo>
                <a:lnTo>
                  <a:pt x="21602" y="1400"/>
                </a:lnTo>
                <a:close/>
              </a:path>
              <a:path fill="darkenLess" w="23002" h="21600">
                <a:moveTo>
                  <a:pt x="230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02" y="20200"/>
                </a:lnTo>
                <a:close/>
              </a:path>
              <a:path fill="lighten" w="230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02" h="21600">
                <a:moveTo>
                  <a:pt x="4495" y="3794"/>
                </a:moveTo>
                <a:lnTo>
                  <a:pt x="18507" y="10800"/>
                </a:lnTo>
                <a:lnTo>
                  <a:pt x="4495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AutoShape 15"/>
          <p:cNvSpPr/>
          <p:nvPr/>
        </p:nvSpPr>
        <p:spPr>
          <a:xfrm>
            <a:off x="1835280" y="6165720"/>
            <a:ext cx="5759280" cy="503280"/>
          </a:xfrm>
          <a:custGeom>
            <a:avLst/>
            <a:gdLst>
              <a:gd name="textAreaLeft" fmla="*/ 32400 w 5759280"/>
              <a:gd name="textAreaRight" fmla="*/ 5726880 w 575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018" h="21600">
                <a:moveTo>
                  <a:pt x="0" y="0"/>
                </a:moveTo>
                <a:lnTo>
                  <a:pt x="247018" y="0"/>
                </a:lnTo>
                <a:lnTo>
                  <a:pt x="247018" y="21600"/>
                </a:lnTo>
                <a:lnTo>
                  <a:pt x="0" y="21600"/>
                </a:lnTo>
                <a:close/>
              </a:path>
              <a:path fill="lightenLess" w="247018" h="21600">
                <a:moveTo>
                  <a:pt x="0" y="0"/>
                </a:moveTo>
                <a:lnTo>
                  <a:pt x="247018" y="0"/>
                </a:lnTo>
                <a:lnTo>
                  <a:pt x="245618" y="1400"/>
                </a:lnTo>
                <a:lnTo>
                  <a:pt x="1400" y="1400"/>
                </a:lnTo>
                <a:close/>
              </a:path>
              <a:path fill="darken" w="247018" h="21600">
                <a:moveTo>
                  <a:pt x="247018" y="0"/>
                </a:moveTo>
                <a:lnTo>
                  <a:pt x="247018" y="21600"/>
                </a:lnTo>
                <a:lnTo>
                  <a:pt x="245618" y="20200"/>
                </a:lnTo>
                <a:lnTo>
                  <a:pt x="245618" y="1400"/>
                </a:lnTo>
                <a:close/>
              </a:path>
              <a:path fill="darkenLess" w="247018" h="21600">
                <a:moveTo>
                  <a:pt x="247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618" y="20200"/>
                </a:lnTo>
                <a:close/>
              </a:path>
              <a:path fill="lighten" w="247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Проверьте свои зна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Tahoma"/>
              </a:rPr>
              <a:t>Восстановление проходимости дыхательных путе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50560" y="1889280"/>
            <a:ext cx="8569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Необходимо повернуть голову набок, раскрыть рот, фиксировать челюсти перекрещенными первым и вторыми пальцами, ввести в рот сомкнутые второй и третий палец другой руки. Тщательно, круговым движением проверить зубы, полость рта. Инородные тела, слизь захватить и удали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AutoShape 7">
            <a:hlinkClick r:id="" action="ppaction://hlinkshowjump?jump=previousslide"/>
          </p:cNvPr>
          <p:cNvSpPr/>
          <p:nvPr/>
        </p:nvSpPr>
        <p:spPr>
          <a:xfrm>
            <a:off x="8388360" y="5516640"/>
            <a:ext cx="539640" cy="104292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1042920"/>
              <a:gd name="textAreaBottom" fmla="*/ 1008000 h 1042920"/>
            </a:gdLst>
            <a:ahLst/>
            <a:rect l="textAreaLeft" t="textAreaTop" r="textAreaRight" b="textAreaBottom"/>
            <a:pathLst>
              <a:path w="21600" h="41731">
                <a:moveTo>
                  <a:pt x="0" y="0"/>
                </a:moveTo>
                <a:lnTo>
                  <a:pt x="21600" y="0"/>
                </a:lnTo>
                <a:lnTo>
                  <a:pt x="21600" y="41731"/>
                </a:lnTo>
                <a:lnTo>
                  <a:pt x="0" y="41731"/>
                </a:lnTo>
                <a:close/>
              </a:path>
              <a:path fill="lightenLess" w="21600" h="417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1731">
                <a:moveTo>
                  <a:pt x="21600" y="0"/>
                </a:moveTo>
                <a:lnTo>
                  <a:pt x="21600" y="41731"/>
                </a:lnTo>
                <a:lnTo>
                  <a:pt x="20200" y="40331"/>
                </a:lnTo>
                <a:lnTo>
                  <a:pt x="20200" y="1400"/>
                </a:lnTo>
                <a:close/>
              </a:path>
              <a:path fill="darkenLess" w="21600" h="41731">
                <a:moveTo>
                  <a:pt x="21600" y="41731"/>
                </a:moveTo>
                <a:lnTo>
                  <a:pt x="0" y="41731"/>
                </a:lnTo>
                <a:lnTo>
                  <a:pt x="1400" y="40331"/>
                </a:lnTo>
                <a:lnTo>
                  <a:pt x="20200" y="40331"/>
                </a:lnTo>
                <a:close/>
              </a:path>
              <a:path fill="lighten" w="21600" h="41731">
                <a:moveTo>
                  <a:pt x="0" y="41731"/>
                </a:moveTo>
                <a:lnTo>
                  <a:pt x="0" y="0"/>
                </a:lnTo>
                <a:lnTo>
                  <a:pt x="1400" y="1400"/>
                </a:lnTo>
                <a:lnTo>
                  <a:pt x="1400" y="40331"/>
                </a:lnTo>
                <a:close/>
              </a:path>
              <a:path fill="darken" w="21600" h="41731">
                <a:moveTo>
                  <a:pt x="3794" y="17558"/>
                </a:moveTo>
                <a:lnTo>
                  <a:pt x="7301" y="17558"/>
                </a:lnTo>
                <a:lnTo>
                  <a:pt x="7301" y="22894"/>
                </a:lnTo>
                <a:cubicBezTo>
                  <a:pt x="7301" y="23816"/>
                  <a:pt x="8102" y="24547"/>
                  <a:pt x="9138" y="24547"/>
                </a:cubicBezTo>
                <a:lnTo>
                  <a:pt x="10800" y="24547"/>
                </a:lnTo>
                <a:cubicBezTo>
                  <a:pt x="11836" y="24547"/>
                  <a:pt x="12636" y="23816"/>
                  <a:pt x="12636" y="22894"/>
                </a:cubicBezTo>
                <a:lnTo>
                  <a:pt x="12636" y="17558"/>
                </a:lnTo>
                <a:lnTo>
                  <a:pt x="10800" y="17558"/>
                </a:lnTo>
                <a:lnTo>
                  <a:pt x="14308" y="14051"/>
                </a:lnTo>
                <a:lnTo>
                  <a:pt x="17981" y="17558"/>
                </a:lnTo>
                <a:lnTo>
                  <a:pt x="16144" y="17558"/>
                </a:lnTo>
                <a:lnTo>
                  <a:pt x="16144" y="22894"/>
                </a:lnTo>
                <a:cubicBezTo>
                  <a:pt x="16144" y="25661"/>
                  <a:pt x="13568" y="28220"/>
                  <a:pt x="10800" y="28220"/>
                </a:cubicBezTo>
                <a:lnTo>
                  <a:pt x="9138" y="28220"/>
                </a:lnTo>
                <a:cubicBezTo>
                  <a:pt x="6370" y="28220"/>
                  <a:pt x="3794" y="25661"/>
                  <a:pt x="3794" y="22894"/>
                </a:cubicBezTo>
                <a:close/>
              </a:path>
            </a:pathLst>
          </a:custGeom>
          <a:solidFill>
            <a:srgbClr val="b50b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2072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ff00"/>
                </a:solidFill>
                <a:latin typeface="Tahoma"/>
              </a:rPr>
              <a:t>Проведение искусственной вентиляции легких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Line 6"/>
          <p:cNvSpPr/>
          <p:nvPr/>
        </p:nvSpPr>
        <p:spPr>
          <a:xfrm flipH="1">
            <a:off x="1692000" y="1628640"/>
            <a:ext cx="863640" cy="2016360"/>
          </a:xfrm>
          <a:prstGeom prst="line">
            <a:avLst/>
          </a:prstGeom>
          <a:ln w="76320">
            <a:solidFill>
              <a:srgbClr val="b50b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Line 7"/>
          <p:cNvSpPr/>
          <p:nvPr/>
        </p:nvSpPr>
        <p:spPr>
          <a:xfrm>
            <a:off x="5076720" y="1628640"/>
            <a:ext cx="863640" cy="1656000"/>
          </a:xfrm>
          <a:prstGeom prst="line">
            <a:avLst/>
          </a:prstGeom>
          <a:ln w="76320">
            <a:solidFill>
              <a:srgbClr val="b50b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4804200" y="4076640"/>
            <a:ext cx="343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ff"/>
                </a:solidFill>
                <a:latin typeface="Tahoma"/>
              </a:rPr>
              <a:t>Рот в нос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250920" y="4149720"/>
            <a:ext cx="3527280" cy="1042920"/>
          </a:xfrm>
          <a:custGeom>
            <a:avLst/>
            <a:gdLst>
              <a:gd name="textAreaLeft" fmla="*/ 67320 w 3527280"/>
              <a:gd name="textAreaRight" fmla="*/ 3459960 w 3527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73036" h="21600">
                <a:moveTo>
                  <a:pt x="0" y="0"/>
                </a:moveTo>
                <a:lnTo>
                  <a:pt x="73036" y="0"/>
                </a:lnTo>
                <a:lnTo>
                  <a:pt x="73036" y="21600"/>
                </a:lnTo>
                <a:lnTo>
                  <a:pt x="0" y="21600"/>
                </a:lnTo>
                <a:close/>
              </a:path>
              <a:path fill="lightenLess" w="73036" h="21600">
                <a:moveTo>
                  <a:pt x="0" y="0"/>
                </a:moveTo>
                <a:lnTo>
                  <a:pt x="73036" y="0"/>
                </a:lnTo>
                <a:lnTo>
                  <a:pt x="71636" y="1400"/>
                </a:lnTo>
                <a:lnTo>
                  <a:pt x="1400" y="1400"/>
                </a:lnTo>
                <a:close/>
              </a:path>
              <a:path fill="darken" w="73036" h="21600">
                <a:moveTo>
                  <a:pt x="73036" y="0"/>
                </a:moveTo>
                <a:lnTo>
                  <a:pt x="73036" y="21600"/>
                </a:lnTo>
                <a:lnTo>
                  <a:pt x="71636" y="20200"/>
                </a:lnTo>
                <a:lnTo>
                  <a:pt x="71636" y="1400"/>
                </a:lnTo>
                <a:close/>
              </a:path>
              <a:path fill="darkenLess" w="73036" h="21600">
                <a:moveTo>
                  <a:pt x="73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636" y="20200"/>
                </a:lnTo>
                <a:close/>
              </a:path>
              <a:path fill="lighten" w="73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Tahoma"/>
              </a:rPr>
              <a:t>Рот в ро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50b2f"/>
                </a:solidFill>
                <a:latin typeface="Tahoma"/>
              </a:rPr>
              <a:t>Первый метод ИВЛ: Рот в рот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вляется основным способом ИВ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ahoma"/>
              </a:rPr>
              <a:t>Запрокинуть голов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ahoma"/>
              </a:rPr>
              <a:t>Открыть ро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ahoma"/>
              </a:rPr>
              <a:t>Вывести нижнюю челюсть кпере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ahoma"/>
              </a:rPr>
              <a:t>Первым, вторым пальцами руки, фиксирующей лоб, зажать но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ahoma"/>
              </a:rPr>
              <a:t>Сделать глубокий вдох и сильно резко выдохнуть воздух в рот пострадавше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ahoma"/>
              </a:rPr>
              <a:t>Сделать 3-5 подобных вдохов в быстром темп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400" spc="-1" strike="noStrike">
                <a:solidFill>
                  <a:srgbClr val="b50b2f"/>
                </a:solidFill>
                <a:latin typeface="Tahoma"/>
              </a:rPr>
              <a:t>ПОМНИТЕ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при полноценной правильной ИВЛ в легкие нужно вдохнуть 1-1,5 литра воздуха. Частота ИВЛ должна быть 10-12 раз в минут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AutoShape 4">
            <a:hlinkClick r:id="" action="ppaction://hlinkshowjump?jump=nextslide"/>
          </p:cNvPr>
          <p:cNvSpPr/>
          <p:nvPr/>
        </p:nvSpPr>
        <p:spPr>
          <a:xfrm>
            <a:off x="8459640" y="5445000"/>
            <a:ext cx="503280" cy="104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1043280"/>
              <a:gd name="textAreaBottom" fmla="*/ 1010880 h 1043280"/>
            </a:gdLst>
            <a:ahLst/>
            <a:rect l="textAreaLeft" t="textAreaTop" r="textAreaRight" b="textAreaBottom"/>
            <a:pathLst>
              <a:path w="21600" h="44759">
                <a:moveTo>
                  <a:pt x="0" y="0"/>
                </a:moveTo>
                <a:lnTo>
                  <a:pt x="21600" y="0"/>
                </a:lnTo>
                <a:lnTo>
                  <a:pt x="21600" y="44759"/>
                </a:lnTo>
                <a:lnTo>
                  <a:pt x="0" y="44759"/>
                </a:lnTo>
                <a:close/>
              </a:path>
              <a:path fill="lightenLess" w="21600" h="44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4759">
                <a:moveTo>
                  <a:pt x="21600" y="0"/>
                </a:moveTo>
                <a:lnTo>
                  <a:pt x="21600" y="44759"/>
                </a:lnTo>
                <a:lnTo>
                  <a:pt x="20200" y="43359"/>
                </a:lnTo>
                <a:lnTo>
                  <a:pt x="20200" y="1400"/>
                </a:lnTo>
                <a:close/>
              </a:path>
              <a:path fill="darkenLess" w="21600" h="44759">
                <a:moveTo>
                  <a:pt x="21600" y="44759"/>
                </a:moveTo>
                <a:lnTo>
                  <a:pt x="0" y="44759"/>
                </a:lnTo>
                <a:lnTo>
                  <a:pt x="1400" y="43359"/>
                </a:lnTo>
                <a:lnTo>
                  <a:pt x="20200" y="43359"/>
                </a:lnTo>
                <a:close/>
              </a:path>
              <a:path fill="lighten" w="21600" h="44759">
                <a:moveTo>
                  <a:pt x="0" y="44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43359"/>
                </a:lnTo>
                <a:close/>
              </a:path>
              <a:path fill="darken" w="21600" h="44759">
                <a:moveTo>
                  <a:pt x="3794" y="15373"/>
                </a:moveTo>
                <a:lnTo>
                  <a:pt x="17806" y="22380"/>
                </a:lnTo>
                <a:lnTo>
                  <a:pt x="3794" y="2938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50b2f"/>
                </a:solidFill>
                <a:latin typeface="Tahoma"/>
              </a:rPr>
              <a:t>Возможные ошибки при проведении ИВЛ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ahoma"/>
              </a:rPr>
              <a:t>Не запрокинута голова – воздух идет в желуд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ahoma"/>
              </a:rPr>
              <a:t>Недостаточный объем вдуваемого воздух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ahoma"/>
              </a:rPr>
              <a:t>Частота вдохов 8 раз в минуту и мене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ahoma"/>
              </a:rPr>
              <a:t>Плохо зажат нос при методе рот в ро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8317080" y="5300640"/>
            <a:ext cx="610920" cy="1042920"/>
          </a:xfrm>
          <a:custGeom>
            <a:avLst/>
            <a:gdLst>
              <a:gd name="textAreaLeft" fmla="*/ 39600 w 610920"/>
              <a:gd name="textAreaRight" fmla="*/ 571320 w 610920"/>
              <a:gd name="textAreaTop" fmla="*/ 39600 h 1042920"/>
              <a:gd name="textAreaBottom" fmla="*/ 1003320 h 1042920"/>
            </a:gdLst>
            <a:ahLst/>
            <a:rect l="textAreaLeft" t="textAreaTop" r="textAreaRight" b="textAreaBottom"/>
            <a:pathLst>
              <a:path w="21600" h="36865">
                <a:moveTo>
                  <a:pt x="0" y="0"/>
                </a:moveTo>
                <a:lnTo>
                  <a:pt x="21600" y="0"/>
                </a:lnTo>
                <a:lnTo>
                  <a:pt x="21600" y="36865"/>
                </a:lnTo>
                <a:lnTo>
                  <a:pt x="0" y="36865"/>
                </a:lnTo>
                <a:close/>
              </a:path>
              <a:path fill="lightenLess" w="21600" h="368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865">
                <a:moveTo>
                  <a:pt x="21600" y="0"/>
                </a:moveTo>
                <a:lnTo>
                  <a:pt x="21600" y="36865"/>
                </a:lnTo>
                <a:lnTo>
                  <a:pt x="20200" y="35465"/>
                </a:lnTo>
                <a:lnTo>
                  <a:pt x="20200" y="1400"/>
                </a:lnTo>
                <a:close/>
              </a:path>
              <a:path fill="darkenLess" w="21600" h="36865">
                <a:moveTo>
                  <a:pt x="21600" y="36865"/>
                </a:moveTo>
                <a:lnTo>
                  <a:pt x="0" y="36865"/>
                </a:lnTo>
                <a:lnTo>
                  <a:pt x="1400" y="35465"/>
                </a:lnTo>
                <a:lnTo>
                  <a:pt x="20200" y="35465"/>
                </a:lnTo>
                <a:close/>
              </a:path>
              <a:path fill="lighten" w="21600" h="36865">
                <a:moveTo>
                  <a:pt x="0" y="36865"/>
                </a:moveTo>
                <a:lnTo>
                  <a:pt x="0" y="0"/>
                </a:lnTo>
                <a:lnTo>
                  <a:pt x="1400" y="1400"/>
                </a:lnTo>
                <a:lnTo>
                  <a:pt x="1400" y="35465"/>
                </a:lnTo>
                <a:close/>
              </a:path>
              <a:path fill="darken" w="21600" h="36865">
                <a:moveTo>
                  <a:pt x="3794" y="15125"/>
                </a:moveTo>
                <a:lnTo>
                  <a:pt x="7301" y="15125"/>
                </a:lnTo>
                <a:lnTo>
                  <a:pt x="7301" y="20460"/>
                </a:lnTo>
                <a:cubicBezTo>
                  <a:pt x="7301" y="21383"/>
                  <a:pt x="8102" y="22114"/>
                  <a:pt x="9138" y="22114"/>
                </a:cubicBezTo>
                <a:lnTo>
                  <a:pt x="10800" y="22114"/>
                </a:lnTo>
                <a:cubicBezTo>
                  <a:pt x="11836" y="22114"/>
                  <a:pt x="12636" y="21383"/>
                  <a:pt x="12636" y="20460"/>
                </a:cubicBezTo>
                <a:lnTo>
                  <a:pt x="12636" y="15125"/>
                </a:lnTo>
                <a:lnTo>
                  <a:pt x="10800" y="15125"/>
                </a:lnTo>
                <a:lnTo>
                  <a:pt x="14308" y="11618"/>
                </a:lnTo>
                <a:lnTo>
                  <a:pt x="17981" y="15125"/>
                </a:lnTo>
                <a:lnTo>
                  <a:pt x="16144" y="15125"/>
                </a:lnTo>
                <a:lnTo>
                  <a:pt x="16144" y="20460"/>
                </a:lnTo>
                <a:cubicBezTo>
                  <a:pt x="16144" y="23228"/>
                  <a:pt x="13568" y="25787"/>
                  <a:pt x="10800" y="25787"/>
                </a:cubicBezTo>
                <a:lnTo>
                  <a:pt x="9138" y="25787"/>
                </a:lnTo>
                <a:cubicBezTo>
                  <a:pt x="6370" y="25787"/>
                  <a:pt x="3794" y="23228"/>
                  <a:pt x="3794" y="20460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ahoma"/>
              </a:rPr>
              <a:t>Массаж сердца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569916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При проведении массажа сердца грудину необходимо смещать на 3-4 см. по направлению к позвоночни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Частота сжатой грудины должна быть около 60 раз в минуту или несколько бол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ждое сжатие состоит из 2 част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50b2f"/>
                </a:solidFill>
                <a:latin typeface="Tahoma"/>
              </a:rPr>
              <a:t>Резкого толч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50b2f"/>
                </a:solidFill>
                <a:latin typeface="Tahoma"/>
              </a:rPr>
              <a:t>Сжатия, завершающего толчок без снижения дав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AutoShape 4">
            <a:hlinkClick r:id="" action="ppaction://hlinkshowjump?jump=nextslide"/>
          </p:cNvPr>
          <p:cNvSpPr/>
          <p:nvPr/>
        </p:nvSpPr>
        <p:spPr>
          <a:xfrm>
            <a:off x="8459640" y="5084640"/>
            <a:ext cx="540000" cy="104328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1043280"/>
              <a:gd name="textAreaBottom" fmla="*/ 1008360 h 1043280"/>
            </a:gdLst>
            <a:ahLst/>
            <a:rect l="textAreaLeft" t="textAreaTop" r="textAreaRight" b="textAreaBottom"/>
            <a:pathLst>
              <a:path w="21600" h="41718">
                <a:moveTo>
                  <a:pt x="0" y="0"/>
                </a:moveTo>
                <a:lnTo>
                  <a:pt x="21600" y="0"/>
                </a:lnTo>
                <a:lnTo>
                  <a:pt x="21600" y="41718"/>
                </a:lnTo>
                <a:lnTo>
                  <a:pt x="0" y="41718"/>
                </a:lnTo>
                <a:close/>
              </a:path>
              <a:path fill="lightenLess" w="21600" h="417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1718">
                <a:moveTo>
                  <a:pt x="21600" y="0"/>
                </a:moveTo>
                <a:lnTo>
                  <a:pt x="21600" y="41718"/>
                </a:lnTo>
                <a:lnTo>
                  <a:pt x="20200" y="40318"/>
                </a:lnTo>
                <a:lnTo>
                  <a:pt x="20200" y="1400"/>
                </a:lnTo>
                <a:close/>
              </a:path>
              <a:path fill="darkenLess" w="21600" h="41718">
                <a:moveTo>
                  <a:pt x="21600" y="41718"/>
                </a:moveTo>
                <a:lnTo>
                  <a:pt x="0" y="41718"/>
                </a:lnTo>
                <a:lnTo>
                  <a:pt x="1400" y="40318"/>
                </a:lnTo>
                <a:lnTo>
                  <a:pt x="20200" y="40318"/>
                </a:lnTo>
                <a:close/>
              </a:path>
              <a:path fill="lighten" w="21600" h="41718">
                <a:moveTo>
                  <a:pt x="0" y="41718"/>
                </a:moveTo>
                <a:lnTo>
                  <a:pt x="0" y="0"/>
                </a:lnTo>
                <a:lnTo>
                  <a:pt x="1400" y="1400"/>
                </a:lnTo>
                <a:lnTo>
                  <a:pt x="1400" y="40318"/>
                </a:lnTo>
                <a:close/>
              </a:path>
              <a:path fill="darken" w="21600" h="41718">
                <a:moveTo>
                  <a:pt x="3794" y="13852"/>
                </a:moveTo>
                <a:lnTo>
                  <a:pt x="17806" y="20859"/>
                </a:lnTo>
                <a:lnTo>
                  <a:pt x="3794" y="27865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5" descr="Изображение 042"/>
          <p:cNvPicPr/>
          <p:nvPr/>
        </p:nvPicPr>
        <p:blipFill>
          <a:blip r:embed="rId1"/>
          <a:stretch/>
        </p:blipFill>
        <p:spPr>
          <a:xfrm>
            <a:off x="6516720" y="1197000"/>
            <a:ext cx="223200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2T16:50:16Z</dcterms:created>
  <dc:creator>Гость</dc:creator>
  <dc:description/>
  <dc:language>en-US</dc:language>
  <cp:lastModifiedBy>Администратор безопасности</cp:lastModifiedBy>
  <dcterms:modified xsi:type="dcterms:W3CDTF">2017-06-24T05:32:48Z</dcterms:modified>
  <cp:revision>5</cp:revision>
  <dc:subject/>
  <dc:title>Методика проведения Экстренной реанимационной помощи</dc:title>
</cp:coreProperties>
</file>