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6B3-BB7F-432E-BAE1-F66C0FA6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FFD-4F4E-41EF-899F-F3FA7CBC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34F-72B1-4A0C-8DFC-BD9F02D5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10F-D650-484D-9D60-95BE2AD2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407-4D05-47D1-B250-942678A4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193-A69E-4449-9216-44F49BEF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95C-F429-45E9-AB8B-4B2061ED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A5A-E0A4-4CA8-BC68-E0E672A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330-85C1-4004-BE9C-82CCEE59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B5C-3E49-4B50-A286-9B07B32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175-E8DF-4324-A6A2-30BDC81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EF8-5135-4550-87D6-6E3DC3D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706-F40E-429D-A2A7-1D26F61E9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прямой массаж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кусственная вентиляция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06864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ямой массаж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действий при проведении непрямого массажа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искусственной вентиляции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0" y="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ни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комплекс мероприятий (действий) по выведению человека из состояния клинической смер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определения у пострадавшего состояния клинической смерти необходимо приступить к проведению реанимаци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нимационные мероприятия состоят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ардиального удара по груд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ямого массажа серд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енной вентиляции легких (ИВ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НИМАНИЕ! Запомните :прекардиальный удар при сохраненном сердцебиении может убить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7omz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овательность действий при реанимации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нуть пострадавшего на спин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свободить его грудную клетку от одежды, расстегнуть ремень на брюках, у женщин - бюстгальте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крыть мечевидный отросток грудины двумя пальцами одной руки, а другой рукой нанести прекардиальный удар в точку на 2-3 см выше мечевидного отростка грудины. Удар наносят коротким резким движением, ребром сжатой в кулак ладони, при этом локоть руки должен быть направлен вдоль тела пострадав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ле удара необходимо проверить пульс на сонной артер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ардиальный удар наиболее эффективен в первую минуту после остановки серд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ли пульс не появился, необходимо приступить к непрямому массажу сердц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0"/>
            <a:ext cx="9144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Выберите из предложенных вариантов ответов правильные действия по нанесению прекардиального удара в области груд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екардиальный удар наносится в точку расположенну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рудине выше мечевидного отростка: на 1-2 см; 2-3 с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-5 см (на границе средней и нижней трети грудины, на 2 с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ево от центра грудин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рекардиальный удар наносится ладон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екардиальный удар наносится ребром сжатой в кулак ладо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локоть руки, наносящей удар, должен быть направлен поперек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локоть руки, наносящей удар, должен быть направлен вдоль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дар должен быть скользящ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дар должен быть коротким и достаточно резк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после первого удара сделать второй уда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сразу после удара выяснить - возобновилась ли работа серд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/З Раздел 2, п 3.1-3.2 Ответить на вопросы(1-2), выполнить задание№16,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новы безопасности жизнедеятельности» - учебник для учащихся 9 классов общеобразовательных  учреждений / С.Н. Вангородский, М.И. Кузнецов, В.В. Марков, В.Н. Латчук – М: Дроф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Латчук В. Н., Марков В.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­ности жизнедеятельности. 9 класс: методическое по­собие. — М.: Дрофа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В.Н. Латчук, В.В. Марк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П. Фролов «Основы безопасности жизнедеятельности» Дидактические материалы - М.: Дроф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5280" y="0"/>
            <a:ext cx="87487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Врачи выделяют следующие признаки клинической смерт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е очень просто определяются и для этого не обязательно иметь каких-либо специальных зна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отсутствие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отсутствие реакции зрачков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отсутствие сл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отсутствие дыхания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отсутствие пульса на сонной арте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дите допущенную ошиб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пределите последовательность реанимационной помощ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адавше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оизвести прекардиальный удар в области груд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оложить пострадавшего на спину на жесткую поверхн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овести искусственную вентиляцию легк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приступить к непрямому массажу серд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вызвать «скорую помощь» или срочно доставить пострадавшего в больни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Выберите из предложенных вариантов ответов очередность правильных действий по определению признаков клинической смер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определить наличие отечности нижних и верхних конечнос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убедиться в полной дыхательной актив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убедиться в отсутствии дых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убедиться в отсутствии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убедиться в отсутствии речи у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бедиться в реагировании зрачков глаз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бедиться в отсутствии реакции зрачка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убедиться в наличии у пострадавшего ушибов, травмы головы или позвоночника и) убедиться в отсутствии пульса на сонной артерии; к) определить наличие слуха у пострадавше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0"/>
            <a:ext cx="9144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Выберите из предложенных вариантов ответов правильные действия по нанесению прекардиального удара в области груд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екардиальный удар наносится в точку расположенну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рудине выше мечевидного отростка: на 1-2 см; 2-3 с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-5 см (на границе средней и нижней трети грудины, на 2 с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ево от центра грудин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рекардиальный удар наносится ладон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екардиальный удар наносится ребром сжатой в кулак ладо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локоть руки, наносящей удар, должен быть направлен поперек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локоть руки, наносящей удар, должен быть направлен вдоль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дар должен быть скользящ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дар должен быть коротким и достаточно резк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после первого удара сделать второй уда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сразу после удара выяснить - возобновилась ли работа серд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/З Раздел 2, п 3.1-3.2 Ответить на вопросы(1-2), выполнить задание№16,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0" y="476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правила выполнения непрямого массажа сердца и искусственной вентиляции лёг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5omz"/>
          <p:cNvPicPr/>
          <p:nvPr/>
        </p:nvPicPr>
        <p:blipFill>
          <a:blip r:embed="rId1"/>
          <a:stretch/>
        </p:blipFill>
        <p:spPr>
          <a:xfrm>
            <a:off x="0" y="108756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ие клинической смерти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ческая смерть - пограничное состояние между жизнью и смертью, во время которого ещё можно вернуть человека к жизни, сохранив его интеллект. Клиническая смерть длится 3-4 минуты, если за это время не возобновляется кровоснабжение головного мозга, наступает биологическая смер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7628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тояние клинической см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острадавшего, находящегося без сознания, необходимо провер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ю зрачков на свет (при повторном приподнимании верхнего века зрачок не суживае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отсутствие дых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ульса на сонной артерии: приложить пальцы под угол нижней челюсти справа или слева; отсутствие пульса свидетельствует об остановке серд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6omz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6:21:45Z</dcterms:created>
  <dc:creator>GEG</dc:creator>
  <dc:description/>
  <dc:language>en-US</dc:language>
  <cp:lastModifiedBy>Администратор безопасности</cp:lastModifiedBy>
  <dcterms:modified xsi:type="dcterms:W3CDTF">2017-06-24T05:33:04Z</dcterms:modified>
  <cp:revision>11</cp:revision>
  <dc:subject/>
  <dc:title>Слайд 1</dc:title>
</cp:coreProperties>
</file>