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7B0-C28E-4EA2-86D4-3801C8D9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FDE-E9A4-4C08-914A-34FECD2D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F91-9F9B-4E5E-BE28-5337C742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490-A454-4F36-9535-1D2053CB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975-1050-4C93-98B3-E0293228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A39-11FE-49DA-8FCF-7CEE7D7D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5C1-9637-46C7-AB2E-B9A535F9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BC3-BF41-4873-9F50-648F81CD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3BD-7FA3-48B2-8156-7A691652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ABB-BE0A-435B-80AF-9EED5934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A3A-740E-4C9B-B478-BD7592A6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DE0-DAF0-4746-98EE-5BB4B22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1CF6-DDDF-4BD5-9D62-09FB5BC107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3359160"/>
            <a:ext cx="8418600" cy="1749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476360" y="501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требования. Часть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835280" y="6021360"/>
            <a:ext cx="73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готовил: преподаватель-организатор ОБЖ Солошенко С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132000" y="645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г.Санкт-Петербург –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0" y="3105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7. Отморожение и другие эффекты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holodno.jpg"/>
          <p:cNvPicPr/>
          <p:nvPr/>
        </p:nvPicPr>
        <p:blipFill>
          <a:blip r:embed="rId1"/>
          <a:stretch/>
        </p:blipFill>
        <p:spPr>
          <a:xfrm>
            <a:off x="5508720" y="2133720"/>
            <a:ext cx="30240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0" y="33336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79280" y="32446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8. От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267945-1378-26.jpg"/>
          <p:cNvPicPr/>
          <p:nvPr/>
        </p:nvPicPr>
        <p:blipFill>
          <a:blip r:embed="rId1"/>
          <a:stretch/>
        </p:blipFill>
        <p:spPr>
          <a:xfrm>
            <a:off x="4427640" y="2349360"/>
            <a:ext cx="439236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79280" y="549360"/>
            <a:ext cx="7777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В соответстви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987560"/>
            <a:ext cx="914400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-110880"/>
            <a:ext cx="91440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50920" y="33336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pic_15719.jpg"/>
          <p:cNvPicPr/>
          <p:nvPr/>
        </p:nvPicPr>
        <p:blipFill>
          <a:blip r:embed="rId1"/>
          <a:stretch/>
        </p:blipFill>
        <p:spPr>
          <a:xfrm>
            <a:off x="1835280" y="2781360"/>
            <a:ext cx="494496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3. Определение наличия сознания у пострадавш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cpr-new-1.jpg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0" y="16812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34812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611280" y="-41040"/>
            <a:ext cx="684036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 оказывается первая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мероприятий по оказанию первой пом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35820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0" y="-61920"/>
            <a:ext cx="91440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2009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324000" y="404640"/>
            <a:ext cx="653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2" descr="376850-5979-54.jpg"/>
          <p:cNvPicPr/>
          <p:nvPr/>
        </p:nvPicPr>
        <p:blipFill>
          <a:blip r:embed="rId1"/>
          <a:stretch/>
        </p:blipFill>
        <p:spPr>
          <a:xfrm>
            <a:off x="2484360" y="206064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9528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10.jpg"/>
          <p:cNvPicPr/>
          <p:nvPr/>
        </p:nvPicPr>
        <p:blipFill>
          <a:blip r:embed="rId1"/>
          <a:stretch/>
        </p:blipFill>
        <p:spPr>
          <a:xfrm>
            <a:off x="2124000" y="1844640"/>
            <a:ext cx="396072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79280" y="33336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80482.jpg"/>
          <p:cNvPicPr/>
          <p:nvPr/>
        </p:nvPicPr>
        <p:blipFill>
          <a:blip r:embed="rId1"/>
          <a:stretch/>
        </p:blipFill>
        <p:spPr>
          <a:xfrm>
            <a:off x="755640" y="3068640"/>
            <a:ext cx="58482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1" descr=""/>
          <p:cNvPicPr/>
          <p:nvPr/>
        </p:nvPicPr>
        <p:blipFill>
          <a:blip r:embed="rId2"/>
          <a:stretch/>
        </p:blipFill>
        <p:spPr>
          <a:xfrm>
            <a:off x="542880" y="762120"/>
            <a:ext cx="82771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344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53964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obmorok.jpg"/>
          <p:cNvPicPr/>
          <p:nvPr/>
        </p:nvPicPr>
        <p:blipFill>
          <a:blip r:embed="rId1"/>
          <a:stretch/>
        </p:blipFill>
        <p:spPr>
          <a:xfrm>
            <a:off x="4788000" y="2205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9280" y="292428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1. Отсутствие соз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press_03.jpg"/>
          <p:cNvPicPr/>
          <p:nvPr/>
        </p:nvPicPr>
        <p:blipFill>
          <a:blip r:embed="rId1"/>
          <a:stretch/>
        </p:blipFill>
        <p:spPr>
          <a:xfrm>
            <a:off x="4211640" y="234936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755640" y="260280"/>
            <a:ext cx="61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0" y="3105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Остановка дыхания и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50920" y="260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0" y="3244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3. Наружные крово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firsthelp.gif"/>
          <p:cNvPicPr/>
          <p:nvPr/>
        </p:nvPicPr>
        <p:blipFill>
          <a:blip r:embed="rId1"/>
          <a:stretch/>
        </p:blipFill>
        <p:spPr>
          <a:xfrm>
            <a:off x="4211640" y="2492280"/>
            <a:ext cx="446400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9280" y="18900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50920" y="3105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4. Инородные тела верхних дыхательных пу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000199_712692.jpg"/>
          <p:cNvPicPr/>
          <p:nvPr/>
        </p:nvPicPr>
        <p:blipFill>
          <a:blip r:embed="rId1"/>
          <a:stretch/>
        </p:blipFill>
        <p:spPr>
          <a:xfrm>
            <a:off x="4702320" y="2781360"/>
            <a:ext cx="411300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79280" y="40464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0" y="324468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5. Травмы различных областей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2552820.jpg"/>
          <p:cNvPicPr/>
          <p:nvPr/>
        </p:nvPicPr>
        <p:blipFill>
          <a:blip r:embed="rId1"/>
          <a:stretch/>
        </p:blipFill>
        <p:spPr>
          <a:xfrm>
            <a:off x="4356000" y="2421000"/>
            <a:ext cx="4464000" cy="367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79280" y="260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0" y="310500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2639874.jpg"/>
          <p:cNvPicPr/>
          <p:nvPr/>
        </p:nvPicPr>
        <p:blipFill>
          <a:blip r:embed="rId1"/>
          <a:stretch/>
        </p:blipFill>
        <p:spPr>
          <a:xfrm>
            <a:off x="5580000" y="2565360"/>
            <a:ext cx="338472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дминистратор безопасности</cp:lastModifiedBy>
  <dcterms:modified xsi:type="dcterms:W3CDTF">2017-06-24T05:34:18Z</dcterms:modified>
  <cp:revision>721</cp:revision>
  <dc:subject/>
  <dc:title>Diapositiva 1</dc:title>
</cp:coreProperties>
</file>