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163E-0AE0-41D0-93B9-29B812D71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FEFB-CDA8-4ACC-B0E6-EFFA722B5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32B8-0CBC-4EA8-9524-626A5B459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36AD-CC27-48FE-9255-4C8C249A0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45FE-C8FD-451E-8A29-9415D169C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E784-C994-40AC-8589-2DD8F7DFE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2253-0417-4BB2-8C6F-DDA28BE57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AD53-3891-4254-BAB0-ED1C5B650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3892-1238-44E8-9A3E-485DFF1ED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B470-69A9-4B64-87D4-ADC4515CF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F3FE-5C17-4B49-9CDC-0EE423D68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69F2-F3B5-4DB5-8389-1F25B478B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8EF9F-4254-406A-B71B-FDC9FA03C73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900igr.net/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907560"/>
            <a:ext cx="8229600" cy="396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3333ff"/>
                </a:solidFill>
                <a:latin typeface="Times New Roman"/>
              </a:rPr>
              <a:t>Виды ран и общие правила оказания первой медицинской помощи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Скругленный прямоугольник 2">
            <a:hlinkClick r:id="rId1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ff"/>
                </a:solidFill>
                <a:latin typeface="Times New Roman"/>
              </a:rPr>
              <a:t>Виды ран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В зависимости от действия различных факторов раны бывают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300" spc="-1" strike="noStrike">
                <a:solidFill>
                  <a:srgbClr val="000000"/>
                </a:solidFill>
                <a:latin typeface="Times New Roman"/>
              </a:rPr>
              <a:t>Колотые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(штыком, иглой и т.п.)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300" spc="-1" strike="noStrike">
                <a:solidFill>
                  <a:srgbClr val="000000"/>
                </a:solidFill>
                <a:latin typeface="Times New Roman"/>
              </a:rPr>
              <a:t>Резаные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(ножом, стеклом и т.п.)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000000"/>
                </a:solidFill>
                <a:latin typeface="Times New Roman"/>
              </a:rPr>
              <a:t>Рубленные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(топором, шашкой и т.п.)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000000"/>
                </a:solidFill>
                <a:latin typeface="Times New Roman"/>
              </a:rPr>
              <a:t>Рваные или ушибленные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(следствие воздействия относительно острого твердого предмета)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000000"/>
                </a:solidFill>
                <a:latin typeface="Times New Roman"/>
              </a:rPr>
              <a:t>Укушенные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(нанесены зубами животного или человека)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000000"/>
                </a:solidFill>
                <a:latin typeface="Times New Roman"/>
              </a:rPr>
              <a:t>Огнестрельные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(пулями, осколками и т.п.)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000000"/>
                </a:solidFill>
                <a:latin typeface="Times New Roman"/>
              </a:rPr>
              <a:t>Отравленные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(раны, в которые попадает яд)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3333ff"/>
                </a:solidFill>
                <a:latin typeface="Times New Roman"/>
              </a:rPr>
              <a:t>Виды ран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"/>
          <p:cNvPicPr/>
          <p:nvPr/>
        </p:nvPicPr>
        <p:blipFill>
          <a:blip r:embed="rId1"/>
          <a:stretch/>
        </p:blipFill>
        <p:spPr>
          <a:xfrm>
            <a:off x="2050920" y="1895400"/>
            <a:ext cx="482616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ff"/>
                </a:solidFill>
                <a:latin typeface="Times New Roman"/>
              </a:rPr>
              <a:t>Виды ран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2828880" y="1773360"/>
            <a:ext cx="3787920" cy="42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ff"/>
                </a:solidFill>
                <a:latin typeface="Times New Roman"/>
              </a:rPr>
              <a:t>Виды ран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1692360" y="2133720"/>
            <a:ext cx="6048360" cy="32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ff"/>
                </a:solidFill>
                <a:latin typeface="Times New Roman"/>
              </a:rPr>
              <a:t>Первая медицинская </a:t>
            </a:r>
            <a:br>
              <a:rPr sz="4400"/>
            </a:br>
            <a:r>
              <a:rPr b="0" lang="ru-RU" sz="4400" spc="-1" strike="noStrike">
                <a:solidFill>
                  <a:srgbClr val="3333ff"/>
                </a:solidFill>
                <a:latin typeface="Times New Roman"/>
              </a:rPr>
              <a:t>помощь при ранен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екращение действия травмирующих фактор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становка кровотеч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работка ра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ложение стерильной повяз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ездвиживание тела подручными средств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езболив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ранспортировка или вызов «скорой помощи» пострадавше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0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ff"/>
                </a:solidFill>
                <a:latin typeface="Times New Roman"/>
              </a:rPr>
              <a:t>Обработка ра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Промывание раны перекисью водорода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Промывание раны струей раствора антисептика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Если рана загрязнена масляными жидкостями, красками, необходимо удалить их вокруг раны при помощи бензина, керосина, растворителя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Обработка кожи вокруг раны спиртовым раствором йода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picture"/>
          <p:cNvPicPr/>
          <p:nvPr/>
        </p:nvPicPr>
        <p:blipFill>
          <a:blip r:embed="rId1"/>
          <a:stretch/>
        </p:blipFill>
        <p:spPr>
          <a:xfrm>
            <a:off x="900000" y="4221000"/>
            <a:ext cx="1871640" cy="215928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56" name="Picture 5" descr="picture"/>
          <p:cNvPicPr/>
          <p:nvPr/>
        </p:nvPicPr>
        <p:blipFill>
          <a:blip r:embed="rId2"/>
          <a:stretch/>
        </p:blipFill>
        <p:spPr>
          <a:xfrm>
            <a:off x="3348000" y="4221000"/>
            <a:ext cx="2303640" cy="215748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57" name="Picture 6" descr="picture"/>
          <p:cNvPicPr/>
          <p:nvPr/>
        </p:nvPicPr>
        <p:blipFill>
          <a:blip r:embed="rId3"/>
          <a:stretch/>
        </p:blipFill>
        <p:spPr>
          <a:xfrm>
            <a:off x="6516720" y="4292640"/>
            <a:ext cx="2158920" cy="194292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0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3333ff"/>
                </a:solidFill>
                <a:latin typeface="Times New Roman"/>
              </a:rPr>
              <a:t>Если в ране находится </a:t>
            </a:r>
            <a:br>
              <a:rPr sz="4400"/>
            </a:br>
            <a:r>
              <a:rPr b="0" lang="ru-RU" sz="4400" spc="-1" strike="noStrike">
                <a:solidFill>
                  <a:srgbClr val="3333ff"/>
                </a:solidFill>
                <a:latin typeface="Times New Roman"/>
              </a:rPr>
              <a:t>инородное тело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льзя из раны доставать торчащие предме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афиксируйте торчащий предм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бработка раны такая же, как без инородного те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вязку накладывайте вокруг торчащего предме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0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ru-RU" sz="4400" spc="-1" strike="noStrike" u="sng">
                <a:solidFill>
                  <a:srgbClr val="ff3300"/>
                </a:solidFill>
                <a:uFillTx/>
                <a:latin typeface="Times New Roman"/>
              </a:rPr>
              <a:t>НЕЛЬЗЯ!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мывать рану водой из водоемов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пускать попадания прижигающих антисептических веществ на  раневую поверхность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сыпать рану порошкам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кладывать на рану мазь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кладывать вату непосредственно к раневой поверхност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 время перевязки касаться поверхности раны рукам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елать перевязку грязными руками (по возможности протрите руки одеколоном, спиртом или водкой)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0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5T12:04:12Z</dcterms:created>
  <dc:creator>Admin</dc:creator>
  <dc:description/>
  <dc:language>en-US</dc:language>
  <cp:lastModifiedBy>Администратор безопасности</cp:lastModifiedBy>
  <dcterms:modified xsi:type="dcterms:W3CDTF">2017-06-24T05:32:09Z</dcterms:modified>
  <cp:revision>10</cp:revision>
  <dc:subject/>
  <dc:title>Виды ран и общие правила оказания первой медицинской помощи</dc:title>
</cp:coreProperties>
</file>