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51-FACF-4CF4-BEEF-0E116ED9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631-87B0-4559-80C7-FA7F03E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558-64A4-4B83-AF7B-521578BE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4DA-F3BF-4B39-B5FB-18689ACF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3EA-69CD-42DE-AE8E-DC414D1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B0D-2087-4828-BB7D-FB086ECD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A5A-2F54-4CB2-BF1E-55813A7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977-C9EE-4CDA-AEBF-6407833B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2C3-1CA6-49D7-AB46-0C5F4D2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90F-AC60-4D28-A8CF-C13C140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2B3-DB85-4CC6-AC7D-C410B38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02E-3EDE-4A5D-817F-AEB105D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15F-960F-4DFC-9506-4566811DB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esent Simple –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стоящее прост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5640" y="134100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+)           V     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788000" y="2276640"/>
            <a:ext cx="14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, we, you,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732720" y="227664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, she,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700360" y="4437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-), ?      do    /   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4000" y="1884240"/>
            <a:ext cx="259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us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ome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eldom (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едко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ever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6877080" y="1916280"/>
            <a:ext cx="287280" cy="502920"/>
          </a:xfrm>
          <a:prstGeom prst="downArrow">
            <a:avLst>
              <a:gd name="adj1" fmla="val 50000"/>
              <a:gd name="adj2" fmla="val 437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5148360" y="4005360"/>
            <a:ext cx="287280" cy="503280"/>
          </a:xfrm>
          <a:prstGeom prst="up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948360" y="4005360"/>
            <a:ext cx="287640" cy="503280"/>
          </a:xfrm>
          <a:prstGeom prst="up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5148360" y="1916280"/>
            <a:ext cx="288720" cy="502920"/>
          </a:xfrm>
          <a:prstGeom prst="downArrow">
            <a:avLst>
              <a:gd name="adj1" fmla="val 50000"/>
              <a:gd name="adj2" fmla="val 43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esent Continuous –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стоящее длитель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060280"/>
            <a:ext cx="6624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+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(-), ?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e   + 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00720" y="3357720"/>
            <a:ext cx="30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50920" y="3284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t the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219640" y="2781360"/>
            <a:ext cx="432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012000" y="2781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6443640" y="2781360"/>
            <a:ext cx="36036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esent Perfect –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стоящее совершен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754360"/>
            <a:ext cx="26636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l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y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j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n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92360" y="177336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+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(-), ?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hav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   has + 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788000" y="2852640"/>
            <a:ext cx="143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, we, you, th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732720" y="2852640"/>
            <a:ext cx="122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, she,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148360" y="2492280"/>
            <a:ext cx="215640" cy="505080"/>
          </a:xfrm>
          <a:prstGeom prst="downArrow">
            <a:avLst>
              <a:gd name="adj1" fmla="val 50000"/>
              <a:gd name="adj2" fmla="val 585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7020000" y="2492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ast Simple –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ошедшее прост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87280" y="1773360"/>
            <a:ext cx="5940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+)        V ed   /   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564000" y="3357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-), 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5280" y="2205000"/>
            <a:ext cx="410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yeste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ast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ast mo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as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go, 3 day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n 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4:38:56Z</dcterms:created>
  <dc:creator>Татьяна</dc:creator>
  <dc:description/>
  <dc:language>en-US</dc:language>
  <cp:lastModifiedBy>Tanya</cp:lastModifiedBy>
  <dcterms:modified xsi:type="dcterms:W3CDTF">2017-06-27T17:48:43Z</dcterms:modified>
  <cp:revision>3</cp:revision>
  <dc:subject/>
  <dc:title>Present Simple – настоящее простое время</dc:title>
</cp:coreProperties>
</file>