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gif" ContentType="image/gif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FCF3-05B5-477C-8877-B47C9E635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BF6C-5245-4036-B02A-FA4A17AC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BC38-40F6-402C-8E46-33BC1F7E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B09A-9E71-42B4-BA11-DE0099EAC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BDBF-92F0-43BB-A8EA-59715B38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D8A8-5DFE-4FA0-9B35-317CC45F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78E1-B67D-4DD1-B2C1-4511AE36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154B-D617-4103-A454-05C8443B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1F87-229D-4E60-A432-858EA733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6D4A-2B51-4E55-A018-9C403F15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239D-A45C-4084-BC6A-52D6E50B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96FB-85D3-4D59-906A-D7F29D0B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7233-69B7-4E22-B146-4778EFB470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одержимое 6" descr="сканирование0001.jpg"/>
          <p:cNvPicPr/>
          <p:nvPr/>
        </p:nvPicPr>
        <p:blipFill>
          <a:blip r:embed="rId2"/>
          <a:stretch/>
        </p:blipFill>
        <p:spPr>
          <a:xfrm>
            <a:off x="1523880" y="1828800"/>
            <a:ext cx="2176560" cy="36241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4114800" y="27432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истема оценки образовательных достижений в начальной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0"/>
          <p:cNvSpPr/>
          <p:nvPr/>
        </p:nvSpPr>
        <p:spPr>
          <a:xfrm>
            <a:off x="4114800" y="4921200"/>
            <a:ext cx="43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576360" y="277920"/>
            <a:ext cx="83390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cc"/>
                </a:solidFill>
                <a:latin typeface="Arial"/>
              </a:rPr>
              <a:t>Типы заданий для формирования контрольно-оценочной самостоятельност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033560" y="1066680"/>
            <a:ext cx="8110440" cy="47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Типы заданий</a:t>
            </a:r>
            <a:r>
              <a:rPr b="0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ащийся выделяет критерии и оценивает свое выполнение задания по этим критериям. (Истинные критерии должны быть скрыты от учащегос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) Дано задание с решением и выделено несколько критериев. Учащимся необходимо оценить правильность выполнения задания по этим критериям. (Решение такое, что  части критериев оно удовлетворяет, а другой части ­– нет.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) Даны несколько заданий. Ученик должен оценить, какие он может решить, а какие –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) Дано задание (или задания) и приведены ошибочные решения (способы решения должны быть подробно показан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Ошибочны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ешения должны быть двух тип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ответ правильный, но способ решения неправиль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способ правильный, но ответ неправиль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еник должен найти ошибки и указать их причи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) Дано задание и небольшой справочник. При решении учащийся должен использовать справочник. (Задание должно быть таким, чтобы выполнить его без справочника учащийся не мог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ется задание, его решение, содержащее ошибку, и набор карточек. Нужно выбрать ту карточку, которая поможет разобраться с ошибко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838080" y="22860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едагогические приемы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формирования действий контроля и оценки у 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младших школьнико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838080" y="1371600"/>
            <a:ext cx="51818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«Волшебные линееч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изобретение оценочных ш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ими школьника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«Прогностическая оцен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ценка своих возможностей для решения задач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«Задания-ловуш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рефлексия освоенного способ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«Составление заданий с ловушками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пределение или видение возможных ошибкоопасных мес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«Составление задачи, подобной данн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990720" y="1752480"/>
            <a:ext cx="5607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«Классификация задач по способу их реш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 выделение общего способа действ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«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Обнаружение ошиб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«Создание помощн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«Обоснованный  отказ от выполнения задан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 умение обнаружить границу своих знаний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«Многоступенчатый выб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«Орфографические софизмы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умение обнаружить и опровергнуть псевдологи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суждение при решении задач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133640" y="228600"/>
            <a:ext cx="612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едагогические приемы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формирования действий контроля и оценки у 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младших школьнико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book8"/>
          <p:cNvPicPr/>
          <p:nvPr/>
        </p:nvPicPr>
        <p:blipFill>
          <a:blip r:embed="rId1"/>
          <a:stretch/>
        </p:blipFill>
        <p:spPr>
          <a:xfrm>
            <a:off x="7238880" y="4876920"/>
            <a:ext cx="1571760" cy="1538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2"/>
          <p:cNvSpPr/>
          <p:nvPr/>
        </p:nvSpPr>
        <p:spPr>
          <a:xfrm>
            <a:off x="1143000" y="41184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Новые методы и формы оценк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тапредметные диагностические работ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иагностика результатов личности развития.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137160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продук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5410080" y="1447920"/>
            <a:ext cx="3124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дуктив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в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ц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5"/>
          <p:cNvSpPr/>
          <p:nvPr/>
        </p:nvSpPr>
        <p:spPr>
          <a:xfrm>
            <a:off x="3962520" y="15238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6"/>
          <p:cNvSpPr/>
          <p:nvPr/>
        </p:nvSpPr>
        <p:spPr>
          <a:xfrm rot="5055600">
            <a:off x="4709880" y="2147760"/>
            <a:ext cx="333360" cy="1371600"/>
          </a:xfrm>
          <a:prstGeom prst="downArrow">
            <a:avLst>
              <a:gd name="adj1" fmla="val 50000"/>
              <a:gd name="adj2" fmla="val 1028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7"/>
          <p:cNvSpPr/>
          <p:nvPr/>
        </p:nvSpPr>
        <p:spPr>
          <a:xfrm rot="3869400">
            <a:off x="4812840" y="2501640"/>
            <a:ext cx="380880" cy="1778040"/>
          </a:xfrm>
          <a:prstGeom prst="downArrow">
            <a:avLst>
              <a:gd name="adj1" fmla="val 50000"/>
              <a:gd name="adj2" fmla="val 1167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8"/>
          <p:cNvSpPr/>
          <p:nvPr/>
        </p:nvSpPr>
        <p:spPr>
          <a:xfrm rot="18947400">
            <a:off x="6933960" y="2514600"/>
            <a:ext cx="342720" cy="1263600"/>
          </a:xfrm>
          <a:prstGeom prst="downArrow">
            <a:avLst>
              <a:gd name="adj1" fmla="val 50000"/>
              <a:gd name="adj2" fmla="val 921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838080" y="3733920"/>
            <a:ext cx="4496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762120" y="2590920"/>
            <a:ext cx="3429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Регулятивные УУ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-2 класс «Рисование по точка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Скопируй по клеточкам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-4 класс «Тест простых поручен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2590920" y="4800600"/>
            <a:ext cx="4419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762120" y="4419720"/>
            <a:ext cx="5257800" cy="20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Познавательные УУД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-2 класс «Найди несколько отличий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-4 класс «Реконструкция простых предло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3"/>
          <p:cNvSpPr/>
          <p:nvPr/>
        </p:nvSpPr>
        <p:spPr>
          <a:xfrm flipV="1" rot="10800600">
            <a:off x="5560200" y="3564000"/>
            <a:ext cx="30020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Коммуникативные УУ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-2 класс «Рукавиц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Узор под диктовку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-4 класс «Взаимодействие в учебной групп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914400" y="5790600"/>
            <a:ext cx="69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сихологическая карт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зультаты личностного   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838080" y="18288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1 класс диагностика «Школьный старт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(Т.В.Беглова, М.Р.Битяно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2962080" y="1219320"/>
            <a:ext cx="595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Л.С. Выготский о проблеме отметки и оце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i?id=16248230&amp;tov=8"/>
          <p:cNvPicPr/>
          <p:nvPr/>
        </p:nvPicPr>
        <p:blipFill>
          <a:blip r:embed="rId1"/>
          <a:stretch/>
        </p:blipFill>
        <p:spPr>
          <a:xfrm>
            <a:off x="1219320" y="1371600"/>
            <a:ext cx="1357200" cy="18622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3048120" y="1828800"/>
            <a:ext cx="5181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...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награда и наказа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вляются психологически совершенно недопустимым средством в школе..».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3424320" y="3200400"/>
            <a:ext cx="46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Д.Б. Эльконин о контроле и оце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143000" y="3733920"/>
            <a:ext cx="1457280" cy="16761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"/>
          <p:cNvSpPr/>
          <p:nvPr/>
        </p:nvSpPr>
        <p:spPr>
          <a:xfrm>
            <a:off x="2895480" y="3733920"/>
            <a:ext cx="6248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«Контроль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действие за правильностью и полнотой выполнения операций, входящих в состав действий.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3885480" y="5105520"/>
            <a:ext cx="20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 чего нач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990720" y="563868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ть основание думать, что рациональнее всего начин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формирования самостоятельного контр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1143000" y="22860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Действия контроля и оценки в рамках урочной и внеурочной деятельности младших шк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3805560" y="304920"/>
            <a:ext cx="452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В.В Давыдов о контроле и оце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7010280" y="4572000"/>
            <a:ext cx="1833840" cy="19810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1143000" y="838080"/>
            <a:ext cx="77724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«Оценка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ие по определению наличия или отсутствия у себя общего способа решения тех или иных задач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«Действие оценки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и есть то действие, благодаря которому человек оценивает  свои возможности  действовать, определяет, достаточно ли у него знаний для решения новой задачи, каких именно знаний недостае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«Контроль</a:t>
            </a: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ючается в определении соответствия учебных действий условиям и требованиям учебной задачи. Он помогает ученику, меняя операционный состав действий, выявлять их связь с теми или иными особенностями условий задачи и получаемого результа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685800" y="22860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Три основных линии контрольно-оценочных действий в                        образовательном проце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990720" y="1447920"/>
            <a:ext cx="1600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ер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тор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реть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Рисунок2"/>
          <p:cNvPicPr/>
          <p:nvPr/>
        </p:nvPicPr>
        <p:blipFill>
          <a:blip r:embed="rId1"/>
          <a:stretch/>
        </p:blipFill>
        <p:spPr>
          <a:xfrm>
            <a:off x="7224840" y="990720"/>
            <a:ext cx="1649160" cy="1752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Рисунок13"/>
          <p:cNvPicPr/>
          <p:nvPr/>
        </p:nvPicPr>
        <p:blipFill>
          <a:blip r:embed="rId2"/>
          <a:stretch/>
        </p:blipFill>
        <p:spPr>
          <a:xfrm>
            <a:off x="7238880" y="2971800"/>
            <a:ext cx="1905120" cy="1724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"/>
          <p:cNvPicPr/>
          <p:nvPr/>
        </p:nvPicPr>
        <p:blipFill>
          <a:blip r:embed="rId3"/>
          <a:stretch/>
        </p:blipFill>
        <p:spPr>
          <a:xfrm>
            <a:off x="7315200" y="4876920"/>
            <a:ext cx="1486080" cy="167616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5"/>
          <p:cNvSpPr/>
          <p:nvPr/>
        </p:nvSpPr>
        <p:spPr>
          <a:xfrm>
            <a:off x="2209680" y="1523880"/>
            <a:ext cx="3048120" cy="304920"/>
          </a:xfrm>
          <a:prstGeom prst="rightArrow">
            <a:avLst>
              <a:gd name="adj1" fmla="val 50000"/>
              <a:gd name="adj2" fmla="val 2499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5"/>
          <p:cNvSpPr/>
          <p:nvPr/>
        </p:nvSpPr>
        <p:spPr>
          <a:xfrm>
            <a:off x="2133720" y="3352680"/>
            <a:ext cx="3200400" cy="304920"/>
          </a:xfrm>
          <a:prstGeom prst="rightArrow">
            <a:avLst>
              <a:gd name="adj1" fmla="val 50000"/>
              <a:gd name="adj2" fmla="val 2623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5"/>
          <p:cNvSpPr/>
          <p:nvPr/>
        </p:nvSpPr>
        <p:spPr>
          <a:xfrm>
            <a:off x="2209680" y="5562720"/>
            <a:ext cx="3200400" cy="304560"/>
          </a:xfrm>
          <a:prstGeom prst="rightArrow">
            <a:avLst>
              <a:gd name="adj1" fmla="val 50000"/>
              <a:gd name="adj2" fmla="val 2627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990720" y="1904040"/>
            <a:ext cx="640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ственное мнение и установление положительных критических отношений в коллективе кла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1143000" y="388512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агностика, коррекция и стимулирование учебной деятельности школьн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1441800" y="5866200"/>
            <a:ext cx="60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оценка (внутренняя, рефлексивная оцен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1219320" y="152280"/>
            <a:ext cx="693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ПРИМЕР ПРОГРАММЫ ДЕЙСТВИЙ ПО ФОРМИРОВАНИЮ КОНТРОЛЬНО-ОЦЕНОЧНОЙ САМОСТО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1371600" y="1295280"/>
            <a:ext cx="7238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a1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1a"/>
                </a:solidFill>
                <a:latin typeface="Arial"/>
              </a:rPr>
              <a:t>Сопоставлять, сравнивать результаты: ответы, решения, свои действия с предложенным для обсуж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a1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1a"/>
                </a:solidFill>
                <a:latin typeface="Arial"/>
              </a:rPr>
              <a:t>Обнаруживать сходства, различ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a1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1a"/>
                </a:solidFill>
                <a:latin typeface="Arial"/>
              </a:rPr>
              <a:t>Выбирать образец (то, чему можно следоват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a1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1a"/>
                </a:solidFill>
                <a:latin typeface="Arial"/>
              </a:rPr>
              <a:t>Находить и исправлять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7620480" y="914400"/>
            <a:ext cx="110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600200" y="3200400"/>
            <a:ext cx="5943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a1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1a"/>
                </a:solidFill>
                <a:latin typeface="Arial"/>
              </a:rPr>
              <a:t>Определять критерии оцени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a1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1a"/>
                </a:solidFill>
                <a:latin typeface="Arial"/>
              </a:rPr>
              <a:t>Классифицировать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a1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1a"/>
                </a:solidFill>
                <a:latin typeface="Arial"/>
              </a:rPr>
              <a:t>Фиксировать схематично способы решения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a1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1a"/>
                </a:solidFill>
                <a:latin typeface="Arial"/>
              </a:rPr>
              <a:t>Работать с готовыми алгоритмами для контроля, оценивания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a1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1a"/>
                </a:solidFill>
                <a:latin typeface="Arial"/>
              </a:rPr>
              <a:t>Восстанавливать процесс выполнения, за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7696440" y="2971800"/>
            <a:ext cx="110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ag00317_"/>
          <p:cNvPicPr/>
          <p:nvPr/>
        </p:nvPicPr>
        <p:blipFill>
          <a:blip r:embed="rId1"/>
          <a:stretch/>
        </p:blipFill>
        <p:spPr>
          <a:xfrm>
            <a:off x="7543800" y="51814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1219320" y="228600"/>
            <a:ext cx="5715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a1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1a"/>
                </a:solidFill>
                <a:latin typeface="Arial"/>
              </a:rPr>
              <a:t>Определять причины ошиб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a1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1a"/>
                </a:solidFill>
                <a:latin typeface="Arial"/>
              </a:rPr>
              <a:t>Контролировать процесс выполнения в целом или отдельных его ча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a1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1a"/>
                </a:solidFill>
                <a:latin typeface="Arial"/>
              </a:rPr>
              <a:t>Составлять собственные алгоритмы, схемы для контроля и оцени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a1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1a"/>
                </a:solidFill>
                <a:latin typeface="Arial"/>
              </a:rPr>
              <a:t>Составлять за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295280" y="266688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a1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1a"/>
                </a:solidFill>
                <a:latin typeface="Arial"/>
              </a:rPr>
              <a:t>Определять темы и содержание контрольных работ, зач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a1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1a"/>
                </a:solidFill>
                <a:latin typeface="Arial"/>
              </a:rPr>
              <a:t>Составлять задания разного уровня сло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a1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1a"/>
                </a:solidFill>
                <a:latin typeface="Arial"/>
              </a:rPr>
              <a:t>Выступать в роли учителя для младших шк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" descr="C:\Users\1\Desktop\Тяжелые труды\для работы\Картинки на школьныю тему\Рисунок6.png"/>
          <p:cNvPicPr/>
          <p:nvPr/>
        </p:nvPicPr>
        <p:blipFill>
          <a:blip r:embed="rId1"/>
          <a:stretch/>
        </p:blipFill>
        <p:spPr>
          <a:xfrm>
            <a:off x="6019920" y="4876920"/>
            <a:ext cx="2819160" cy="16286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7"/>
          <p:cNvSpPr/>
          <p:nvPr/>
        </p:nvSpPr>
        <p:spPr>
          <a:xfrm>
            <a:off x="7772760" y="2743200"/>
            <a:ext cx="110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7620480" y="304920"/>
            <a:ext cx="110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AutoShape 2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996320" cy="10778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3733920" y="11430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1 этап -  1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ходный от дошкольного к школьному образова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3657600" y="2209680"/>
            <a:ext cx="5254560" cy="187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Освоение </a:t>
            </a:r>
            <a:r>
              <a:rPr b="1" lang="ru-RU" sz="1800" spc="-1" strike="noStrike">
                <a:solidFill>
                  <a:srgbClr val="0000cc"/>
                </a:solidFill>
                <a:latin typeface="Century"/>
                <a:ea typeface="Arial"/>
              </a:rPr>
              <a:t>операционного (процессуально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Century"/>
                <a:ea typeface="Arial"/>
              </a:rPr>
              <a:t>контроля</a:t>
            </a: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 (сопоставление действий учащихся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заданным образцом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Соотнесение оценки учащегося с оцен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учителя, работа над критери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- </a:t>
            </a:r>
            <a:r>
              <a:rPr b="1" lang="ru-RU" sz="1800" spc="-1" strike="noStrike">
                <a:solidFill>
                  <a:srgbClr val="0000cc"/>
                </a:solidFill>
                <a:latin typeface="Century"/>
                <a:ea typeface="Arial"/>
              </a:rPr>
              <a:t>рефлексивная оценка</a:t>
            </a:r>
            <a:r>
              <a:rPr b="1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( знание- незн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3657600" y="4343400"/>
            <a:ext cx="532764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-сравнивать действия (отдельные операции)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результат с готовым образц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по критериям оценивать свои действия и соот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носить свою оценку с оценкой учител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- предъявлять на оценку свои дости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1295280" y="2514600"/>
            <a:ext cx="18734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Century"/>
                <a:ea typeface="Arial"/>
              </a:rPr>
              <a:t>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295280" y="4419720"/>
            <a:ext cx="187344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Century"/>
                <a:ea typeface="Arial"/>
              </a:rPr>
              <a:t>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1828800" y="228600"/>
            <a:ext cx="60469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ff3300"/>
              </a:buClr>
              <a:buFont typeface="Century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entury"/>
                <a:ea typeface="Arial"/>
              </a:rPr>
              <a:t>этап – 2 - 4 кла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Опробование форм и способов контроля и оценки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условиях формирования классного со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895480" y="1600200"/>
            <a:ext cx="597564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Пооперационный контроль как средство опре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«ошибкоопасных» мест, поиска возможных прич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ошиб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- Формирование </a:t>
            </a:r>
            <a:r>
              <a:rPr b="1" lang="ru-RU" sz="1800" spc="-1" strike="noStrike">
                <a:solidFill>
                  <a:srgbClr val="0000cc"/>
                </a:solidFill>
                <a:latin typeface="Century"/>
                <a:ea typeface="Arial"/>
              </a:rPr>
              <a:t>рефлексивного</a:t>
            </a: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 контроля (анал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основания собственного действ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Формирование </a:t>
            </a:r>
            <a:r>
              <a:rPr b="1" lang="ru-RU" sz="1800" spc="-1" strike="noStrike">
                <a:solidFill>
                  <a:srgbClr val="0000cc"/>
                </a:solidFill>
                <a:latin typeface="Century"/>
                <a:ea typeface="Arial"/>
              </a:rPr>
              <a:t>прогностической</a:t>
            </a:r>
            <a:r>
              <a:rPr b="1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оценки (рабо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по выбору зад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2895480" y="3886200"/>
            <a:ext cx="597564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Определять возможные «ошибкоопасные» мес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Устанавливать возможные причины ошибок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намечать план их ликвид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Устанавливать границу применимости С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-Классифицировать задания по уровню сложн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выбирать объем и уровень сло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838080" y="2057400"/>
            <a:ext cx="18734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Century"/>
                <a:ea typeface="Arial"/>
              </a:rPr>
              <a:t>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838080" y="4114800"/>
            <a:ext cx="187344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Century"/>
                <a:ea typeface="Arial"/>
              </a:rPr>
              <a:t>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2286000" y="228600"/>
            <a:ext cx="532908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entury"/>
                <a:ea typeface="Arial"/>
              </a:rPr>
              <a:t>З этап – 4- 5 кла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Переходный от начальной к основной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(рефлексивный этап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2971800" y="1523880"/>
            <a:ext cx="5759280" cy="23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Определение критериев оценки (что буд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проверятьс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-составление проверочных заданий ( в том числ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с «ловушкой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-выделение сложности зад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Создание образца для провер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-Характеристика ошибок и их причи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- Составление корректировочных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2895480" y="4343400"/>
            <a:ext cx="583272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-выход на полный цикл КО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Сформированность КОД как основы учеб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самостоятельности для основной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838080" y="2057400"/>
            <a:ext cx="18734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Century"/>
                <a:ea typeface="Arial"/>
              </a:rPr>
              <a:t>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62120" y="4495680"/>
            <a:ext cx="187308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Arial"/>
              </a:rPr>
              <a:t>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Century"/>
                <a:ea typeface="Arial"/>
              </a:rPr>
              <a:t>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7-06-28T03:14:1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