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526-731E-42B2-BDE0-44A63DD8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883-8A97-4CEF-B226-BC156D15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3CD-9F68-4F32-BED1-2794B9F2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739-3AA9-4A07-A213-0A884C61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398C-7630-479D-B138-7EFF653E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C97F-2D86-4777-B251-0F02C411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AB4F-0F6F-457D-8FCE-7DFC8CB5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03F7-C30A-4BE8-906E-0F6374C2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15DC-8971-4AD0-A969-2A99AC3F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06E3-662C-4F97-AD3D-C5E8F7A0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3549-40A2-49F2-91B2-1A91EC93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B17-1781-40A5-995D-6359BE60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DFAA-75F9-48F8-825F-34594D91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9606-7F71-4204-BDB9-FB08D6A2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15A1-E9D8-45F5-92A0-170AB1A2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82D6-3635-47FC-98E5-CB0D42AA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9F90-F3F4-49ED-8869-17638CAD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326-5DF9-4619-B568-68C56F85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97A-1A3C-42AF-A842-131AB023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018-112C-444D-9913-828E0194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B9D-2224-4499-BFC6-50D60691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D1C-7E70-4F11-AC40-D2449697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B9F-A809-48DB-9F23-7AA451BB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21F-CA10-4815-9C99-4D9BE9E5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FE1C-DCD8-4571-B579-30E3E64663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137B-998F-48A5-9CB5-1C7588EDBD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Филиал № 1 Государственного бюджетного профессионального образовательного учреждения Департамента здравоохранения города Москвы  «Медицинский колледж № 6»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(филиал № 1 ГБПОУ ДЗМ «МК № 6»)</a:t>
            </a:r>
            <a:br>
              <a:rPr sz="4300"/>
            </a:b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14240" y="2428920"/>
            <a:ext cx="814392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дисципли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М 02. Участие в лечебно – диаг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ческом и реабилитационном процессах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Профил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оскостопия у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357200" y="157176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аудиторная самостоятельная работа (доклад с мультимедийным сопровожден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285840" y="4572000"/>
            <a:ext cx="4143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ка группы 3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 Сестринское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ченко Н.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провер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Бехметьева Г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 степени запущенности заболевания различаю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 степени – слабовыраженное, скорее напоминает косметический дефект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 степени – умеренно выраженное, заметное невооруженным глазом. Сопровождается несильными болями в голеностоп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 степени – выраженное. Происходит полная деформация стопы, возникают сильные боли в ногах, заметно изменяется походка. На этой стадии заболевание уже довольно сложно вылечит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5" name="Picture 4" descr="три степени плоскостопия"/>
          <p:cNvPicPr/>
          <p:nvPr/>
        </p:nvPicPr>
        <p:blipFill>
          <a:blip r:embed="rId1"/>
          <a:stretch/>
        </p:blipFill>
        <p:spPr>
          <a:xfrm>
            <a:off x="0" y="2133720"/>
            <a:ext cx="804852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чины плоскостопия у детей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рождённый дефек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несённая травм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ЦП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шение неправильной или не удобной обув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правильное пита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изкая двигательная актив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нятие тяже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30066"/>
                </a:solidFill>
                <a:latin typeface="Arial"/>
              </a:rPr>
              <a:t>Основные симптомы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оли в стопах и голенях, особенно после ходьбы или к-л физических нагрузок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явление отёчности в нижней части ног, которое иногда доходит до колен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увь ребёнка стоптана, а подошва стёрта с внутренней сторон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бёнок начинает косолапить, походка становиться несколько своеобразн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линическая картина плоскостопия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0" y="152388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детей чаще все встречается вальгусное плоскостопие, при котором проявляется так называемая косолапость, пальчики ног начинают заворачиваться внутрь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вальгусное"/>
          <p:cNvPicPr/>
          <p:nvPr/>
        </p:nvPicPr>
        <p:blipFill>
          <a:blip r:embed="rId1"/>
          <a:stretch/>
        </p:blipFill>
        <p:spPr>
          <a:xfrm>
            <a:off x="2438280" y="3705120"/>
            <a:ext cx="4724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вальгусное плоскостопие"/>
          <p:cNvPicPr/>
          <p:nvPr/>
        </p:nvPicPr>
        <p:blipFill>
          <a:blip r:embed="rId1"/>
          <a:stretch/>
        </p:blipFill>
        <p:spPr>
          <a:xfrm>
            <a:off x="685800" y="200160"/>
            <a:ext cx="67816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иагностика плоскостопия у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мотр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нтограф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ометр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ография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лектромиография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нтгенологическое исследование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обенности детской стоп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детей уже в первые месяцы жизни бывает сформирован внутренний продольный свод стопы, состоящий из хрящевой ткан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ина стопы и высота свода увеличиваются пропорционально возрасту, однако нарастание высоты свода происходит неравномерно и завершается в основном к 6-8 года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детей до 3 лет высота свода составля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6 мм, 4 лет — 14 мм, 5 лет — 23 мм, 6 лет - 24 мм, 7 лет — 24 мм, 8 лет - 24 м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обенности детской стоп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ибольший прирост длины стопы происходит у мальчиков в 2-3 года и составляет 20 мм, у девочек — в 1-2 года и составляет 18 мм, в дальнейшем прирост достигает 10 мм, а с 15 лет резко уменьшается до 1-3 м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опа ребёнка короче и шире стопы взрослого в переднем отделе, уже — в области пятк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шечно-связочный аппарат обладает большей эластичностью и хорошим кровоснабжением, позволяющим ему быстро восстанавливать свои функции после нагруз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упреждение плоскостопия у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 1 месяц. Это необходимо для исключения врожденных патолог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 3 месяц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 6 месяцев, когда у ребёнка можно выявить рахи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 год. Это важный этап в жизни крохи, он начинает ходить, сидит, ползает, нагрузка на ножки очень больша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 3 года. В это время можно заметить начинающиеся признаки плоскостоп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лоскостоп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это самое распространенное заболевание опорно-двигательной системы, при котором происходит деформация свода стопы, приводящая к его уплощению. Другими словами, стопа становится плоской, постепенно утрачивая естественный изгиб своей внутренней поверхности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еты родителям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бор правильной обув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е хождение босиком по неровным поверхностя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топедический коври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ствует стимуляции стоп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ьный рацион пит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стие в п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вижных, активных играх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бираем правильную обув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ошва должна быть упругой и устойчивой, высотой не более 1,5 см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ник должен быть высоким и жестким, хорошо фиксирующим пятку ребен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желательно наличие внутренних швов на обув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увь должна быть из натуральных материалов, что обеспечивает свободный воздухообмен для кожи стоп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2 лет лучше покупать обувь с дополнительным супинатором внутр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я обувь должна быть соответствующего разме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ртопедическая обув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БОТИНКИ ДЕТСКИЕ, МОДЕЛЬ 402"/>
          <p:cNvPicPr/>
          <p:nvPr/>
        </p:nvPicPr>
        <p:blipFill>
          <a:blip r:embed="rId1"/>
          <a:stretch/>
        </p:blipFill>
        <p:spPr>
          <a:xfrm>
            <a:off x="4419720" y="3200400"/>
            <a:ext cx="4495680" cy="299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МУЖСКИЕ БОТИНКИ, МОДЕЛЬ 221"/>
          <p:cNvPicPr/>
          <p:nvPr/>
        </p:nvPicPr>
        <p:blipFill>
          <a:blip r:embed="rId2"/>
          <a:stretch/>
        </p:blipFill>
        <p:spPr>
          <a:xfrm>
            <a:off x="0" y="1600200"/>
            <a:ext cx="43434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ртопедические стель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Picture 4" descr="20060907201254_11-stelki1"/>
          <p:cNvPicPr/>
          <p:nvPr/>
        </p:nvPicPr>
        <p:blipFill>
          <a:blip r:embed="rId1"/>
          <a:stretch/>
        </p:blipFill>
        <p:spPr>
          <a:xfrm>
            <a:off x="1905120" y="1870200"/>
            <a:ext cx="571500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ечение плоскостопия у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изиотерапевтическое лечение в ЛПУ (электрофорез, ионофорез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изиотерапевтическое лечение в домашних условиях – ванночки с морской солью, отваром хвои или ромаш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ециальный массаж и рефлексотерап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 доктор выписывает ношение специальной ортопедической обув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чебная физкультура (ЛФК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офилактика плоскостоп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новные направл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крепление мышц, поддерживающих свод стоп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работка правильной походк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бор рациональной обуви и/или использование ортопедических стелек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троль массы те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пражнения при плоскостоп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7" name="Picture 4" descr="image026"/>
          <p:cNvPicPr/>
          <p:nvPr/>
        </p:nvPicPr>
        <p:blipFill>
          <a:blip r:embed="rId1"/>
          <a:stretch/>
        </p:blipFill>
        <p:spPr>
          <a:xfrm>
            <a:off x="5715000" y="1523880"/>
            <a:ext cx="3073320" cy="53341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533520" y="2068560"/>
            <a:ext cx="441936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 активное сгибание и супинация стоп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сгибание и разгибание пальце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сближение носков обеих стоп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обхватывание стопами мяч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тягивание полотенца пальцами но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пражнения при плоскостопи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0" name="Picture 4" descr="image028"/>
          <p:cNvPicPr/>
          <p:nvPr/>
        </p:nvPicPr>
        <p:blipFill>
          <a:blip r:embed="rId1"/>
          <a:stretch/>
        </p:blipFill>
        <p:spPr>
          <a:xfrm>
            <a:off x="5486400" y="1447920"/>
            <a:ext cx="3081240" cy="52578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6"/>
          <p:cNvSpPr/>
          <p:nvPr/>
        </p:nvSpPr>
        <p:spPr>
          <a:xfrm>
            <a:off x="380880" y="1816560"/>
            <a:ext cx="449604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тание скалоч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хват мелких предметов пальцами ног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одьба на носках, на наружных краях стоп с повернутыми внутрь носк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одьба по треугольному бревну, песку или гальк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учение педалей велотренаж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пражнения при плоскостоп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33" name="Group 4"/>
          <p:cNvGrpSpPr/>
          <p:nvPr/>
        </p:nvGrpSpPr>
        <p:grpSpPr>
          <a:xfrm>
            <a:off x="838080" y="1676520"/>
            <a:ext cx="7391520" cy="5181120"/>
            <a:chOff x="838080" y="1676520"/>
            <a:chExt cx="7391520" cy="5181120"/>
          </a:xfrm>
        </p:grpSpPr>
        <p:pic>
          <p:nvPicPr>
            <p:cNvPr id="234" name="Picture 5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1253160" y="1676520"/>
              <a:ext cx="6725880" cy="44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6"/>
            <p:cNvSpPr/>
            <p:nvPr/>
          </p:nvSpPr>
          <p:spPr>
            <a:xfrm>
              <a:off x="838080" y="6108120"/>
              <a:ext cx="7391520" cy="749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8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СПАСИБО ЗА ВНИМАНИ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формирование плоскостопия"/>
          <p:cNvPicPr/>
          <p:nvPr/>
        </p:nvPicPr>
        <p:blipFill>
          <a:blip r:embed="rId1"/>
          <a:stretch/>
        </p:blipFill>
        <p:spPr>
          <a:xfrm>
            <a:off x="1676520" y="533520"/>
            <a:ext cx="5767200" cy="3714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1371600" y="4479840"/>
            <a:ext cx="678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- нормально сформированный свод стоп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- слишком высокий свод стоп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- плоскостоп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три ситуации хорошо «прочитываются» по следу - обмакните ножку малыша в гуаш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том поставьте его на ватман: вы сразу увидите, насколько развит или нет свод стопы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ункции стоп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орна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ссор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способность к упругому распластыванию под действием вертикальной нагруз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алансировоч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участие в регуляции позной активности при стоянии и ходьб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олчковая (локомоторная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сообщение ускорения общему центру массы тела при движении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воды стоп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ольный свод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ружный (опорный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яточная, кубовидная 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V-V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юсневые к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нутренний (рессорный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ранная, ладьевидная, три клиновидные 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, II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юсневые к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нутренний свод стопы выше наружного в 4-5 ра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оение стоп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6 к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4 сустава стоп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 мышцы (22 – собственные мышцы стоп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строение стопы"/>
          <p:cNvPicPr/>
          <p:nvPr/>
        </p:nvPicPr>
        <p:blipFill>
          <a:blip r:embed="rId1"/>
          <a:stretch/>
        </p:blipFill>
        <p:spPr>
          <a:xfrm>
            <a:off x="152280" y="2428920"/>
            <a:ext cx="89917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Распределение нагрузки при снижении сводов стоп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5" name="Picture 4" descr="image011"/>
          <p:cNvPicPr/>
          <p:nvPr/>
        </p:nvPicPr>
        <p:blipFill>
          <a:blip r:embed="rId1"/>
          <a:stretch/>
        </p:blipFill>
        <p:spPr>
          <a:xfrm>
            <a:off x="4321080" y="1447920"/>
            <a:ext cx="4446720" cy="5410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457200" y="2971800"/>
            <a:ext cx="373392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дарная нагрузка возникающая при беге, прыжках и ходьб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 80% гаситс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уровне стоп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иды плоскостоп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Organization Chart 5"/>
          <p:cNvGrpSpPr/>
          <p:nvPr/>
        </p:nvGrpSpPr>
        <p:grpSpPr>
          <a:xfrm>
            <a:off x="457200" y="2435760"/>
            <a:ext cx="8228880" cy="3694320"/>
            <a:chOff x="457200" y="2435760"/>
            <a:chExt cx="8228880" cy="3694320"/>
          </a:xfrm>
        </p:grpSpPr>
        <p:cxnSp>
          <p:nvCxnSpPr>
            <p:cNvPr id="169" name="_s1028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5936760" y="3377880"/>
              <a:ext cx="471600" cy="3198600"/>
            </a:xfrm>
            <a:prstGeom prst="bentConnector3">
              <a:avLst>
                <a:gd name="adj1" fmla="val 24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029"/>
            <p:cNvCxnSpPr>
              <a:stCxn id="173" idx="0"/>
              <a:endCxn id="171" idx="2"/>
            </p:cNvCxnSpPr>
            <p:nvPr/>
          </p:nvCxnSpPr>
          <p:spPr>
            <a:xfrm flipV="1" rot="16200000">
              <a:off x="4870080" y="4444560"/>
              <a:ext cx="471600" cy="1065240"/>
            </a:xfrm>
            <a:prstGeom prst="bentConnector3">
              <a:avLst>
                <a:gd name="adj1" fmla="val 24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030"/>
            <p:cNvCxnSpPr>
              <a:stCxn id="175" idx="0"/>
              <a:endCxn id="171" idx="2"/>
            </p:cNvCxnSpPr>
            <p:nvPr/>
          </p:nvCxnSpPr>
          <p:spPr>
            <a:xfrm flipH="1" flipV="1" rot="5400000">
              <a:off x="3803400" y="4442400"/>
              <a:ext cx="471600" cy="1069560"/>
            </a:xfrm>
            <a:prstGeom prst="bentConnector3">
              <a:avLst>
                <a:gd name="adj1" fmla="val 24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1031"/>
            <p:cNvCxnSpPr>
              <a:stCxn id="177" idx="0"/>
              <a:endCxn id="171" idx="2"/>
            </p:cNvCxnSpPr>
            <p:nvPr/>
          </p:nvCxnSpPr>
          <p:spPr>
            <a:xfrm flipH="1" flipV="1" rot="5400000">
              <a:off x="2736360" y="3375720"/>
              <a:ext cx="471600" cy="3202920"/>
            </a:xfrm>
            <a:prstGeom prst="bentConnector3">
              <a:avLst>
                <a:gd name="adj1" fmla="val 24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1032"/>
            <p:cNvCxnSpPr>
              <a:stCxn id="171" idx="0"/>
              <a:endCxn id="179" idx="2"/>
            </p:cNvCxnSpPr>
            <p:nvPr/>
          </p:nvCxnSpPr>
          <p:spPr>
            <a:xfrm flipV="1" rot="16200000">
              <a:off x="4336560" y="3587400"/>
              <a:ext cx="472320" cy="2520"/>
            </a:xfrm>
            <a:prstGeom prst="bentConnector3">
              <a:avLst>
                <a:gd name="adj1" fmla="val 241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033"/>
            <p:cNvCxnSpPr>
              <a:stCxn id="181" idx="0"/>
              <a:endCxn id="179" idx="2"/>
            </p:cNvCxnSpPr>
            <p:nvPr/>
          </p:nvCxnSpPr>
          <p:spPr>
            <a:xfrm flipH="1" flipV="1" rot="5400000">
              <a:off x="2735280" y="1988280"/>
              <a:ext cx="472320" cy="3201120"/>
            </a:xfrm>
            <a:prstGeom prst="bentConnector3">
              <a:avLst>
                <a:gd name="adj1" fmla="val 241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034"/>
            <p:cNvSpPr/>
            <p:nvPr/>
          </p:nvSpPr>
          <p:spPr>
            <a:xfrm>
              <a:off x="3657600" y="2435760"/>
              <a:ext cx="1828440" cy="9172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одольн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лоскостоп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035"/>
            <p:cNvSpPr/>
            <p:nvPr/>
          </p:nvSpPr>
          <p:spPr>
            <a:xfrm>
              <a:off x="457200" y="3824640"/>
              <a:ext cx="1826640" cy="9172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рожден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,8-3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36"/>
            <p:cNvSpPr/>
            <p:nvPr/>
          </p:nvSpPr>
          <p:spPr>
            <a:xfrm>
              <a:off x="3659400" y="3824640"/>
              <a:ext cx="1826640" cy="9172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обре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ен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37"/>
            <p:cNvSpPr/>
            <p:nvPr/>
          </p:nvSpPr>
          <p:spPr>
            <a:xfrm>
              <a:off x="457200" y="5212800"/>
              <a:ext cx="1828440" cy="9172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тическ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2,1 %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8"/>
            <p:cNvSpPr/>
            <p:nvPr/>
          </p:nvSpPr>
          <p:spPr>
            <a:xfrm>
              <a:off x="2590560" y="5212800"/>
              <a:ext cx="1828440" cy="9172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аралити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еск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5,7 %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39"/>
            <p:cNvSpPr/>
            <p:nvPr/>
          </p:nvSpPr>
          <p:spPr>
            <a:xfrm>
              <a:off x="4724280" y="5212800"/>
              <a:ext cx="1828440" cy="9172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равмати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еск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6,2 %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40"/>
            <p:cNvSpPr/>
            <p:nvPr/>
          </p:nvSpPr>
          <p:spPr>
            <a:xfrm>
              <a:off x="6857640" y="5212800"/>
              <a:ext cx="1828440" cy="9172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ахити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еск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3,2 %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лоскостопие бывае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6022800"/>
            <a:ext cx="228600" cy="1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Organization Chart 5"/>
          <p:cNvGrpSpPr/>
          <p:nvPr/>
        </p:nvGrpSpPr>
        <p:grpSpPr>
          <a:xfrm>
            <a:off x="838080" y="2239560"/>
            <a:ext cx="7848000" cy="3890160"/>
            <a:chOff x="838080" y="2239560"/>
            <a:chExt cx="7848000" cy="3890160"/>
          </a:xfrm>
        </p:grpSpPr>
        <p:cxnSp>
          <p:nvCxnSpPr>
            <p:cNvPr id="185" name="_s2052"/>
            <p:cNvCxnSpPr>
              <a:stCxn id="186" idx="0"/>
              <a:endCxn id="187" idx="2"/>
            </p:cNvCxnSpPr>
            <p:nvPr/>
          </p:nvCxnSpPr>
          <p:spPr>
            <a:xfrm flipV="1" rot="16200000">
              <a:off x="5747400" y="2816280"/>
              <a:ext cx="776520" cy="2747160"/>
            </a:xfrm>
            <a:prstGeom prst="bentConnector3">
              <a:avLst>
                <a:gd name="adj1" fmla="val 14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2053"/>
            <p:cNvCxnSpPr>
              <a:stCxn id="189" idx="0"/>
              <a:endCxn id="187" idx="2"/>
            </p:cNvCxnSpPr>
            <p:nvPr/>
          </p:nvCxnSpPr>
          <p:spPr>
            <a:xfrm flipV="1">
              <a:off x="4762080" y="3801600"/>
              <a:ext cx="2880" cy="77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2054"/>
            <p:cNvCxnSpPr>
              <a:stCxn id="191" idx="0"/>
              <a:endCxn id="187" idx="2"/>
            </p:cNvCxnSpPr>
            <p:nvPr/>
          </p:nvCxnSpPr>
          <p:spPr>
            <a:xfrm flipH="1" flipV="1" rot="5400000">
              <a:off x="3000600" y="2816280"/>
              <a:ext cx="776520" cy="2747160"/>
            </a:xfrm>
            <a:prstGeom prst="bentConnector3">
              <a:avLst>
                <a:gd name="adj1" fmla="val 14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7" name="_s2055"/>
            <p:cNvSpPr/>
            <p:nvPr/>
          </p:nvSpPr>
          <p:spPr>
            <a:xfrm>
              <a:off x="3584880" y="2239560"/>
              <a:ext cx="2354400" cy="15624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Плоскостопие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(31,8 - 70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деформаци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стопы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056"/>
            <p:cNvSpPr/>
            <p:nvPr/>
          </p:nvSpPr>
          <p:spPr>
            <a:xfrm>
              <a:off x="838080" y="4578120"/>
              <a:ext cx="2354400" cy="15516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продольно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2057"/>
            <p:cNvSpPr/>
            <p:nvPr/>
          </p:nvSpPr>
          <p:spPr>
            <a:xfrm>
              <a:off x="3584880" y="4578120"/>
              <a:ext cx="2354400" cy="15516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поперечно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2058"/>
            <p:cNvSpPr/>
            <p:nvPr/>
          </p:nvSpPr>
          <p:spPr>
            <a:xfrm>
              <a:off x="6331680" y="4578120"/>
              <a:ext cx="2354400" cy="15516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комбини-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рованно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</cp:lastModifiedBy>
  <dcterms:modified xsi:type="dcterms:W3CDTF">2017-04-02T08:21:39Z</dcterms:modified>
  <cp:revision>1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