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10B5-3333-4744-84A6-B531156FD5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6C37DE-C1AD-4FA0-BBED-C8F40157C2D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DC253A-6CF1-4680-8FBC-D0F6F17D8B9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BC0AC1-AD54-4C97-8758-0DAF94E3A19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034B1E-847A-4029-ABA7-FDD8BE25CB7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898FD1-8A87-4EF0-BA9F-A0C45130BC7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6A267E-8249-4033-80CE-3A203A0A810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F721E3-EDC2-4824-A09C-864F41B0ED4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0E3-983D-496E-BBA9-2946CDBB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BDF-F306-445B-AF9F-437D009E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6B8-DEEE-4ADB-88BE-78E6F35B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DE0-0F17-47BA-A75C-BC5B049C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F8A1-1CEB-4F70-A0F1-BB42479F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5C66-71AD-4970-A93F-B3E997A8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4FAC-462C-4876-B913-D84F7F70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D841-A8CE-4F49-A302-6498B352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BD52-8445-4F05-82CA-915BBDF5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F41A-33C5-4C72-99D5-04A764F9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09C2-EB8C-452D-977F-8346FFD7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1CB-0CBB-44FB-AE8A-C6354172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1B39-4EC6-4589-98CA-097EA37A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E733-4FDE-429F-9261-FB46CDBD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504D-3E98-4E83-965D-FB88009F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237F-1653-4F1D-97B8-FC7B658F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9579-0E43-4E07-BFFA-72220849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2AC-9A1B-4BDB-B7AF-BD6BD891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697-5B4D-4512-8FE6-2CAD927C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D51-936F-4455-80E9-FF865A2E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20A-C371-48B1-9DFF-F8A71E53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57D-5522-4612-BE10-2AE5E0C3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D0B-A0F6-4904-90A3-FA9C863B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58D-A80F-4E01-B109-5EA05D69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1960" indent="-249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440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688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0900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0900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0900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42DF-3B49-4C0D-BC2F-04F5B8C1BB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1960" indent="-249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440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688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0900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0900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0900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1978-D07F-419B-AF8F-CC2A827775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708280"/>
            <a:ext cx="4822920" cy="2293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Как Мишка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живет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Автор Шевырина Н.Н</a:t>
            </a: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Рисунок 1" descr=""/>
          <p:cNvPicPr/>
          <p:nvPr/>
        </p:nvPicPr>
        <p:blipFill>
          <a:blip r:embed="rId1"/>
          <a:stretch/>
        </p:blipFill>
        <p:spPr>
          <a:xfrm>
            <a:off x="6045120" y="260280"/>
            <a:ext cx="2865600" cy="3384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1"/>
          <p:cNvPicPr/>
          <p:nvPr/>
        </p:nvPicPr>
        <p:blipFill>
          <a:blip r:embed="rId1"/>
          <a:stretch/>
        </p:blipFill>
        <p:spPr>
          <a:xfrm>
            <a:off x="179280" y="260280"/>
            <a:ext cx="4969080" cy="6453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148000" y="981000"/>
            <a:ext cx="3600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ишка просыпается и убирает свою кроват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6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2"/>
          <p:cNvPicPr/>
          <p:nvPr/>
        </p:nvPicPr>
        <p:blipFill>
          <a:blip r:embed="rId1"/>
          <a:stretch/>
        </p:blipFill>
        <p:spPr>
          <a:xfrm>
            <a:off x="250920" y="115920"/>
            <a:ext cx="5400720" cy="6556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724000" y="620280"/>
            <a:ext cx="3311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ишка чистит  зубки, умывается,  причесывае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7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7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7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6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4"/>
          <p:cNvPicPr/>
          <p:nvPr/>
        </p:nvPicPr>
        <p:blipFill>
          <a:blip r:embed="rId1"/>
          <a:stretch/>
        </p:blipFill>
        <p:spPr>
          <a:xfrm>
            <a:off x="179280" y="260280"/>
            <a:ext cx="5113440" cy="6408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262480" y="764640"/>
            <a:ext cx="36734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а быстро кушает  кашу, пьет молоко и говорит маме «спасибо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6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9"/>
          <p:cNvPicPr/>
          <p:nvPr/>
        </p:nvPicPr>
        <p:blipFill>
          <a:blip r:embed="rId1"/>
          <a:stretch/>
        </p:blipFill>
        <p:spPr>
          <a:xfrm>
            <a:off x="324000" y="404640"/>
            <a:ext cx="5184720" cy="6120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508720" y="628560"/>
            <a:ext cx="3441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ма ,после обеда, Мишка играет, собирает конструктор и смотрит книги. Скоро вече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6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10"/>
          <p:cNvPicPr/>
          <p:nvPr/>
        </p:nvPicPr>
        <p:blipFill>
          <a:blip r:embed="rId1"/>
          <a:stretch/>
        </p:blipFill>
        <p:spPr>
          <a:xfrm>
            <a:off x="179280" y="189000"/>
            <a:ext cx="5688000" cy="6408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867280" y="1125360"/>
            <a:ext cx="3097440" cy="38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д сном купаясь в ванне, Мишка думает о завтрашнем дне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6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11"/>
          <p:cNvPicPr/>
          <p:nvPr/>
        </p:nvPicPr>
        <p:blipFill>
          <a:blip r:embed="rId1"/>
          <a:stretch/>
        </p:blipFill>
        <p:spPr>
          <a:xfrm>
            <a:off x="179280" y="260280"/>
            <a:ext cx="5616720" cy="63374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866920" y="36360"/>
            <a:ext cx="2946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лушав сказку и пожелав всем «спокойной ночи», Мишка засыпа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Рисунок 1" descr=""/>
          <p:cNvPicPr/>
          <p:nvPr/>
        </p:nvPicPr>
        <p:blipFill>
          <a:blip r:embed="rId2"/>
          <a:stretch/>
        </p:blipFill>
        <p:spPr>
          <a:xfrm>
            <a:off x="6948360" y="3789360"/>
            <a:ext cx="2016360" cy="2908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21:58:09Z</dcterms:created>
  <dc:creator>Пользователь</dc:creator>
  <dc:description/>
  <dc:language>en-US</dc:language>
  <cp:lastModifiedBy>User_Lenovo</cp:lastModifiedBy>
  <dcterms:modified xsi:type="dcterms:W3CDTF">2017-07-05T11:34:02Z</dcterms:modified>
  <cp:revision>31</cp:revision>
  <dc:subject/>
  <dc:title>Как живет мишка.</dc:title>
</cp:coreProperties>
</file>