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AF6-44BE-4A8B-881B-2744B4A8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199-3002-423D-813B-241780A3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8B23-6E19-494A-8D82-9F7795C6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019C-B7DB-4BC9-8F67-280794CA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71F-7684-4C2E-9054-923E6D0A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1E7-4DCE-4C65-AD48-EC6B64CC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9B01-EAFE-4F11-89AE-693E2FED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278F-FFFD-4F72-A9A3-AB055B1D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EA5-A03E-4541-BE1B-7F661D2B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0C97-6FF2-462F-BC65-A318AF8C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CC1-A985-4D76-8905-5C8E8D61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BD57-C72D-4A51-8120-B4736B36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8159-2393-47D0-B55B-C8B4EC4147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бюджетное 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8»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ект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окружающему миру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Школа кулинар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52280" y="4952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 выполнила: Архипова Анастасия, 3«Б»  клас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Макарова Елена Геннад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736440" y="632448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Братск, 201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вить в разогретую духовку и выпекать при 200*С 30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того как остынуть посыпать сахарной пуд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20161207_222252"/>
          <p:cNvPicPr/>
          <p:nvPr/>
        </p:nvPicPr>
        <p:blipFill>
          <a:blip r:embed="rId1"/>
          <a:stretch/>
        </p:blipFill>
        <p:spPr>
          <a:xfrm>
            <a:off x="457200" y="68580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20161207_225657"/>
          <p:cNvPicPr/>
          <p:nvPr/>
        </p:nvPicPr>
        <p:blipFill>
          <a:blip r:embed="rId2"/>
          <a:stretch/>
        </p:blipFill>
        <p:spPr>
          <a:xfrm>
            <a:off x="457200" y="3429000"/>
            <a:ext cx="38894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84836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познакомилась с некоторыми кулинарными сокращениями: ст.л.- столовая ложка, ч.л. – чайная ложка, ст. – стакан, 200*С – градусы Цель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се правильно и по рецепту делать, то несложные блюда можно приготовить и ребенк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чно под присмотром взросл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провере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ощайте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Цель проекта: Научиться готовить             </a:t>
            </a:r>
            <a:br>
              <a:rPr sz="3200"/>
            </a:b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                         печень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99ff"/>
                </a:solidFill>
                <a:latin typeface="Arial"/>
              </a:rPr>
              <a:t>Задач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йти несложный рецепт, используя интернет и журнал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знакомиться с кулинарными знаками и сокращениями в рецепт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готовить угощени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99ff"/>
                </a:solidFill>
                <a:latin typeface="Arial"/>
              </a:rPr>
              <a:t>Гипотеза: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При строгом соблюдении рецепта, ребенок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ожет приготовить несложный десер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амостоятельно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бор рецеп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долго не могла решить, какой же десерт приготовить. Смотрела много журналов и искала в интернете. Было страшновато готовить, что-то незнакомое. И тут вспомнила, что когда я была маленькой, я не любила творог, и мама часто готовила вкусное печенье с творожно-банановой начинкой. Оно мне очень нравило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решила, что буду готови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Печенье «Чудо-бана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Arial"/>
              </a:rPr>
              <a:t>Тесто: 400 гр. размягченного маргарин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0" lang="ru-RU" sz="1900" spc="-1" strike="noStrike">
                <a:solidFill>
                  <a:srgbClr val="0000ff"/>
                </a:solidFill>
                <a:latin typeface="Arial"/>
              </a:rPr>
              <a:t>200 гр. сметан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0" lang="ru-RU" sz="1900" spc="-1" strike="noStrike">
                <a:solidFill>
                  <a:srgbClr val="0000ff"/>
                </a:solidFill>
                <a:latin typeface="Arial"/>
              </a:rPr>
              <a:t>0.5 ст. сахар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0" lang="ru-RU" sz="1900" spc="-1" strike="noStrike">
                <a:solidFill>
                  <a:srgbClr val="0000ff"/>
                </a:solidFill>
                <a:latin typeface="Arial"/>
              </a:rPr>
              <a:t>0.5 ч.л. разрыхлител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0" lang="ru-RU" sz="1900" spc="-1" strike="noStrike">
                <a:solidFill>
                  <a:srgbClr val="0000ff"/>
                </a:solidFill>
                <a:latin typeface="Arial"/>
              </a:rPr>
              <a:t>4 ст. му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Arial"/>
              </a:rPr>
              <a:t>Начинка: 2 банан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0" lang="ru-RU" sz="1900" spc="-1" strike="noStrike">
                <a:solidFill>
                  <a:srgbClr val="0000ff"/>
                </a:solidFill>
                <a:latin typeface="Arial"/>
              </a:rPr>
              <a:t>400 гр. творог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0" lang="ru-RU" sz="1900" spc="-1" strike="noStrike">
                <a:solidFill>
                  <a:srgbClr val="0000ff"/>
                </a:solidFill>
                <a:latin typeface="Arial"/>
              </a:rPr>
              <a:t>0.5 ст. сахар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0" lang="ru-RU" sz="1900" spc="-1" strike="noStrike">
                <a:solidFill>
                  <a:srgbClr val="0000ff"/>
                </a:solidFill>
                <a:latin typeface="Arial"/>
              </a:rPr>
              <a:t>7 ст. л. му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Arial"/>
              </a:rPr>
              <a:t>2 желтка, сахарная пудр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шаговое приготовлени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20161207_201948"/>
          <p:cNvPicPr/>
          <p:nvPr/>
        </p:nvPicPr>
        <p:blipFill>
          <a:blip r:embed="rId1"/>
          <a:stretch/>
        </p:blipFill>
        <p:spPr>
          <a:xfrm>
            <a:off x="533520" y="1600200"/>
            <a:ext cx="3886200" cy="218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с мамой приготовила все нужные мне продукты. И начал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била масло с сахаром и смета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20161207_203432"/>
          <p:cNvPicPr/>
          <p:nvPr/>
        </p:nvPicPr>
        <p:blipFill>
          <a:blip r:embed="rId2"/>
          <a:stretch/>
        </p:blipFill>
        <p:spPr>
          <a:xfrm>
            <a:off x="531720" y="3938760"/>
            <a:ext cx="3889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20161207_204152"/>
          <p:cNvPicPr/>
          <p:nvPr/>
        </p:nvPicPr>
        <p:blipFill>
          <a:blip r:embed="rId1"/>
          <a:stretch/>
        </p:blipFill>
        <p:spPr>
          <a:xfrm>
            <a:off x="457200" y="45720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20161207_204159"/>
          <p:cNvPicPr/>
          <p:nvPr/>
        </p:nvPicPr>
        <p:blipFill>
          <a:blip r:embed="rId2"/>
          <a:stretch/>
        </p:blipFill>
        <p:spPr>
          <a:xfrm>
            <a:off x="457200" y="2895480"/>
            <a:ext cx="2014560" cy="3581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23920" y="533520"/>
            <a:ext cx="403884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авила муку и разрыхли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сила т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20161207_204939"/>
          <p:cNvPicPr/>
          <p:nvPr/>
        </p:nvPicPr>
        <p:blipFill>
          <a:blip r:embed="rId3"/>
          <a:stretch/>
        </p:blipFill>
        <p:spPr>
          <a:xfrm>
            <a:off x="2514600" y="2895480"/>
            <a:ext cx="20145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81120" y="274680"/>
            <a:ext cx="350532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ила тесто на шарики и поставила в холодильник на 30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20161207_204948"/>
          <p:cNvPicPr/>
          <p:nvPr/>
        </p:nvPicPr>
        <p:blipFill>
          <a:blip r:embed="rId1"/>
          <a:stretch/>
        </p:blipFill>
        <p:spPr>
          <a:xfrm>
            <a:off x="380880" y="99072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20161207_205807"/>
          <p:cNvPicPr/>
          <p:nvPr/>
        </p:nvPicPr>
        <p:blipFill>
          <a:blip r:embed="rId2"/>
          <a:stretch/>
        </p:blipFill>
        <p:spPr>
          <a:xfrm>
            <a:off x="304920" y="4038480"/>
            <a:ext cx="4038480" cy="2271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20161207_205947"/>
          <p:cNvPicPr/>
          <p:nvPr/>
        </p:nvPicPr>
        <p:blipFill>
          <a:blip r:embed="rId3"/>
          <a:stretch/>
        </p:blipFill>
        <p:spPr>
          <a:xfrm>
            <a:off x="4952880" y="4114800"/>
            <a:ext cx="38894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чин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20161207_210222"/>
          <p:cNvPicPr/>
          <p:nvPr/>
        </p:nvPicPr>
        <p:blipFill>
          <a:blip r:embed="rId1"/>
          <a:stretch/>
        </p:blipFill>
        <p:spPr>
          <a:xfrm>
            <a:off x="228600" y="1066680"/>
            <a:ext cx="2230560" cy="3962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20161207_211503"/>
          <p:cNvPicPr/>
          <p:nvPr/>
        </p:nvPicPr>
        <p:blipFill>
          <a:blip r:embed="rId2"/>
          <a:stretch/>
        </p:blipFill>
        <p:spPr>
          <a:xfrm>
            <a:off x="2590920" y="2666880"/>
            <a:ext cx="2271600" cy="4038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ять вилкой бананы с саха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авить творог и му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шать все бленде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20161207_214224"/>
          <p:cNvPicPr/>
          <p:nvPr/>
        </p:nvPicPr>
        <p:blipFill>
          <a:blip r:embed="rId1"/>
          <a:stretch/>
        </p:blipFill>
        <p:spPr>
          <a:xfrm>
            <a:off x="304920" y="228600"/>
            <a:ext cx="2658960" cy="472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20161207_214320"/>
          <p:cNvPicPr/>
          <p:nvPr/>
        </p:nvPicPr>
        <p:blipFill>
          <a:blip r:embed="rId2"/>
          <a:stretch/>
        </p:blipFill>
        <p:spPr>
          <a:xfrm>
            <a:off x="2971800" y="2057400"/>
            <a:ext cx="2644920" cy="4702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866920" y="914400"/>
            <a:ext cx="2971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нуть из холодильника тесто и раскатать пла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ть пиалой лепе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409720" y="228240"/>
            <a:ext cx="35053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ить бананово-творожную начинку в середину лепешки и защипнуть кр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ить печенье на смазанный маслом противень, смазать сверху желт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20161207_214435"/>
          <p:cNvPicPr/>
          <p:nvPr/>
        </p:nvPicPr>
        <p:blipFill>
          <a:blip r:embed="rId1"/>
          <a:stretch/>
        </p:blipFill>
        <p:spPr>
          <a:xfrm>
            <a:off x="152280" y="228600"/>
            <a:ext cx="2530440" cy="4495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20161207_222130"/>
          <p:cNvPicPr/>
          <p:nvPr/>
        </p:nvPicPr>
        <p:blipFill>
          <a:blip r:embed="rId2"/>
          <a:stretch/>
        </p:blipFill>
        <p:spPr>
          <a:xfrm>
            <a:off x="2743200" y="2209680"/>
            <a:ext cx="2529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4T13:42:01Z</dcterms:created>
  <dc:creator>Андрей</dc:creator>
  <dc:description/>
  <dc:language>en-US</dc:language>
  <cp:lastModifiedBy>Елена</cp:lastModifiedBy>
  <dcterms:modified xsi:type="dcterms:W3CDTF">2017-07-14T14:55:0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