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4624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915480" y="744120"/>
            <a:ext cx="496116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0" y="942336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4624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E92D-58A3-4B93-8E95-2BA45A4807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F56E-DB6A-4F63-AD86-FA39F7D25F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0572-B582-46C4-8464-C9BB3056B67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525D-E3AD-40A2-B0E9-14C77E9A15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4D8E-49D0-4614-801E-BC646C6038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EC1A-8F51-4D2E-ABF0-85FE488E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191F-F118-4EEA-9F57-669C6EE6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12AC-5E98-44BA-BD2B-5703D7C7E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4627-7CE3-4826-B326-FEF1F255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CF8F-DD29-4C3F-B917-2C00D24CC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A022-68A0-4EA3-BF6A-3743A618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C687-7027-497F-839F-2872D0A7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7BBC-89E6-4CED-BDEF-7CB1DA1D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44BA-899A-4D61-B855-31D03A7E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DBF2-C92F-4710-9633-026460C6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19D6-7CC8-4330-8164-C4C3F6D1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C918-F6B4-4B84-AF02-A977D90D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3DE4-5401-4B74-968D-1F5C78B1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5421-0E2D-4FCB-BAFA-3599D4D1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4DA0-3161-4486-B07C-1B8CE32C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6D22-773D-435F-B1D3-A90A0929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B653-5040-4CB5-94C4-CD3B811A8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FB7F-2E38-47AD-81C0-E31AD567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07FB-4A4A-48EF-BEAB-976BDEF1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E504-0AA4-47CE-9BDF-BF842CFD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E834-8802-4785-B91E-4866A8AD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68D4-E897-4FE1-BF22-F4C6E824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6AEC-204C-4849-B37D-87DD8D8E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FB5B-228F-4C3D-8B2A-A414232C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0C3E-B18B-4F11-AAA1-4B136BF4F2C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355F-736C-4FD5-AC5E-D2078EACB44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857160" y="2071800"/>
            <a:ext cx="771552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РО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о предмету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ОСНОВЫ БЕЗПАСНОСТИ ЖИЗНЕДЕЯТЕЛЬ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дготовил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еподаватель ОБЖ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питан 2 ранга запаса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азонов Александр Викторович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3" descr="C:\Users\1\Desktop\Разговор о милосердии\s5_logo.png"/>
          <p:cNvPicPr/>
          <p:nvPr/>
        </p:nvPicPr>
        <p:blipFill>
          <a:blip r:embed="rId1"/>
          <a:stretch/>
        </p:blipFill>
        <p:spPr>
          <a:xfrm>
            <a:off x="714240" y="0"/>
            <a:ext cx="7643880" cy="1650960"/>
          </a:xfrm>
          <a:prstGeom prst="rect">
            <a:avLst/>
          </a:prstGeom>
          <a:ln w="0">
            <a:noFill/>
          </a:ln>
        </p:spPr>
      </p:pic>
    </p:spTree>
  </p:cSld>
  <p:transition advTm="7000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0"/>
          <a:ext cx="9144000" cy="5652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6520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Классификация войн по В. И Слипченк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0" y="2428920"/>
          <a:ext cx="9144000" cy="3584520"/>
        </p:xfrm>
        <a:graphic>
          <a:graphicData uri="http://schemas.openxmlformats.org/drawingml/2006/table">
            <a:tbl>
              <a:tblPr/>
              <a:tblGrid>
                <a:gridCol w="1203480"/>
                <a:gridCol w="1171440"/>
                <a:gridCol w="1336680"/>
                <a:gridCol w="1336680"/>
                <a:gridCol w="1336680"/>
                <a:gridCol w="1336680"/>
                <a:gridCol w="1422360"/>
              </a:tblGrid>
              <a:tr h="644400"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Сравнивае-мый парамет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Война первого поко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Война второго поко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1d2e"/>
                          </a:solidFill>
                          <a:latin typeface="Times New Roman"/>
                          <a:ea typeface="Times New Roman"/>
                        </a:rPr>
                        <a:t>Война третьего поко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1d2e"/>
                          </a:solidFill>
                          <a:latin typeface="Times New Roman"/>
                          <a:ea typeface="Times New Roman"/>
                        </a:rPr>
                        <a:t>Война четвертого поко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1d2e"/>
                          </a:solidFill>
                          <a:latin typeface="Times New Roman"/>
                          <a:ea typeface="Times New Roman"/>
                        </a:rPr>
                        <a:t>Война пятого поко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1d2e"/>
                          </a:solidFill>
                          <a:latin typeface="Times New Roman"/>
                          <a:ea typeface="Times New Roman"/>
                        </a:rPr>
                        <a:t>Война шестого поко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40120"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Основной вид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противо-борства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на мор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Абордажные бои галерного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флота в прибрежной зон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Морские сражения парусного флота в прибрежных зонах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2e"/>
                          </a:solidFill>
                          <a:latin typeface="Times New Roman"/>
                          <a:ea typeface="Times New Roman"/>
                        </a:rPr>
                        <a:t>Морские сражения паровых кораблей различного тип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2e"/>
                          </a:solidFill>
                          <a:latin typeface="Times New Roman"/>
                          <a:ea typeface="Times New Roman"/>
                        </a:rPr>
                        <a:t>Морские операци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2e"/>
                          </a:solidFill>
                          <a:latin typeface="Times New Roman"/>
                          <a:ea typeface="Times New Roman"/>
                        </a:rPr>
                        <a:t>Ракетно-ядерный удар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2e"/>
                          </a:solidFill>
                          <a:latin typeface="Times New Roman"/>
                          <a:ea typeface="Times New Roman"/>
                        </a:rPr>
                        <a:t>Воздушно-морская и наземная операции, воздушно космическая и морская операци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3" name="Прямоугольник 6"/>
          <p:cNvSpPr/>
          <p:nvPr/>
        </p:nvSpPr>
        <p:spPr>
          <a:xfrm>
            <a:off x="357120" y="1143000"/>
            <a:ext cx="2714760" cy="642960"/>
          </a:xfrm>
          <a:prstGeom prst="rect">
            <a:avLst/>
          </a:prstGeom>
          <a:solidFill>
            <a:srgbClr val="f2f2f2"/>
          </a:solidFill>
          <a:ln w="25560">
            <a:solidFill>
              <a:srgbClr val="001d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КАРТОЧКА 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7000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0"/>
          <a:ext cx="9144000" cy="5652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6520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Классификация войн по В. И Слипченк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0" y="3071880"/>
          <a:ext cx="9144000" cy="2697120"/>
        </p:xfrm>
        <a:graphic>
          <a:graphicData uri="http://schemas.openxmlformats.org/drawingml/2006/table">
            <a:tbl>
              <a:tblPr/>
              <a:tblGrid>
                <a:gridCol w="1203480"/>
                <a:gridCol w="1171440"/>
                <a:gridCol w="1336680"/>
                <a:gridCol w="1336680"/>
                <a:gridCol w="1336680"/>
                <a:gridCol w="1336680"/>
                <a:gridCol w="1422360"/>
              </a:tblGrid>
              <a:tr h="644400"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Сравнивае-мый парамет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Война первого поко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Война второго поко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1d2e"/>
                          </a:solidFill>
                          <a:latin typeface="Times New Roman"/>
                          <a:ea typeface="Times New Roman"/>
                        </a:rPr>
                        <a:t>Война третьего поко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1d2e"/>
                          </a:solidFill>
                          <a:latin typeface="Times New Roman"/>
                          <a:ea typeface="Times New Roman"/>
                        </a:rPr>
                        <a:t>Война четвертого поко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1d2e"/>
                          </a:solidFill>
                          <a:latin typeface="Times New Roman"/>
                          <a:ea typeface="Times New Roman"/>
                        </a:rPr>
                        <a:t>Война пятого поко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1d2e"/>
                          </a:solidFill>
                          <a:latin typeface="Times New Roman"/>
                          <a:ea typeface="Times New Roman"/>
                        </a:rPr>
                        <a:t>Война шестого поко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52720"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2e"/>
                          </a:solidFill>
                          <a:latin typeface="Times New Roman"/>
                          <a:ea typeface="Times New Roman"/>
                        </a:rPr>
                        <a:t>Воздушные удары по войскам, авиационные бо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2e"/>
                          </a:solidFill>
                          <a:latin typeface="Times New Roman"/>
                          <a:ea typeface="Times New Roman"/>
                        </a:rPr>
                        <a:t>Ракетно-ядерный удар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2e"/>
                          </a:solidFill>
                          <a:latin typeface="Times New Roman"/>
                          <a:ea typeface="Times New Roman"/>
                        </a:rPr>
                        <a:t>Воздушно-космическая операция с применением обычного оружи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7" name="Прямоугольник 6"/>
          <p:cNvSpPr/>
          <p:nvPr/>
        </p:nvSpPr>
        <p:spPr>
          <a:xfrm>
            <a:off x="357120" y="1143000"/>
            <a:ext cx="2714760" cy="642960"/>
          </a:xfrm>
          <a:prstGeom prst="rect">
            <a:avLst/>
          </a:prstGeom>
          <a:solidFill>
            <a:srgbClr val="f2f2f2"/>
          </a:solidFill>
          <a:ln w="25560">
            <a:solidFill>
              <a:srgbClr val="001d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КАРТОЧКА 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7000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285840" y="1143000"/>
            <a:ext cx="5715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Times New Roman"/>
              </a:rPr>
              <a:t>Любому военному человеку важно знать механизм возникновения войны. Необходимо отыскать причины и условия превращения того или иного вооружённого конфликта низкой интенсивности в войну и уметь находить объективную логику развития событий, связанных с военным насилием, чтобы воспретить течение этого процесса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68200" indent="-268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68200" indent="-268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Times New Roman"/>
              </a:rPr>
              <a:t>Особую актуальность для военных людей представляет проблема предотвращения войны, чтобы эффективно и быстро добиваться перехода к умиротворению, к политическим переговорам и обсуждению проблем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6010200" y="963720"/>
            <a:ext cx="1785960" cy="1395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"/>
          <p:cNvPicPr/>
          <p:nvPr/>
        </p:nvPicPr>
        <p:blipFill>
          <a:blip r:embed="rId2"/>
          <a:stretch/>
        </p:blipFill>
        <p:spPr>
          <a:xfrm>
            <a:off x="7437600" y="1889280"/>
            <a:ext cx="1468440" cy="1579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"/>
          <p:cNvPicPr/>
          <p:nvPr/>
        </p:nvPicPr>
        <p:blipFill>
          <a:blip r:embed="rId3"/>
          <a:stretch/>
        </p:blipFill>
        <p:spPr>
          <a:xfrm>
            <a:off x="6010200" y="3035160"/>
            <a:ext cx="1762200" cy="1629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"/>
          <p:cNvPicPr/>
          <p:nvPr/>
        </p:nvPicPr>
        <p:blipFill>
          <a:blip r:embed="rId4"/>
          <a:stretch/>
        </p:blipFill>
        <p:spPr>
          <a:xfrm>
            <a:off x="7370640" y="4175280"/>
            <a:ext cx="1455840" cy="1682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"/>
          <p:cNvPicPr/>
          <p:nvPr/>
        </p:nvPicPr>
        <p:blipFill>
          <a:blip r:embed="rId5"/>
          <a:stretch/>
        </p:blipFill>
        <p:spPr>
          <a:xfrm>
            <a:off x="6010200" y="5048280"/>
            <a:ext cx="1262160" cy="162072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7"/>
          <p:cNvSpPr/>
          <p:nvPr/>
        </p:nvSpPr>
        <p:spPr>
          <a:xfrm>
            <a:off x="0" y="142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Миссия военного человека в деле сохранения мир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6" descr="http://static.diary.ru/userdir/3/0/0/3/3003528/78001519.jpg"/>
          <p:cNvPicPr/>
          <p:nvPr/>
        </p:nvPicPr>
        <p:blipFill>
          <a:blip r:embed="rId1"/>
          <a:stretch/>
        </p:blipFill>
        <p:spPr>
          <a:xfrm>
            <a:off x="4572000" y="214200"/>
            <a:ext cx="4357800" cy="3268800"/>
          </a:xfrm>
          <a:prstGeom prst="rect">
            <a:avLst/>
          </a:prstGeom>
          <a:ln w="0">
            <a:noFill/>
          </a:ln>
        </p:spPr>
      </p:pic>
      <p:sp>
        <p:nvSpPr>
          <p:cNvPr id="206" name="TextBox 5"/>
          <p:cNvSpPr/>
          <p:nvPr/>
        </p:nvSpPr>
        <p:spPr>
          <a:xfrm>
            <a:off x="4572000" y="350028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асилий Верещагин. Апофеоз войн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3811680" y="5929200"/>
            <a:ext cx="47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уз. Э. Колмановского. Сл. Е. Евтушенко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Хотят ли русские войны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Picture 2" descr="http://misanec.ru/wp-content/uploads/2016/06/foto.jpg"/>
          <p:cNvPicPr/>
          <p:nvPr/>
        </p:nvPicPr>
        <p:blipFill>
          <a:blip r:embed="rId2"/>
          <a:stretch/>
        </p:blipFill>
        <p:spPr>
          <a:xfrm>
            <a:off x="357120" y="642960"/>
            <a:ext cx="3627360" cy="19288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https://simkl.net/fanart/29/2932198824935f3ca_0.jpg"/>
          <p:cNvPicPr/>
          <p:nvPr/>
        </p:nvPicPr>
        <p:blipFill>
          <a:blip r:embed="rId3"/>
          <a:stretch/>
        </p:blipFill>
        <p:spPr>
          <a:xfrm>
            <a:off x="928800" y="2357280"/>
            <a:ext cx="3197160" cy="1798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http://www.bankrot.org/attachments/kontingent-jpg.2820/"/>
          <p:cNvPicPr/>
          <p:nvPr/>
        </p:nvPicPr>
        <p:blipFill>
          <a:blip r:embed="rId4"/>
          <a:stretch/>
        </p:blipFill>
        <p:spPr>
          <a:xfrm>
            <a:off x="500040" y="4000680"/>
            <a:ext cx="3095640" cy="1857240"/>
          </a:xfrm>
          <a:prstGeom prst="rect">
            <a:avLst/>
          </a:prstGeom>
          <a:ln w="0">
            <a:noFill/>
          </a:ln>
        </p:spPr>
      </p:pic>
    </p:spTree>
  </p:cSld>
  <p:transition advTm="7000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75840" y="227628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Урок окончен,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advTm="7000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1"/>
          <p:cNvSpPr/>
          <p:nvPr/>
        </p:nvSpPr>
        <p:spPr>
          <a:xfrm>
            <a:off x="500040" y="428760"/>
            <a:ext cx="5572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Гераклит</a:t>
            </a: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«Война есть отец и мать всего; одним она определила быть богами, другим людьми; одних она сделала рабами, других свободными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7156440" y="390600"/>
            <a:ext cx="1622520" cy="189540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2"/>
          <p:cNvSpPr/>
          <p:nvPr/>
        </p:nvSpPr>
        <p:spPr>
          <a:xfrm>
            <a:off x="500040" y="464328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Цицерон</a:t>
            </a: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«Пусть оружие уступит место тоге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2"/>
          <a:stretch/>
        </p:blipFill>
        <p:spPr>
          <a:xfrm>
            <a:off x="6510240" y="3535200"/>
            <a:ext cx="2255760" cy="2683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071360" y="785880"/>
            <a:ext cx="77151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ема урока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арактер современных войн и вооруженных конфликт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Цель урока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ормирование представлений о современной войне и вооруженных конфликт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7000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2"/>
          <p:cNvSpPr/>
          <p:nvPr/>
        </p:nvSpPr>
        <p:spPr>
          <a:xfrm>
            <a:off x="500040" y="214200"/>
            <a:ext cx="82152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Основные положения в воззрениях на мир, выработанных в течение истории человечеств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Агрессивная война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 - есть порождение безнравственности. Мир может быть достигнут только в результате морального перевоспитания людей в духе взаимопонимания, позитивного культурного обмена, устранения националистических пережитков, воспитания людей в духе принципа "все люди братья"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Главное зло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, причиняемое войнами, в хозяйственной разрухе, в нарушении нормального функционирования всей экономической структуры. Мир между государствами может быть установлен в результате разумной политики просвещенного правител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Достичь мира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можно путем договора между правительствами, созданием региональных или всемирных федераций государст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2"/>
          <p:cNvSpPr/>
          <p:nvPr/>
        </p:nvSpPr>
        <p:spPr>
          <a:xfrm>
            <a:off x="0" y="0"/>
            <a:ext cx="9144000" cy="65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Verdana"/>
              </a:rPr>
              <a:t>МИР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–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сутствие войн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ffff"/>
                </a:solidFill>
                <a:uFillTx/>
                <a:latin typeface="Verdana"/>
              </a:rPr>
              <a:t>НЕГАТИВНЫЙ МИР</a:t>
            </a:r>
            <a:r>
              <a:rPr b="1" lang="ru-RU" sz="2600" spc="-1" strike="noStrike">
                <a:solidFill>
                  <a:srgbClr val="ffffff"/>
                </a:solidFill>
                <a:latin typeface="Verdana"/>
              </a:rPr>
              <a:t> –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Verdana"/>
              </a:rPr>
              <a:t>отсутствие войны или насилия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Verdana"/>
              </a:rPr>
              <a:t>между организованными группами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ffff"/>
                </a:solidFill>
                <a:uFillTx/>
                <a:latin typeface="Verdana"/>
              </a:rPr>
              <a:t>ПОЗИТИВНЫЙ МИР</a:t>
            </a:r>
            <a:r>
              <a:rPr b="1" lang="ru-RU" sz="2600" spc="-1" strike="noStrike">
                <a:solidFill>
                  <a:srgbClr val="ffffff"/>
                </a:solidFill>
                <a:latin typeface="Verdana"/>
              </a:rPr>
              <a:t> –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Verdana"/>
              </a:rPr>
              <a:t>сотрудничество, основанное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Verdana"/>
              </a:rPr>
              <a:t>на взаимопонимании и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Verdana"/>
              </a:rPr>
              <a:t>интеграции различных групп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0" y="428400"/>
            <a:ext cx="91440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ОЙНА – СЛОЖНОЕ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ОБЩЕСТВЕННО-ПОЛИТИЧЕСКОЕ ЯВЛЕНИЕ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которое характеризуетс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Прямоугольник 3"/>
          <p:cNvSpPr/>
          <p:nvPr/>
        </p:nvSpPr>
        <p:spPr>
          <a:xfrm>
            <a:off x="636480" y="3071880"/>
            <a:ext cx="814068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353880">
              <a:lnSpc>
                <a:spcPct val="8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особым состоянием общества и государства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едущих войну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353880">
              <a:lnSpc>
                <a:spcPct val="8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353880">
              <a:lnSpc>
                <a:spcPct val="8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особой насильственной формой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заимоотношений государств и народов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353880">
              <a:lnSpc>
                <a:spcPct val="8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особой формой разрешени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ротиворечий и спорных вопросов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между ним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7000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0FFE-A706-49CB-BFF7-8C9CFD127F68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643120" y="2285640"/>
            <a:ext cx="40305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политическое содержание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вооруженная борьба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0" y="71388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СОДЕРЖАНИЕ ВОЙНЫ -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вся деятельность людей во время войны, направленная на достижение  победы: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857160" y="2000160"/>
            <a:ext cx="777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250920" y="304920"/>
            <a:ext cx="864216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785880" y="2000160"/>
            <a:ext cx="777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7000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F31B-5322-4DC7-BD8E-8773443F977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0" y="0"/>
          <a:ext cx="9144000" cy="5652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6520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Классификация войн по В. И Слипченк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83" name="Picture 57" descr="http://polit.ru/media/lectors/thumbs/82_1.jpg.190x190_q85_crop-smart.jpg"/>
          <p:cNvPicPr/>
          <p:nvPr/>
        </p:nvPicPr>
        <p:blipFill>
          <a:blip r:embed="rId1"/>
          <a:srcRect l="20927" t="0" r="0" b="9684"/>
          <a:stretch/>
        </p:blipFill>
        <p:spPr>
          <a:xfrm>
            <a:off x="7000920" y="214200"/>
            <a:ext cx="1890720" cy="20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"/>
          <p:cNvGraphicFramePr/>
          <p:nvPr/>
        </p:nvGraphicFramePr>
        <p:xfrm>
          <a:off x="0" y="2500200"/>
          <a:ext cx="9144000" cy="4200480"/>
        </p:xfrm>
        <a:graphic>
          <a:graphicData uri="http://schemas.openxmlformats.org/drawingml/2006/table">
            <a:tbl>
              <a:tblPr/>
              <a:tblGrid>
                <a:gridCol w="1203480"/>
                <a:gridCol w="1171440"/>
                <a:gridCol w="1336680"/>
                <a:gridCol w="1336680"/>
                <a:gridCol w="1336680"/>
                <a:gridCol w="1336680"/>
                <a:gridCol w="1422360"/>
              </a:tblGrid>
              <a:tr h="644760"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Сравнивае-мый парамет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Война первого поко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Война второго поко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1d2e"/>
                          </a:solidFill>
                          <a:latin typeface="Times New Roman"/>
                          <a:ea typeface="Times New Roman"/>
                        </a:rPr>
                        <a:t>Война третьего поко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1d2e"/>
                          </a:solidFill>
                          <a:latin typeface="Times New Roman"/>
                          <a:ea typeface="Times New Roman"/>
                        </a:rPr>
                        <a:t>Война четвертого поко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1d2e"/>
                          </a:solidFill>
                          <a:latin typeface="Times New Roman"/>
                          <a:ea typeface="Times New Roman"/>
                        </a:rPr>
                        <a:t>Война пятого поко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1d2e"/>
                          </a:solidFill>
                          <a:latin typeface="Times New Roman"/>
                          <a:ea typeface="Times New Roman"/>
                        </a:rPr>
                        <a:t>Война шестого поко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5720"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Основной вид оруж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Холодное оруж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Гладкоствольное оруж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2e"/>
                          </a:solidFill>
                          <a:latin typeface="Times New Roman"/>
                          <a:ea typeface="Times New Roman"/>
                        </a:rPr>
                        <a:t>Нарезное многозарядное оружие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1d2e"/>
                          </a:solidFill>
                          <a:latin typeface="Times New Roman"/>
                          <a:ea typeface="Times New Roman"/>
                        </a:rPr>
                        <a:t>повышенной скорострельности точности и дальности стрельб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2e"/>
                          </a:solidFill>
                          <a:latin typeface="Times New Roman"/>
                          <a:ea typeface="Times New Roman"/>
                        </a:rPr>
                        <a:t>Автоматическое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1d2e"/>
                          </a:solidFill>
                          <a:latin typeface="Times New Roman"/>
                          <a:ea typeface="Times New Roman"/>
                        </a:rPr>
                        <a:t>и реактивное оружие, механизирован-ные войска, танки, авиация, авианосцы, подводные лодк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2e"/>
                          </a:solidFill>
                          <a:latin typeface="Times New Roman"/>
                          <a:ea typeface="Times New Roman"/>
                        </a:rPr>
                        <a:t>Ракетно-ядерное оружи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2e"/>
                          </a:solidFill>
                          <a:latin typeface="Times New Roman"/>
                          <a:ea typeface="Times New Roman"/>
                        </a:rPr>
                        <a:t>Высокоточное оружие, оружие на новых физических принципах, информационное оружие, силы и средства радио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2e"/>
                          </a:solidFill>
                          <a:latin typeface="Times New Roman"/>
                          <a:ea typeface="Times New Roman"/>
                        </a:rPr>
                        <a:t>электронной борьб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5" name="Прямоугольник 6"/>
          <p:cNvSpPr/>
          <p:nvPr/>
        </p:nvSpPr>
        <p:spPr>
          <a:xfrm>
            <a:off x="357120" y="1143000"/>
            <a:ext cx="2714760" cy="642960"/>
          </a:xfrm>
          <a:prstGeom prst="rect">
            <a:avLst/>
          </a:prstGeom>
          <a:solidFill>
            <a:srgbClr val="f2f2f2"/>
          </a:solidFill>
          <a:ln w="25560">
            <a:solidFill>
              <a:srgbClr val="001d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КАРТОЧКА 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7000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0" y="0"/>
          <a:ext cx="9144000" cy="5652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6520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Классификация войн по В. И Слипченк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0" y="2643120"/>
          <a:ext cx="9144000" cy="2697120"/>
        </p:xfrm>
        <a:graphic>
          <a:graphicData uri="http://schemas.openxmlformats.org/drawingml/2006/table">
            <a:tbl>
              <a:tblPr/>
              <a:tblGrid>
                <a:gridCol w="1203480"/>
                <a:gridCol w="1171440"/>
                <a:gridCol w="1336680"/>
                <a:gridCol w="1336680"/>
                <a:gridCol w="1336680"/>
                <a:gridCol w="1336680"/>
                <a:gridCol w="1422360"/>
              </a:tblGrid>
              <a:tr h="644760"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Сравнивае-мый парамет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Война первого поко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Война второго поко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1d2e"/>
                          </a:solidFill>
                          <a:latin typeface="Times New Roman"/>
                          <a:ea typeface="Times New Roman"/>
                        </a:rPr>
                        <a:t>Война третьего поко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1d2e"/>
                          </a:solidFill>
                          <a:latin typeface="Times New Roman"/>
                          <a:ea typeface="Times New Roman"/>
                        </a:rPr>
                        <a:t>Война четвертого поко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1d2e"/>
                          </a:solidFill>
                          <a:latin typeface="Times New Roman"/>
                          <a:ea typeface="Times New Roman"/>
                        </a:rPr>
                        <a:t>Война пятого поко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1d2e"/>
                          </a:solidFill>
                          <a:latin typeface="Times New Roman"/>
                          <a:ea typeface="Times New Roman"/>
                        </a:rPr>
                        <a:t>Война шестого поко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52360"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Основной вид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противо-борства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на суш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Рукопашное противо-борство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3b"/>
                          </a:solidFill>
                          <a:latin typeface="Times New Roman"/>
                          <a:ea typeface="Times New Roman"/>
                        </a:rPr>
                        <a:t>Фронтальное огневое противоборство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2e"/>
                          </a:solidFill>
                          <a:latin typeface="Times New Roman"/>
                          <a:ea typeface="Times New Roman"/>
                        </a:rPr>
                        <a:t>Траншейные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1d2e"/>
                          </a:solidFill>
                          <a:latin typeface="Times New Roman"/>
                          <a:ea typeface="Times New Roman"/>
                        </a:rPr>
                        <a:t>окопные войны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1d2e"/>
                          </a:solidFill>
                          <a:latin typeface="Times New Roman"/>
                          <a:ea typeface="Times New Roman"/>
                        </a:rPr>
                        <a:t>общевойсковых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1d2e"/>
                          </a:solidFill>
                          <a:latin typeface="Times New Roman"/>
                          <a:ea typeface="Times New Roman"/>
                        </a:rPr>
                        <a:t>соединений и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1d2e"/>
                          </a:solidFill>
                          <a:latin typeface="Times New Roman"/>
                          <a:ea typeface="Times New Roman"/>
                        </a:rPr>
                        <a:t>объединени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2e"/>
                          </a:solidFill>
                          <a:latin typeface="Times New Roman"/>
                          <a:ea typeface="Times New Roman"/>
                        </a:rPr>
                        <a:t>Операции фронто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2e"/>
                          </a:solidFill>
                          <a:latin typeface="Times New Roman"/>
                          <a:ea typeface="Times New Roman"/>
                        </a:rPr>
                        <a:t>Ракетно-ядерный удар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d2e"/>
                          </a:solidFill>
                          <a:latin typeface="Times New Roman"/>
                          <a:ea typeface="Times New Roman"/>
                        </a:rPr>
                        <a:t>Совместные воздушно-морская и наземная операци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9" name="Прямоугольник 6"/>
          <p:cNvSpPr/>
          <p:nvPr/>
        </p:nvSpPr>
        <p:spPr>
          <a:xfrm>
            <a:off x="357120" y="1143000"/>
            <a:ext cx="2714760" cy="642960"/>
          </a:xfrm>
          <a:prstGeom prst="rect">
            <a:avLst/>
          </a:prstGeom>
          <a:solidFill>
            <a:srgbClr val="f2f2f2"/>
          </a:solidFill>
          <a:ln w="25560">
            <a:solidFill>
              <a:srgbClr val="001d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КАРТОЧКА 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7000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2:20:58Z</dcterms:created>
  <dc:creator>1111</dc:creator>
  <dc:description/>
  <dc:language>en-US</dc:language>
  <cp:lastModifiedBy>1</cp:lastModifiedBy>
  <dcterms:modified xsi:type="dcterms:W3CDTF">2017-07-22T12:44:01Z</dcterms:modified>
  <cp:revision>149</cp:revision>
  <dc:subject/>
  <dc:title>Кафедра водолазной подготовки и судоподъёма</dc:title>
</cp:coreProperties>
</file>