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936-AA21-4F59-B094-9803FD2C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BEF-5BD1-4364-984D-B6B4136F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271-B3C4-4F1C-984C-4C06B3AB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E28-4AF1-4757-AF98-7149BC52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9F03-2B79-4770-8BBE-82D072FB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322A-F663-4945-9B60-EF002453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2071-3A03-48A8-AF20-2C89923E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9B52-3E6B-4236-A8E3-D07CE662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E586-A357-4E20-95B5-6CAC40F1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3C2A-F0E8-4955-BA87-C7817184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6AEB-1DA9-4802-B651-14150A7D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65A-546E-4657-9291-210EA052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5BA0-47E0-435D-BD2D-51433A00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3BB6-71ED-4381-BD06-9994D0D4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C582-54CB-4C9A-B2A1-D41895F0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B012-FBAA-4046-9F2E-5D4258CB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7ACC-139A-46DA-8BFE-2DE04988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9C73-6F64-4075-8B3D-03F75B3A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2C0F-8AE9-4D8A-A70A-0B8C8635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80A-C22F-4D8B-959D-B409A000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A46-3D4D-44C9-9F26-AB74EDBA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DFB-E17D-4026-9E74-D8FB8B5E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8D4-4B69-48BF-A421-66F884F5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3DA-1879-4184-AE71-F295F53E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0EA1-1B6B-45A4-8535-F4FECFDA6B8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B189-3905-4A2C-BD9E-E764063192E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4465800" cy="3711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Работа на тему: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«Применение математики в решении жизненной задачи: выбор ипотечного кредита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»</a:t>
            </a:r>
            <a:br>
              <a:rPr sz="1800"/>
            </a:br>
            <a:endParaRPr b="0" lang="en-US" sz="1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мператрица Елизавета Петров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764640"/>
            <a:ext cx="403848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перанский Михаил Михайлови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105440" cy="5040360"/>
          </a:xfrm>
          <a:prstGeom prst="rect">
            <a:avLst/>
          </a:prstGeom>
          <a:ln w="0">
            <a:noFill/>
          </a:ln>
        </p:spPr>
      </p:pic>
      <p:pic>
        <p:nvPicPr>
          <p:cNvPr id="115" name="5067525573880707" descr="Ипотечные кредиты"/>
          <p:cNvPicPr/>
          <p:nvPr/>
        </p:nvPicPr>
        <p:blipFill>
          <a:blip r:embed="rId2"/>
          <a:stretch/>
        </p:blipFill>
        <p:spPr>
          <a:xfrm>
            <a:off x="4859280" y="1628640"/>
            <a:ext cx="4033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aramond"/>
              </a:rPr>
              <a:t>Современный рынок ипотеки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На сегодняшний день Россия относится к странам с достаточно слабой ипотечной системо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% граждан, бравших  ипотечные кредиты (для сравнения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2852640"/>
          <a:ext cx="7488360" cy="1239840"/>
        </p:xfrm>
        <a:graphic>
          <a:graphicData uri="http://schemas.openxmlformats.org/drawingml/2006/table">
            <a:tbl>
              <a:tblPr/>
              <a:tblGrid>
                <a:gridCol w="2497320"/>
                <a:gridCol w="2493720"/>
                <a:gridCol w="24973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а Евро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aramond"/>
              </a:rPr>
              <a:t>Современный рынок ипотеки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79311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центная ставка ипотечного кредита в разных стран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11280" y="3357720"/>
          <a:ext cx="8075160" cy="1510920"/>
        </p:xfrm>
        <a:graphic>
          <a:graphicData uri="http://schemas.openxmlformats.org/drawingml/2006/table">
            <a:tbl>
              <a:tblPr/>
              <a:tblGrid>
                <a:gridCol w="2060640"/>
                <a:gridCol w="2248920"/>
                <a:gridCol w="2008440"/>
                <a:gridCol w="1757160"/>
              </a:tblGrid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-3,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98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Garamond"/>
              </a:rPr>
              <a:t>Предметом ипотеки может быть следующее имущество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земельные участки, находящиеся в частной собственности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редприятия, а также здания, сооружения и иное недвижимое имуществ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4321080" cy="194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627280" y="4221000"/>
            <a:ext cx="4248360" cy="23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Verdana"/>
              </a:rPr>
              <a:t>жилые дома, квартиры и части жилых домов и квартир, состоящие из одной или нескольких изолированных комнат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3816360" cy="1800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3120" y="393300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Verdana"/>
              </a:rPr>
              <a:t>дачи, садовые дома, гаражи</a:t>
            </a:r>
            <a:r>
              <a:rPr b="0" lang="en-US" sz="1800" spc="-1" strike="noStrike">
                <a:solidFill>
                  <a:srgbClr val="66669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743280" cy="223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08360" y="3933720"/>
            <a:ext cx="453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Verdana"/>
              </a:rPr>
              <a:t>воздушные и морские суда, суда внутреннего плавания</a:t>
            </a:r>
            <a:r>
              <a:rPr b="0" lang="en-US" sz="1800" spc="-1" strike="noStrike">
                <a:solidFill>
                  <a:srgbClr val="66669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148360" y="4508640"/>
            <a:ext cx="3600360" cy="208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aramond"/>
              </a:rPr>
              <a:t>Этапы оформления ипотеки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формление ипотеки – многоэтапная процедура, включающая сбор документов, прохождение кредитной комиссии банка, поиск подходящего жилья, его оценку и страхование, заключение договора ипотеки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 этап - обращение в риэлторскую компани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 этап - рассмотрение банком заявки на получение креди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3 этап - выбор жиль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 этап - оценка и утверждение выбранного жиль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 этап - страхова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 этап - подписание кредитного договор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 этап - сделка купли-продажи квартиры и ее нотариальное удостовер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8 этап - государственная регистрац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 этап - налоговые выче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3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6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9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2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Garamond"/>
              </a:rPr>
              <a:t>Условия ипотеки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557360"/>
          <a:ext cx="8229600" cy="5062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еди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ь полу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ло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потеч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иобретение 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монт-отделка 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конструкция 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ъекта недвижимост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редитуемый объект недвижимост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потечный+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иобретение 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троительство объекта недвижимости 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строенного/строящегося 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и участии кредитных средств Банк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редитуемый объект недвижимост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потечный стандар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иобретение 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троительство 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жилого помеще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редитуемое жилое помещение 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ное жилое помещени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редит на недвижимост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иобретение 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троительство 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ъекта недвижимост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зличные виды обеспечения 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за исключением залога 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редитуемого объекта недвижимост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Изучение ипотечных программ в Сбербанке России и РоссельхозБанке</a:t>
            </a: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 банках предлагают различные программы ипотечного кредитования. Для своей работы мне необходимо было выбрать одну из ипотечных программ, которая имеет похожие особенности в каждом из двух банков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Следующим этапом мне предстояло сравнить особенности выбранной ипотечной программы в данных банков для того, чтобы сделать вывод, где лучше и приемлемее условия взятия ипотечного кредита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3236760" cy="2819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51360" y="3776760"/>
            <a:ext cx="42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427640" y="3357720"/>
            <a:ext cx="4248000" cy="292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Сравнительный анализ выдачи ипотечного кредита</a:t>
            </a:r>
            <a:endParaRPr b="0" lang="en-US" sz="2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600200"/>
          <a:ext cx="82296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учаемое на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бербанк Росс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оссельхоз банк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ъек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движимость, квартира, дом, гара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движимость, квартира, дом, гара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алют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убли, доллары, евро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убли, доллары, евро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имальная и максимальная сумма кредит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т 300тыс. до 85% от стоимост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рвоначальный взно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-30%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-30%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рок выдачи кредит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-10 рабочих дне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-14 рабочих дне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рок кредит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т 5 до 30 ле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т 5 до 2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траховани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ежегодно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ежегодно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озраст заемщик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т 18-60 ле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т 18-65 ле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9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Garamond"/>
              </a:rPr>
              <a:t>Информационный расчет ежемесячных платежей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10920" y="1844280"/>
            <a:ext cx="40388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центная ставк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00000" y="2708280"/>
          <a:ext cx="7488360" cy="1657440"/>
        </p:xfrm>
        <a:graphic>
          <a:graphicData uri="http://schemas.openxmlformats.org/drawingml/2006/table">
            <a:tbl>
              <a:tblPr/>
              <a:tblGrid>
                <a:gridCol w="1479600"/>
                <a:gridCol w="2139840"/>
                <a:gridCol w="1825920"/>
                <a:gridCol w="2043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редит 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убсидии 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чал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кончание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1.02.1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1.12.1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aramond"/>
              </a:rPr>
              <a:t>Актуальность :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349360"/>
            <a:ext cx="78598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ывает , что   на уроках математики,  в качестве причины для невыученного материала  звучит фраза: «Мне математика не нужна». Я хочу  доказать что математика  будет  нашей помощницей в будущем, например,  для анализа программ ипотечного кредитования и выбора наиболее выгодного ипотечного креди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4000"/>
            </a:br>
            <a:endParaRPr b="0" lang="en-US" sz="1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3300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95280" y="1484280"/>
          <a:ext cx="8229600" cy="5238720"/>
        </p:xfrm>
        <a:graphic>
          <a:graphicData uri="http://schemas.openxmlformats.org/drawingml/2006/table">
            <a:tbl>
              <a:tblPr/>
              <a:tblGrid>
                <a:gridCol w="431640"/>
                <a:gridCol w="647640"/>
                <a:gridCol w="1081440"/>
                <a:gridCol w="1366560"/>
                <a:gridCol w="647640"/>
                <a:gridCol w="1152720"/>
                <a:gridCol w="936720"/>
                <a:gridCol w="1050840"/>
                <a:gridCol w="914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та внесения платеж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щий ежемесячный платеж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атеж в счет погашения основного дол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емщик 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бсид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таток осн. долга после совершения текущего платежа (с учетом досрочного погашен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атеж заемщика, включая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 последнего числа меся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 последнего числа меся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 последнего числа меся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 последнего числа меся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 последнего числа меся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 последнего числа меся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 последнего числа меся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395280" y="41364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Расчет Ежемесячных платежей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95280" y="1484280"/>
          <a:ext cx="8229600" cy="5238720"/>
        </p:xfrm>
        <a:graphic>
          <a:graphicData uri="http://schemas.openxmlformats.org/drawingml/2006/table">
            <a:tbl>
              <a:tblPr/>
              <a:tblGrid>
                <a:gridCol w="431640"/>
                <a:gridCol w="648000"/>
                <a:gridCol w="1081080"/>
                <a:gridCol w="1366560"/>
                <a:gridCol w="648000"/>
                <a:gridCol w="1152360"/>
                <a:gridCol w="936720"/>
                <a:gridCol w="1050840"/>
                <a:gridCol w="914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та внесения платеж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щий ежемесячный платеж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атеж в счет погашения основного дол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емщик 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бсид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таток осн. долга после совершения текущего платежа (с учетом досрочного погашен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атеж заемщика, включая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 последнего числа меся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7,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87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5,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 последнего числа меся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3,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5,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83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0,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 последнего числа меся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81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 последнего числа меся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4,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78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1,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 последнего числа меся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2,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9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76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6,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 последнего числа меся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4,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4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73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1,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 последнего числа меся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1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,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7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7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55640" y="1628640"/>
          <a:ext cx="7315200" cy="453060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 последнего числа меся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9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,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6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7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 последнего числа меся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1,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3,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66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2,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 последнего числа меся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8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63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8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 последнего числа меся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9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2,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60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3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 последнего числа меся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5,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58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8,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735920" y="549360"/>
            <a:ext cx="49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Расчет Ежемесячных платежей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aramond"/>
              </a:rPr>
              <a:t>Выводы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зучая литературу, я узнала много нового для себя, впервые познакомилась с понятием ипотеки, с историей ее возникновения, проследила все этапы оформления ипотечного кредита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 Собирая информацию, я узнала, что в нашем районе два банка: Сбербанк России и РоссельхозБанк. Я познакомилась с условиями и особенностями предоставления ипотеки в данных банках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. Изучив особенности ипотечных программ в Сбербанке России и РоссельхозБанке, я обратила внимание, что банки в основном дают ипотечные кредиты для покупки готового жилья, жилья в строящемся доме. Для своей работы я выбрала ипотечные программы, в основе которых лежит строительство нового жилья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. Сравнивая особенности выдачи ипотечного кредита в Сбербанке России и РоссельхозБанке, я сделала вывод, что условия выдачи кредита лучше в РоссельхозБанк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5.При сравнении процентных ставок оказалось, что наиболее низкими ставками обладает Сбербанк России.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6. Таким образом, имея информацию о разных кредитах,  применяя знания по математике, легко решить важную  жизненную задачу: выбор ипотечного кредит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Garamond"/>
              </a:rPr>
              <a:t>Завершение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959280" cy="4392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226040" cy="4286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129440" cy="489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aramond"/>
              </a:rPr>
              <a:t>Цель исследования: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9311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524960"/>
            <a:ext cx="8139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7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снить особенности ипотечного кредитования и проанализировать полученные данные на примере Россельхозбанка  и Сбербанке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7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7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Показать сверстникам, как можно применить  математику  для решения жизненной задачи : выбор  ипотечного кред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Для решения поставленной цели необходимо решить следующие задачи: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)Изучить литературу и выявить сущность ипотечного креди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)Собрать данные по ипотечному кредитованию в РоссельхозБан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)Изучить особенности ипотечных программ и выбрать одну из программ кредитов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)Сравнить особенности выдачи ипотечного кредита в РоссельхозБанке и в Сбербанке Росс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)Сравнить процентные ставки по выбранной ипотечной программе в данных банк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aramond"/>
              </a:rPr>
              <a:t>Методы исследования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6920" y="2204640"/>
            <a:ext cx="721044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Основными методами в исследовании являются метод сбора информации, описательный метод, статистический метод. 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Garamond"/>
              </a:rPr>
              <a:t>Ипотечное кредитование- это..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Ипотечное кредитова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— одна из составляющих ипотечной системы. При получении кредита на покупку недвижимого имущества сама приобретаемая недвижимость поступает в ипотеку (залог) банку как гарантия возврата кредит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озможность купить или построить жилье с помощью кредита, выдаваемого банками, под залог приобретаемого жиль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озможность сразу стать собственником квартиры, а не после погашения взятого креди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озможность вселиться в свою квартиру, заплатив за нее не более трети от ее сто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аво досрочно рассчитаться с банком за взятый креди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aramond"/>
              </a:rPr>
              <a:t>Ипотека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Ипотек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— это одна из форм залога, при которой закладываемое недвижимое имущество остается в собственности должника, а кредитор в случае невыполнения последним своего обязательства приобретает право получить удовлетворение за счет реализации данного имуще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79640" y="3500280"/>
            <a:ext cx="2597040" cy="259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История ипотеки в России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Verdan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 России первые дворянские банки, которые предоставляли кредиты под залог имений и особняков, открылись во время правления императрицы Елизаветы Петровны, в 1754 году. Кредитовали они только высшие слои общества — исключительно аристократию. Через несколько лет при Коммерц-коллегии и в Петербургском порту были открыты первые ипотечные банки для купеческого сословия, а в 1786 году императрица своим указом объединила все эти учреждения в единый Государственный заемный банк. Уже в начале 19 века Михаил Сперанский, знаменитый государственный деятель эпохи Александра Первого, разработал подробное залоговое право, основные положения которого вошли в Свод гражданских закон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 1870 году в Российской империи функционировали уже 11 банков, чьи отделения открывались по всей стране. До революции ипотека в России развивалась не менее, а зачастую и более быстрыми темпами, чем в Европе. А вот после 1917 года кредит под залог был в нашей стране предан не просто забвению — он был официально запрещен. Так что в 90-е годы России пришлось заново восстанавливать свою систему ипотечного кредитов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Verdan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Verdana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aramond"/>
              </a:rPr>
              <a:t>История развития ипотеки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инято считать, что первое упоминание об 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потек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имело место в Законах Солона в VI до н.э. Ипотека — слово древнегреческое, которое переводится как «заклад», «залог» . Зародившись в Древней Греции, 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потек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получила развитие в римском праве классического периода. Впоследствии на нее существенно повлияли германские обычаи. Благодаря всем этим длительным процессам и сформировались важнейшие принципы современной 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потеки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1800" spc="-1" strike="noStrike">
                <a:solidFill>
                  <a:srgbClr val="66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Verdana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71640" y="3716280"/>
            <a:ext cx="3384360" cy="2376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00720" y="3716280"/>
            <a:ext cx="4410000" cy="2408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6:17:55Z</dcterms:created>
  <dc:creator>Дом</dc:creator>
  <dc:description/>
  <dc:language>en-US</dc:language>
  <cp:lastModifiedBy>ольга</cp:lastModifiedBy>
  <dcterms:modified xsi:type="dcterms:W3CDTF">2017-08-18T11:53:54Z</dcterms:modified>
  <cp:revision>18</cp:revision>
  <dc:subject/>
  <dc:title>Научно – исследовательская работа на тему: «Ипотечное кредитование» </dc:title>
</cp:coreProperties>
</file>