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FEA8-33DA-43FF-9374-9C30593173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D5C-CAC6-49C7-B024-A228E49393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CF1-B57E-4C3F-AF54-E10C1FCC1F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хи Пушкина лёгкие, весёлые, в них чувствуется улыбка поэта. Билибин сразу уловил эту улыбку: царь у него толстый, неуклюжий. Не очень-то пристало ему в снегу стоять да подслушивать. Недаром художник рядом куцую дворняжку нарисовал – никакого она внимания на царя не обращает, столбик обнюх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DDA-BDE3-43B1-A306-6E68E41256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 картина радостная и торжественная. Берег покрыт пёстрым ковром полевых цветов. Царевич с матерью смотрят на прекрасный волшебный город, внезапно возникший перед их оч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 дивясь, перед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ит город он больш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ны с частыми зубц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за белыми сте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щут маковки церкв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тых монастырей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FA5-E7B3-47DC-B8ED-1513ECBF87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бы события не изображал художник – грустные, радостные. Фантастические, - рисунки его всегда очень красивы. Рисовал он акварелью. Линию проводил тонкой кисточкой, чёткую, упругую. Линия то причудливо завивается, то распрямляется – создаёт особый, по-сказочному нарядный уз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D019-754F-4B6C-911E-E95A7D782E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Яковлевич отличался весёлым нравом и любил для приятелей сочинять потешки, забавные стихи. Это умение подметить смешное проявилось и в его рисунках. Но смех его совсем не безобиден. Особенно достаётся царю и глуповатым придв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изображён «пир на весь мир» в тереме царя Гвидона. Посмотрите на этого боярина – свалился недотёпа под стол…Даже кошка с осуждением смотрит на его несуразную фигу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9FC-D06E-4C54-989D-B20B77A7D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сразу Билибин стал известным художником, искусным мастером сказки. Пришлось ему прежде немало потрудиться. Он ходил по музеям и библиотекам, зарисовывал старинную одежду, утварь. Читал древние книги, в которых все заглавные буквы были похожи на необыкновенных зверюшек и фантастических пт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C30-6A43-4073-99DF-7162A95349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либин много путешествовал. Для поездок выбирал глухие северные края. Там, вдали от больших шумных городов, чаще можно увидеть русскую старину. Встречаются развалины крепостей. От времени их стены в землю вросли и мхом покрылись. Когда-то около этих крепостей происходили великие сражения. Оборонялась древняя Русь от иноземных вра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ерегах тихих озёр приютились часовенки, такие ветхие, что на их крышах выросли берёзки. Растут себе, на ветру раскачиваются, листьями шелестя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какие дома стоят в северных краях! Что ни постройка – настоящее чудо! Наличники на окнах расписные – пламенеют яркими цветами. На ставнях диковинные звери вырезаны. Между собой переглядываются. Каждое крылечко деревянным кружевом украшено. Одно лучше друг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C00-7BED-41DF-955D-9429B1FA39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спеша ведёт нас Билибин по сказочным владениям и словно говорит: «Не торопитесь, вглядитесь получше в картины родной природы, которые так приветливо встречают вас на страницах сказок. Посмотрите повнимательнее на рисунок. Он напоминает деревянную резьбу на крестьянских домах. А этот узор в старину был выткан на одежде ваших далёких предк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1C3B-EBDA-44CC-972F-D0EC6BF837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И.Я.Билибина к русским сказкам и былинам воссоздают сказочный и фантастичный мир русского фолькл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3EA-2ECD-4C04-B1D5-99CC1FE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F90-F4C3-4307-BFD9-A06DAE2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896-5631-4601-9A4B-7B299095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2E6-BDDF-47F9-A43A-00E47644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513BB-359F-4097-8867-1BEEF40B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6D83-956C-49AF-B6C8-B08DEBB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CA0ED-0FD9-44C6-862E-2AF58121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03936-46EC-4461-B263-ABDBCD7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6738-9711-438D-A0A2-F961C343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9833-F3E3-4554-A388-E9D7936D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B921-22C7-453F-8A0C-0F6E744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BAC-4E20-4248-B4A8-65DF1FC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FE5E-A60D-40AF-8106-31A056A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B7B0-3012-4CC4-A86C-66C87F6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6271-E30C-4C0B-80FB-9889856F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D87E4-30DE-467D-A392-CA0DD2F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58DFD-F8D6-4F2F-8384-D144AE90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4DBD-943F-4FBB-BC1E-1045641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039A-A35F-4CC0-AA39-A15A6F9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0643-CBCE-48C2-AD8F-AD280293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0FE6-09AE-4880-BD33-9B1948D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AD3C-606B-4EDD-A01A-F31CA33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315-97CD-4A34-AFC9-54D08552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DE0C-16DA-41E8-83F9-D483FB5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A422-043F-4528-826A-09B97A0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1C0E-2AB6-4559-B778-E1CF6B4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35B9-6158-4A8C-9858-7B76F96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FD15-B3FE-48D4-B56C-C0E4A6BD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2A5D-A38D-4475-B582-8ABA3A55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AC51-AC85-4E0C-A952-9FFA7AF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D8F2F-B4AC-42B9-A2CD-A32EA79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13887-1556-48D2-A744-19E404A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1C88A-B850-4C3C-AE45-2CAD308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A66-9D3F-4D42-960D-B63FA5A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E2A34-7F11-46AB-91D1-D6A030A1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8AD1F-C816-490A-AF6D-6A67B04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157C2-7D1B-4A12-8FFD-9BBECB97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24C6E-F6C9-443E-A4C3-D368E17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8D19B-E7B5-4C38-989B-16F85D19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900A4-D0D9-4AA9-80F9-C018250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5BCF5-62F3-4904-BB06-7F83ACE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B32B0-8C33-4129-8DAD-37C9EEB6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C8A35-CDE5-4836-839A-17E68B70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CE5-C0EE-4E4D-B088-EEAA4DE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695-E214-4510-B411-1DC00D0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824-C5B7-498E-BCBB-187CD01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918-AEE8-4C02-92CF-F4EE10B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270-DE78-41FD-A2CA-1BCCDAF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1D78-75ED-4C09-BDB7-F59B13EF56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BC7-B313-4130-8818-E3F8E29C2D7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0C29-53AD-4E1F-B4CD-ABAE3C45CC0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9F85-A933-4C1F-9660-D5373055964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WordArt 4" descr=""/>
          <p:cNvPicPr/>
          <p:nvPr/>
        </p:nvPicPr>
        <p:blipFill>
          <a:blip r:embed="rId1"/>
          <a:stretch/>
        </p:blipFill>
        <p:spPr>
          <a:xfrm>
            <a:off x="-152280" y="463680"/>
            <a:ext cx="8918280" cy="224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image001"/>
          <p:cNvPicPr/>
          <p:nvPr/>
        </p:nvPicPr>
        <p:blipFill>
          <a:blip r:embed="rId2"/>
          <a:stretch/>
        </p:blipFill>
        <p:spPr>
          <a:xfrm>
            <a:off x="2843280" y="2708280"/>
            <a:ext cx="3097080" cy="34257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"/>
          <p:cNvSpPr/>
          <p:nvPr/>
        </p:nvSpPr>
        <p:spPr>
          <a:xfrm>
            <a:off x="6261120" y="452448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ученик 3 класса Г МБОУ СШ №2 г. Вязь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Симонов Никол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MG_0009"/>
          <p:cNvPicPr/>
          <p:nvPr/>
        </p:nvPicPr>
        <p:blipFill>
          <a:blip r:embed="rId1"/>
          <a:stretch/>
        </p:blipFill>
        <p:spPr>
          <a:xfrm>
            <a:off x="1187280" y="2367000"/>
            <a:ext cx="6488280" cy="3610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324000" y="3333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Вот заснеженный терем с резным крылечком. Вечер. В тереме лучину зажгли, окошки светятся – там три сестры у прялок сидят и мечтают: «Кабы я была царица…»</a:t>
            </a:r>
            <a:br>
              <a:rPr sz="2400"/>
            </a:b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А царь Салтан у окошка подслушивает: «Во всё время разговора он стоял позадь забора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84360" y="595008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ллюстрация к «Сказке о царе Салта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86FAECA5"/>
          <p:cNvPicPr/>
          <p:nvPr/>
        </p:nvPicPr>
        <p:blipFill>
          <a:blip r:embed="rId1"/>
          <a:stretch/>
        </p:blipFill>
        <p:spPr>
          <a:xfrm>
            <a:off x="324000" y="1082520"/>
            <a:ext cx="4679640" cy="29638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446040" y="4365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«Бочка по морю плывё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941400" y="47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ллюстрация к «Сказке о царе Салта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ECE8DBF7"/>
          <p:cNvPicPr/>
          <p:nvPr/>
        </p:nvPicPr>
        <p:blipFill>
          <a:blip r:embed="rId2"/>
          <a:stretch/>
        </p:blipFill>
        <p:spPr>
          <a:xfrm>
            <a:off x="5364000" y="1082520"/>
            <a:ext cx="3097440" cy="456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4500720" y="5649840"/>
            <a:ext cx="414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«И дивясь, перед соб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видит город он большо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http://s40.radikal.ru/i087/0901/e8/b4cccac901ef.jpg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4935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468360" y="5373720"/>
            <a:ext cx="82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«Тут он в точку уменьшился, комаром оборотился…»</a:t>
            </a:r>
            <a:br>
              <a:rPr sz="2400"/>
            </a:br>
            <a:r>
              <a:rPr b="0" lang="ru-RU" sz="1800" spc="-1" strike="noStrike">
                <a:solidFill>
                  <a:srgbClr val="f1d77f"/>
                </a:solidFill>
                <a:latin typeface="Arial"/>
              </a:rPr>
              <a:t>Иллюстрация к «Сказке о царе Салта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63E7601D"/>
          <p:cNvPicPr/>
          <p:nvPr/>
        </p:nvPicPr>
        <p:blipFill>
          <a:blip r:embed="rId1"/>
          <a:stretch/>
        </p:blipFill>
        <p:spPr>
          <a:xfrm>
            <a:off x="1584360" y="444600"/>
            <a:ext cx="5975280" cy="46036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684360" y="558972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Пир. Иллюстрация к «Сказке о царе Салта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BBBA4533"/>
          <p:cNvPicPr/>
          <p:nvPr/>
        </p:nvPicPr>
        <p:blipFill>
          <a:blip r:embed="rId1"/>
          <a:stretch/>
        </p:blipFill>
        <p:spPr>
          <a:xfrm>
            <a:off x="1846440" y="1549440"/>
            <a:ext cx="5810040" cy="4255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755640" y="3492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d77f"/>
                </a:solidFill>
                <a:latin typeface="Arial"/>
              </a:rPr>
              <a:t>Даже если не знать сказок Пушкина, а только посмотреть иллюстрации Билибина, то их сюжетная канва становится я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684360" y="5805360"/>
            <a:ext cx="77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Звездочёт перед Дадо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ллюстрация к «Сказке о золотом петуш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http://i007.radikal.ru/0901/cf/22ea257a9051.jpg"/>
          <p:cNvPicPr/>
          <p:nvPr/>
        </p:nvPicPr>
        <p:blipFill>
          <a:blip r:embed="rId1"/>
          <a:stretch/>
        </p:blipFill>
        <p:spPr>
          <a:xfrm>
            <a:off x="1476360" y="549360"/>
            <a:ext cx="6095880" cy="44672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755640" y="5300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Царь Дадон перед Шамаханской царицей. Иллюстрация к «Сказке о золотом петуш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1187280" y="6206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Закончилось наше путешествие в сказочные владения Билибина. Художник не только подарил нам сказочный, узорчатый мир своего искусства, он сохранил поэтичность, доброту и мудрость сказок А.С.Пушк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http://www.blagovest-moskva.ru/upload/15717.jpg"/>
          <p:cNvPicPr/>
          <p:nvPr/>
        </p:nvPicPr>
        <p:blipFill>
          <a:blip r:embed="rId1"/>
          <a:stretch/>
        </p:blipFill>
        <p:spPr>
          <a:xfrm>
            <a:off x="539640" y="3043080"/>
            <a:ext cx="2556000" cy="351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images.wildberries.ru/big/new/2450000/2458539-1.jpg"/>
          <p:cNvPicPr/>
          <p:nvPr/>
        </p:nvPicPr>
        <p:blipFill>
          <a:blip r:embed="rId2"/>
          <a:stretch/>
        </p:blipFill>
        <p:spPr>
          <a:xfrm>
            <a:off x="3232080" y="3040200"/>
            <a:ext cx="2751120" cy="351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xxlbook.ru/imgh643166.png"/>
          <p:cNvPicPr/>
          <p:nvPr/>
        </p:nvPicPr>
        <p:blipFill>
          <a:blip r:embed="rId3"/>
          <a:stretch/>
        </p:blipFill>
        <p:spPr>
          <a:xfrm>
            <a:off x="6213600" y="3043080"/>
            <a:ext cx="233496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900000" y="47628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ван Яковлевич Билибин родился в с. Тарховка </a:t>
            </a:r>
            <a:br>
              <a:rPr sz="2400"/>
            </a:b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(близ Петербурга), в семье военного врача. Влюблённый в русскую старину, Билибин был художником - сказоч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863640" y="371628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Не сразу Билибин стал известным художником, искусным мастером сказки. Пришлось ему прежде немало потрудиться. Он ходил по музеям и библиотекам, зарисовывал старинную одежду, утварь. Читал древние книги, в которых все заглавные буквы были похожи на необыкновенных зверюшек и фантастических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http://shk37-ul.narod.ru/simbirsk/star_od.jpg"/>
          <p:cNvPicPr/>
          <p:nvPr/>
        </p:nvPicPr>
        <p:blipFill>
          <a:blip r:embed="rId1"/>
          <a:stretch/>
        </p:blipFill>
        <p:spPr>
          <a:xfrm>
            <a:off x="1619280" y="2075040"/>
            <a:ext cx="1297080" cy="164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www.booksite.ru/enciklopedia/interier/25.gif"/>
          <p:cNvPicPr/>
          <p:nvPr/>
        </p:nvPicPr>
        <p:blipFill>
          <a:blip r:embed="rId2"/>
          <a:stretch/>
        </p:blipFill>
        <p:spPr>
          <a:xfrm>
            <a:off x="3130560" y="2090880"/>
            <a:ext cx="4754520" cy="163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981000" y="33336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Билибин много путешествовал. Для поездок выбирал глухие северные края. Там, вдали от больших шумных городов, чаще можно увидеть русскую старину. Встречаются развалины крепостей. От времени их стены в землю вросли и мхом покрылись. Когда-то около этих крепостей происходили великие сражения. Оборонялась древняя Русь от иноземных вра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На берегах тихих озёр приютились часовенки, такие ветхие, что на их крышах выросли берёзки. Растут себе, на ветру раскачиваются, листьями шелестя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d77f"/>
                </a:solidFill>
                <a:latin typeface="Arial"/>
              </a:rPr>
              <a:t>А какие дома стоят в северных краях! Что ни постройка – настоящее чудо! Наличники на окнах расписные – пламенеют яркими цветами. На ставнях диковинные звери вырезаны. Между собой переглядываются. Каждое крылечко деревянным кружевом украшено. Одно лучше другого!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https://upload.wikimedia.org/wikipedia/commons/thumb/a/a0/Article_head-piece_by_Ivan_Bilibin.jpg/1208px-Article_head-piece_by_Ivan_Bilibin.jpg"/>
          <p:cNvPicPr/>
          <p:nvPr/>
        </p:nvPicPr>
        <p:blipFill>
          <a:blip r:embed="rId1"/>
          <a:stretch/>
        </p:blipFill>
        <p:spPr>
          <a:xfrm>
            <a:off x="2033640" y="4807080"/>
            <a:ext cx="531324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http://cs153.vkontakte.ru/u2129938/67671909/x_8208e800.jpg"/>
          <p:cNvPicPr/>
          <p:nvPr/>
        </p:nvPicPr>
        <p:blipFill>
          <a:blip r:embed="rId1"/>
          <a:stretch/>
        </p:blipFill>
        <p:spPr>
          <a:xfrm>
            <a:off x="2050920" y="447840"/>
            <a:ext cx="4824720" cy="44877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"/>
          <p:cNvSpPr/>
          <p:nvPr/>
        </p:nvSpPr>
        <p:spPr>
          <a:xfrm>
            <a:off x="900000" y="5445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ллюстрация к присказке «Жил-был царь…»  из книги «Царевна –Лягу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DFE2EAFB"/>
          <p:cNvPicPr/>
          <p:nvPr/>
        </p:nvPicPr>
        <p:blipFill>
          <a:blip r:embed="rId1"/>
          <a:stretch/>
        </p:blipFill>
        <p:spPr>
          <a:xfrm>
            <a:off x="2556000" y="333360"/>
            <a:ext cx="3960720" cy="50864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501480" y="5300640"/>
            <a:ext cx="8425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d77f"/>
                </a:solidFill>
                <a:latin typeface="Arial"/>
              </a:rPr>
              <a:t>Иван-царевич и Жар-птица.</a:t>
            </a:r>
            <a:br>
              <a:rPr sz="2800"/>
            </a:b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ллюстрация к «Сказке об Иване-царевиче, Жар-птице и Сером вол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4D40B9C1"/>
          <p:cNvPicPr/>
          <p:nvPr/>
        </p:nvPicPr>
        <p:blipFill>
          <a:blip r:embed="rId1"/>
          <a:stretch/>
        </p:blipFill>
        <p:spPr>
          <a:xfrm>
            <a:off x="2556000" y="260280"/>
            <a:ext cx="392400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250920" y="573264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Иван-царевич и «рать – сила побитая».</a:t>
            </a:r>
            <a:br>
              <a:rPr sz="2400"/>
            </a:br>
            <a:r>
              <a:rPr b="0" lang="ru-RU" sz="1800" spc="-1" strike="noStrike">
                <a:solidFill>
                  <a:srgbClr val="f1d77f"/>
                </a:solidFill>
                <a:latin typeface="Arial"/>
              </a:rPr>
              <a:t>Иллюстрация к сказке «Марья Морев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3562B6AB"/>
          <p:cNvPicPr/>
          <p:nvPr/>
        </p:nvPicPr>
        <p:blipFill>
          <a:blip r:embed="rId1"/>
          <a:stretch/>
        </p:blipFill>
        <p:spPr>
          <a:xfrm>
            <a:off x="2411280" y="289080"/>
            <a:ext cx="4249800" cy="5300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611280" y="5589720"/>
            <a:ext cx="813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«Купи мне, батюшка, пёрышко Финиста Ясна-сокола»</a:t>
            </a:r>
            <a:br>
              <a:rPr sz="2400"/>
            </a:br>
            <a:r>
              <a:rPr b="0" lang="ru-RU" sz="1600" spc="-1" strike="noStrike">
                <a:solidFill>
                  <a:srgbClr val="f1d77f"/>
                </a:solidFill>
                <a:latin typeface="Arial"/>
              </a:rPr>
              <a:t>Иллюстрация к сказке «Финист - Ясный Сокол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A5170F1"/>
          <p:cNvPicPr/>
          <p:nvPr/>
        </p:nvPicPr>
        <p:blipFill>
          <a:blip r:embed="rId1"/>
          <a:stretch/>
        </p:blipFill>
        <p:spPr>
          <a:xfrm>
            <a:off x="2700360" y="233280"/>
            <a:ext cx="3718080" cy="4851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755640" y="53737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«…видит, сидит на кочке лягушка-квакушка и его стрелу держит»</a:t>
            </a:r>
            <a:br>
              <a:rPr sz="2400"/>
            </a:br>
            <a:r>
              <a:rPr b="0" lang="ru-RU" sz="1600" spc="-1" strike="noStrike">
                <a:solidFill>
                  <a:srgbClr val="f1d77f"/>
                </a:solidFill>
                <a:latin typeface="Arial"/>
              </a:rPr>
              <a:t>Иллюстрация к сказке «Царевна-лягуш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ACAF913F"/>
          <p:cNvPicPr/>
          <p:nvPr/>
        </p:nvPicPr>
        <p:blipFill>
          <a:blip r:embed="rId1"/>
          <a:stretch/>
        </p:blipFill>
        <p:spPr>
          <a:xfrm rot="5131200">
            <a:off x="2783520" y="1880280"/>
            <a:ext cx="3112920" cy="3914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539640" y="692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d77f"/>
                </a:solidFill>
                <a:latin typeface="Arial"/>
              </a:rPr>
              <a:t>Много иллюстраций создал Билибин к былинам, народным сказкам. Но с особым увлечением делал рисунки к сказкам Пушкина</a:t>
            </a: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39640" y="587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Arial"/>
              </a:rPr>
              <a:t>Обложка к «Сказке о рыбаке и рыб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02:45Z</dcterms:created>
  <dc:creator>qwerty</dc:creator>
  <dc:description/>
  <dc:language>en-US</dc:language>
  <cp:lastModifiedBy>Admin</cp:lastModifiedBy>
  <dcterms:modified xsi:type="dcterms:W3CDTF">2017-08-18T13:06:02Z</dcterms:modified>
  <cp:revision>17</cp:revision>
  <dc:subject/>
  <dc:title>Иван Яковлевич Билибин –  художник - сказочник</dc:title>
</cp:coreProperties>
</file>