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80B-A181-4D47-AE0D-AE113DC8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ADB-F410-44C8-817A-23022A54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C2E-AE8C-456F-9405-2D03E58E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910-CD32-45F9-9B58-077FEC88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B30C-58C4-44C2-A384-9510E635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AC70-3FA1-4EDB-8958-B1B48015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5B68-BAFD-4BA2-B756-48FB817C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1B8B-6A04-4CF7-8EC3-3CA96EB2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FC8E-C74F-45C5-BA4D-A286601C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D001-0569-404D-9CE1-BE05B8A3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BB22-92D0-4F06-9B97-E08E6B5B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067-AE1D-4FE8-B6A5-BF39B99D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E9A7-EEFE-4C43-BA03-7BA92E37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9097-2C32-46CE-869A-F2D57265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94A2-43D5-40DE-957E-69521076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07EF-332F-45B8-A38F-0463092E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EEF3-2280-4385-AF76-82F91F8A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81D-6C5D-4140-8D5C-0C12E316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DBC-1545-4A73-BB53-26C76FCD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057-B895-44B8-A5B3-158595B2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EDD-8553-41AF-9236-FEB35B17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846-B4BD-4E9A-B088-531A79AE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59E-50AD-470E-9566-6BDC52CE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12F-10C8-4C5E-99F2-45A6919D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F071-7DC9-44CA-9FC2-4FE5AEE2FF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00B0-26FE-4460-BA8C-0F5806B9621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 такое личнос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Наша личность – сад, а наша воля – его садовник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.Шекспи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от, кто оставляет все на волю случая, превращает свою жизнь в лотерею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У каждого человека три характера: тот, который ему приписывают, тот, который он сам себе приписывает, и, наконец, тот, который есть в  действительности.«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.Гюг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елове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Человек сначала смотрится, как в зеркало, в другого человека. Лишь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носясь, к другому, как  к себе подобному, он начинает относиться к себе как к человеку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 такое человек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ля человека мысль – венец всего живого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 чистота души есть бытия основ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 этим признакам находим человека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сех тварей на земле превыше он от век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 если он живет не мысля и вер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о человек не отличается от звер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нвар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 Познай самого сам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Реальное «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Фантастическое «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Будущее «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Идеализированное «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755640" y="2708280"/>
            <a:ext cx="6476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1143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333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ст «Ваша индивидуальность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егко ли вы сходитесь с людьми? (да-1, не очень-3, нет-5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урите ли вы? (да-1, иногда-3, нет-5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Если вы совершаете дурной поступок или лжете, то ( никогда не признаюсь-1, иногда признаюсь-3, признаюсь-5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Если друзья предложили попробовать наркотики, вы попробовали бы? (да-1, не уверен-3, нет-5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ы считаете, что трезвый среди пьяных – «белая ворона»?(да-1, не уверен-3, нет-5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Если к вам обратились за помощью погорельцы, отдали бы все деньги? (да-5, не все-3, нет-1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Если ваш друг обижает малыша, вы заступитесь за малыша? (да-5,не уверен-3, нет-1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Если слепому потребовалась ваша помощь, вы поможете?(да-5,если бы не спешил-3, нет-1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гда родители учат вас, то вы? ( учусь-5, делаю вид, что учусь-3, стараюсь отделаться-1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одител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63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еловек среди люде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Тот, кто думает, что может обойтись без других, сильно ошибается; но тот, кто думает, что другие могут обойтись без него; ошибается ещё больше.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.Ларошфук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еловек и обществ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человек ,который думает  только о себе, безнадежно некультурен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удьте хорошим слушател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10:06Z</dcterms:created>
  <dc:creator>User</dc:creator>
  <dc:description/>
  <dc:language>en-US</dc:language>
  <cp:lastModifiedBy>Home</cp:lastModifiedBy>
  <dcterms:modified xsi:type="dcterms:W3CDTF">2010-12-03T13:16:49Z</dcterms:modified>
  <cp:revision>3</cp:revision>
  <dc:subject/>
  <dc:title>Что такое личность</dc:title>
</cp:coreProperties>
</file>