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08B-160F-45DE-A157-40EF0528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DC3-F91C-42C5-99F4-C57BD14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82E-766C-4914-A070-44DF09DF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11E-F867-4C6E-B4A2-EA5E33E3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7B0-F3A8-47D0-B451-B79A9521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A574-A7CB-40BE-A9CA-6D18FA9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9BC5-1B24-48A7-9957-78D020C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47B-C6D6-4A96-99DF-2B6E788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425F-D76D-4B19-B377-5E299FA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76C-5272-41B3-BF8B-0AD32630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2C13-89B7-4F9C-BF57-3BAE12C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66D-76AD-43C6-A781-59697A9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1461-62AF-4D6D-BD93-ED2BD4E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505-0946-450C-95D6-7E95483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955D-F490-4C04-9BC8-AB6C88E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8EF1-81B6-45F9-A497-DCD4F89A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89DE-E482-4B86-852E-A533C248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C1B-8787-4E09-98E5-5FBFFB3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141-8F9E-4D83-B1BA-117647BD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925-8AE4-4B4C-8B46-CF5F40A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579-9E25-40E6-82FB-164836C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9C3-00DC-4629-9BF3-A24C479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194-2BE1-4724-A295-74DE477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76E-FE11-4DA8-8924-592C3B1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AB4-5AE5-4F81-8839-A45E94B85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6992-68B9-467B-A24A-75A8E75085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Духовно-нравственное воспитание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6600"/>
                </a:solidFill>
                <a:latin typeface="Times New Roman"/>
              </a:rPr>
              <a:t>«Я в мире…Мир во мне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Цели и задачи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епенное формирование личности – от осознания ребёнком своего «я», своего места в жизни до самосовершенствования и само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среди 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равственные ценност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нравств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человеческие ц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д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сти возра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дет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ю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молод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зре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)стар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росерде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сток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лосер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чта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др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ду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ро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щесла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6:17Z</dcterms:created>
  <dc:creator>User</dc:creator>
  <dc:description/>
  <dc:language>en-US</dc:language>
  <cp:lastModifiedBy>Home</cp:lastModifiedBy>
  <dcterms:modified xsi:type="dcterms:W3CDTF">2012-05-10T08:25:21Z</dcterms:modified>
  <cp:revision>4</cp:revision>
  <dc:subject/>
  <dc:title>Духовно-нравственное воспитание</dc:title>
</cp:coreProperties>
</file>