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B3E4-8A67-4E00-90FF-2C040822D4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A68E-CDB0-42D8-BDDA-5164636093CB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3E05-160C-483B-902B-2304829AA95E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F48-7BC7-408C-904F-18EACCE7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547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11200" y="3964320"/>
            <a:ext cx="547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330-8504-43FB-AC93-8229C3DE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11200" y="396432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16680" y="396432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795-694D-43EC-A542-C21005BC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2680" y="160020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4160" y="160020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11200" y="396432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062680" y="396432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4160" y="396432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700-A7E7-4917-A722-BEBA73BD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1B5-400D-4E83-80FA-462EE2E5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11200" y="1600200"/>
            <a:ext cx="5475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7E4A-5E17-4699-B9D6-5772B9B3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547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7D14-E440-4012-BF8D-A7077044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5A4F-56D7-41DC-A7A7-D7C04AA5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4F43-AD4A-4B15-A8B2-B33CF99C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00400" y="274320"/>
            <a:ext cx="54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5433-F1EE-4283-A141-DF62D55D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11200" y="396432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69AA-61B2-419F-99C8-97A56562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11200" y="1600200"/>
            <a:ext cx="5475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C61-0A14-45B8-BE3D-8819517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16680" y="396432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4E01-A508-49F1-9CCE-59E2F319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11200" y="3964320"/>
            <a:ext cx="547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BE0E-6072-4472-9A85-9FE4344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547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1200" y="3964320"/>
            <a:ext cx="547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1EA4-8355-41A8-A0F3-B32E930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11200" y="396432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16680" y="396432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34BE-DF0D-4F08-BB00-ECD13FC3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2680" y="160020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14160" y="160020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11200" y="396432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062680" y="396432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14160" y="3964320"/>
            <a:ext cx="17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262C-0770-496F-B8E9-5D1A4109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547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F4B-CC5B-4F4E-8255-5A4F315D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314-776B-4252-9678-DE8FB65F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7D8-EA05-4EDD-B4AA-DCA33645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00400" y="274320"/>
            <a:ext cx="54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CCF-C8C9-4D27-8D22-B85DC544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11200" y="396432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2D0-726D-41E2-AB6E-781EF835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16680" y="396432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78D-D1A7-49E5-8614-D0A8602A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1120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16680" y="1600200"/>
            <a:ext cx="267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11200" y="3964320"/>
            <a:ext cx="547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72C-DAD3-43BA-B58E-797623FA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11200" y="1600200"/>
            <a:ext cx="547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e2f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1135-440E-4F13-B0C8-D7A5869E3351}" type="slidenum">
              <a:rPr b="1" lang="en-GB" sz="1400" spc="-1" strike="noStrike">
                <a:solidFill>
                  <a:srgbClr val="0e2f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4959360" y="3013200"/>
            <a:ext cx="3933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b2382"/>
                </a:solidFill>
                <a:latin typeface="Arial"/>
              </a:rPr>
              <a:t>Your Name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4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11200" y="1600200"/>
            <a:ext cx="547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e2f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5AC6-1F8E-4EE9-8D32-1B043DC158E6}" type="slidenum">
              <a:rPr b="1" lang="en-GB" sz="1400" spc="-1" strike="noStrike">
                <a:solidFill>
                  <a:srgbClr val="0e2f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5960" y="1347840"/>
            <a:ext cx="7371000" cy="41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дагогический проек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детей дошкольного возраста «Какие тайны хранит космос?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условиях реализации ФГОС</a:t>
            </a:r>
            <a:br>
              <a:rPr sz="3200"/>
            </a:b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0b2382"/>
                </a:solidFill>
                <a:latin typeface="Arial"/>
              </a:rPr>
              <a:t>Яковлева Наталья Павловна</a:t>
            </a:r>
            <a:br>
              <a:rPr sz="2000"/>
            </a:br>
            <a:r>
              <a:rPr b="1" lang="ru-RU" sz="2000" spc="-1" strike="noStrike">
                <a:solidFill>
                  <a:srgbClr val="0b2382"/>
                </a:solidFill>
                <a:latin typeface="Arial"/>
              </a:rPr>
              <a:t>воспитатель МБДОУ детского сада № 359 г.о.Самара</a:t>
            </a:r>
            <a:br>
              <a:rPr sz="2000"/>
            </a:br>
            <a:r>
              <a:rPr b="1" lang="en-US" sz="2000" spc="-1" strike="noStrike">
                <a:solidFill>
                  <a:srgbClr val="0b2382"/>
                </a:solidFill>
                <a:latin typeface="Arial"/>
              </a:rPr>
              <a:t>mbdou359@mail.ru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400" y="2743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Ы РАБОТЫ НАД ПРОЕКТОМ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1600" y="1282680"/>
            <a:ext cx="81248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just">
              <a:spcBef>
                <a:spcPts val="601"/>
              </a:spcBef>
              <a:buClr>
                <a:srgbClr val="011d2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1d2b"/>
                </a:solidFill>
                <a:uFillTx/>
                <a:latin typeface="Arial"/>
              </a:rPr>
              <a:t>Погружение в проек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Цель: подготовка детей к проект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11d2b"/>
                </a:solidFill>
                <a:latin typeface="Arial"/>
              </a:rPr>
              <a:t>Предварительная рабо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just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Подбор наглядного материала и познавательной литера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just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Составление рекомендаций для родителей «Праздник - День космонавтики», «Что рассказать ребенку о космос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just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Чтение с детьми Е.П.Левитан "Твоя Вселенная" , "Звёздные сказки" , К.А.Порцевский “Моя первая книга о Космос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just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Просмотр иллюстраций и энциклопедий по теме “Космос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just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Домашнее задание: вместе с родителями нарисовать любую понравившуюся планету и найти информацию про нее. Чтобы потом рассказать и показать другим. . Оформить самодельную книгу «Тайны космос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1040" y="274320"/>
            <a:ext cx="78357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1d2b"/>
                </a:solidFill>
                <a:uFillTx/>
                <a:latin typeface="Arial"/>
              </a:rPr>
              <a:t>2.Планирование деятель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8080" y="1090440"/>
          <a:ext cx="8742240" cy="5394600"/>
        </p:xfrm>
        <a:graphic>
          <a:graphicData uri="http://schemas.openxmlformats.org/drawingml/2006/table">
            <a:tbl>
              <a:tblPr/>
              <a:tblGrid>
                <a:gridCol w="2689200"/>
                <a:gridCol w="6053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область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ные мероприят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</a:tr>
              <a:tr h="314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Физическая культура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Подвижные игры «Самолёты», «Планеты, стройся!» , «Найди свое место в космическом корабле», «Собери космический модуль», «Гонки в планеходе».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Тематическое физкультурное занятие «Тренировка будущих космонавтов» Развлечение «Дорога в космос». 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Физкультурный досуг «Юные космонавты»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Эстафеты «Тренировочный полёт», «Мы в космосе»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Здоровье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Беседа «Кого принимают в космонавты?»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Гимнастика для глаз «Путешествуем по Орбите»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Пальчиковая гимнастика «Планеты»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Дыхательная гимнастика «Задержи дыхание»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Профилактика плоскостопия «Луноходы»</a:t>
                      </a:r>
                      <a:endParaRPr b="0" lang="en-US" sz="20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1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41200" y="304920"/>
          <a:ext cx="8631360" cy="6308640"/>
        </p:xfrm>
        <a:graphic>
          <a:graphicData uri="http://schemas.openxmlformats.org/drawingml/2006/table">
            <a:tbl>
              <a:tblPr/>
              <a:tblGrid>
                <a:gridCol w="2654280"/>
                <a:gridCol w="5977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область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ные мероприят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НОД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Поможем жителям  грустной планеты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Беседа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Что случится с нашей планетой, если…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Обсуждение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Особенности защиты человека в космосе» (скафандр, шлем, аппарат для дыхания, спец.обувь), «Особенности приёма пищи в космическом полёте».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Решение проблемной ситуации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Как сохранить планету Земля?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</a:tr>
              <a:tr h="338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Социализац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Сюжетно-ролевые игры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Космос», «Космодром», </a:t>
                      </a: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Путешествие на луну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Коммуникативные игры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Интеллектуальная игра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 «Путешествие к далеким планетам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Дидактическая игра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Планета Земля», «Звёзды на небе»,</a:t>
                      </a: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Подбери правильную одежду для космонавта», «Что ближе, что дальше?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Беседа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Гордость страны» (полёт в космос Ю.А Гагарина-русского человека)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1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04920" y="449280"/>
          <a:ext cx="8646840" cy="5761080"/>
        </p:xfrm>
        <a:graphic>
          <a:graphicData uri="http://schemas.openxmlformats.org/drawingml/2006/table">
            <a:tbl>
              <a:tblPr/>
              <a:tblGrid>
                <a:gridCol w="2519280"/>
                <a:gridCol w="61275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область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ные мероприят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Труд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Конструирование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 «Космические корабли»,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Конструирование из деталей конструктора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Ракета Королёва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Конструирование планет солнечной системы из снега на прогулке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(комки снега, в центре самый большой ком – Солнце, вокруг него снежные комья маленькие – др планеты).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</a:tr>
              <a:tr h="3109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Коммуникац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Заучивание стихов о космосе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Отгадывание загадок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Сочинение рассказов  на тему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Космические истории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Придумывание окончания рассказа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Необычный полёт в космос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Словесная игра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Составь предложение», «Составь слово», «Космический словарь» 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Игра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Возьми интервью у космонавта», «Расскажи инопланетянам о планете Земля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Викторина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Звёздная рулетка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1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3920" y="204840"/>
          <a:ext cx="8638920" cy="6492960"/>
        </p:xfrm>
        <a:graphic>
          <a:graphicData uri="http://schemas.openxmlformats.org/drawingml/2006/table">
            <a:tbl>
              <a:tblPr/>
              <a:tblGrid>
                <a:gridCol w="2309760"/>
                <a:gridCol w="63291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область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ные мероприят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Познание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Экскурсия в планетарий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Рассматривание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изображений планет, созвездий, макета Солнечной системы, иллюстраций и книг по теме “Космос”.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Наблюдения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на прогулке за небом, звездами в темное время суток, за Луной: новолуние, месяц, половина Луны, полнолуние;     Путь солнца по небосводу.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Эксперимент  с глобусом и лампой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День и ночь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Экскурсия в  библиотеку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Просмотр электронной презентации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Как это было» (о собаках - космонавтах), «Как человек космос осваивал».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Просмотр фильма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Другие миры» из документального сериала «Планеты» ВВС, 2005     </a:t>
                      </a:r>
                      <a:r>
                        <a:rPr b="0" lang="ru-RU" sz="1800" spc="-1" strike="noStrike" u="sng">
                          <a:solidFill>
                            <a:srgbClr val="0e2fad"/>
                          </a:solidFill>
                          <a:uFillTx/>
                          <a:latin typeface="Arial"/>
                        </a:rPr>
                        <a:t>http://khvload.com/index.php?newsid=29540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Моделирование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созвездий из светящихся пластмассовых или картонных звездочек </a:t>
                      </a:r>
                      <a:r>
                        <a:rPr b="0" lang="ru-RU" sz="1800" spc="-1" strike="noStrike" u="sng">
                          <a:solidFill>
                            <a:srgbClr val="0e2fad"/>
                          </a:solidFill>
                          <a:uFillTx/>
                          <a:latin typeface="Arial"/>
                        </a:rPr>
                        <a:t>http://www.fotodeti.ru/astronomiya.htm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Моделирование размера солнца и земли (тыква и горошина) </a:t>
                      </a:r>
                      <a:r>
                        <a:rPr b="0" lang="ru-RU" sz="1800" spc="-1" strike="noStrike" u="sng">
                          <a:solidFill>
                            <a:srgbClr val="0e2fad"/>
                          </a:solidFill>
                          <a:uFillTx/>
                          <a:latin typeface="Arial"/>
                        </a:rPr>
                        <a:t>http://www.fotodeti.ru/astronomiya.htm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Глобус – модель земли.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72880" y="333360"/>
          <a:ext cx="8502840" cy="6218280"/>
        </p:xfrm>
        <a:graphic>
          <a:graphicData uri="http://schemas.openxmlformats.org/drawingml/2006/table">
            <a:tbl>
              <a:tblPr/>
              <a:tblGrid>
                <a:gridCol w="2359080"/>
                <a:gridCol w="6143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область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ные мероприят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</a:tr>
              <a:tr h="5578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Познание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Решение ребусов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Этот удивительный космос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Круглый стол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О чем рассказал телескоп».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НОД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</a:t>
                      </a:r>
                      <a:r>
                        <a:rPr b="0" lang="en-US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SOS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из космоса»,  «Солнечная система», «Звезды и кометы», «Лунные оладьи», «Человек и космос», «Пришельцы из космоса», «Космодром», «Древние миры-неизвестные планеты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Беседа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Неизвестная вселенная» «Планеты солнечной системы», «Звёзды – это нтересно» «Первооткрыватели космоса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Опыт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Как тучи мешают проводить астрономические наблюдения. Что к нам ближе солнце или тучи?»,  «Шарики на ниточках», опыт с электрической лампочкой, опыт с лучом света,  «Почему день сменяется ночью?»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Складываний созвездий из мозаики.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Конструктивные игры: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- из деревянного конструктора «Космодром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- из пластмассового конструктора «Космический корабль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41200" y="557280"/>
          <a:ext cx="8694720" cy="5506920"/>
        </p:xfrm>
        <a:graphic>
          <a:graphicData uri="http://schemas.openxmlformats.org/drawingml/2006/table">
            <a:tbl>
              <a:tblPr/>
              <a:tblGrid>
                <a:gridCol w="2441520"/>
                <a:gridCol w="6253200"/>
              </a:tblGrid>
              <a:tr h="68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область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ные мероприят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</a:tr>
              <a:tr h="481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Чтение художественной литературы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Чтение 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А.Леонов «Я выхожу в космос», цикл познавательных статей в энциклопедиях,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Моя первая книга о космосе», Л.Обухова «Как мальчик стал космонавтом» (о Ю.А. Гагарине), албанская сказка «Как солнце и луна друг к другу ходили», «Звёздные загадки», сказка народов Сибири «Небесный олень»,  К.Булычёв «Тайна третьей планеты»,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фантастическая сказка «Звездочёт и обезьянка Микки», Г.Юрлин «Что внутри?», рассказ «Счастливого пути, космонавты», Е.П.Левитан "Твоя Вселенная" и "Звёздные сказки" , К.А.Порцевский “Моя первая книга о Космосе” , Л. Талимонова "Сказки о созвездиях"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Заучивание стихотворения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Мечтатель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Рассматривание иллюстраций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к книгам: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Атлас Земли», «Географический атлас для детей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92240" y="622440"/>
          <a:ext cx="8597880" cy="4976640"/>
        </p:xfrm>
        <a:graphic>
          <a:graphicData uri="http://schemas.openxmlformats.org/drawingml/2006/table">
            <a:tbl>
              <a:tblPr/>
              <a:tblGrid>
                <a:gridCol w="2334960"/>
                <a:gridCol w="6262920"/>
              </a:tblGrid>
              <a:tr h="657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область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ные мероприят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</a:tr>
              <a:tr h="4319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Художественное творчество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Рисование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Инопланетяне, какие они?»,  «Космонавты», «Тренировка космонавтов», «Северное сияние» «Ракета в космосе» (техника набрызга) «Среди планет», «В космосе» (коллективное)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Аппликация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«Звездное небо», «Ракета», «Разноцветные планеты» (коллективная)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Рельефная лепка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Путешествие в космос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(с использованием бросового материала: макаронные изделия в виде звёзд, планет, ракет, спутников)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Конструирование из бумаги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(оригами)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Готовим ракеты к полёту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Издание книги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Путешествие звездочки»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Составление созвездий с использованием звездной карты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92240" y="766800"/>
          <a:ext cx="8726400" cy="4022640"/>
        </p:xfrm>
        <a:graphic>
          <a:graphicData uri="http://schemas.openxmlformats.org/drawingml/2006/table">
            <a:tbl>
              <a:tblPr/>
              <a:tblGrid>
                <a:gridCol w="2452680"/>
                <a:gridCol w="6273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область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ные мероприят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e2fad"/>
                    </a:solidFill>
                  </a:tcPr>
                </a:tc>
              </a:tr>
              <a:tr h="338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Слушание музыкальных произведений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 космической музыки «</a:t>
                      </a:r>
                      <a:r>
                        <a:rPr b="0" lang="en-US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Spays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Разучивание песни </a:t>
                      </a: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Марш юных космонавтов» (муз. А Филиппенко, сл. Т. Волгиной), песни «Ракеты» (Муз. Ю.Чичкова, сл. Я. Серпина)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Танцевальное творчество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Музыкально-ритмическая композиция с шарами «Ракеты отправляются в полёт»,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разучивание танца «Робот Бронислав», танца «Небесные огни» 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Музыкальная игра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«Созвездия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e3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841392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местная работа детей с родителя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240" y="817560"/>
            <a:ext cx="87105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Информация в родительском уголке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о начале работы над проектом, приглашение к участ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Изготовление атрибутов для сюжетно-ролевой игры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Космос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Изготовление костюмов для участия в развлечении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Парад планет»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Мини уголок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Загадочный космо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Просмотр родителями с детьми мультфильмов и чтение (по тем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Создание дома на потолке «Звездного неба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Эксперимент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Месяц в домашних условия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Конкурс совместной поделки детей и родителей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Самый необычный космический корабль» (природный или бросовый материа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Конкурс семейных работ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Космические корабл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Выставка работ на тему: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Наш мирный космо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Фотоальбом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Российская космонавтика: вчера и сегодня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Макет 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«Планеты Солнечной системы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Физкультурный досуг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:  «Мы готовы лететь в космос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Развлечения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Космические старты», «Возвращение Незнайк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11d2b"/>
                </a:solidFill>
                <a:latin typeface="Arial"/>
              </a:rPr>
              <a:t>Поиск вместе с родителями информации</a:t>
            </a:r>
            <a:r>
              <a:rPr b="0" lang="ru-RU" sz="1800" spc="-1" strike="noStrike">
                <a:solidFill>
                  <a:srgbClr val="011d2b"/>
                </a:solidFill>
                <a:latin typeface="Arial"/>
              </a:rPr>
              <a:t> «Как звезды людям помогают», создание фотоальбома или другой презентации результатов пои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3440" y="31248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о проект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3920" y="1455840"/>
            <a:ext cx="872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513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34a"/>
                </a:solidFill>
                <a:latin typeface="Arial"/>
              </a:rPr>
              <a:t>Направление деятельности: </a:t>
            </a:r>
            <a:r>
              <a:rPr b="0" lang="ru-RU" sz="2400" spc="-1" strike="noStrike">
                <a:solidFill>
                  <a:srgbClr val="05134a"/>
                </a:solidFill>
                <a:latin typeface="Arial"/>
              </a:rPr>
              <a:t>познавательно, речев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513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34a"/>
                </a:solidFill>
                <a:latin typeface="Arial"/>
              </a:rPr>
              <a:t>Вид проекта:</a:t>
            </a:r>
            <a:r>
              <a:rPr b="0" lang="ru-RU" sz="2400" spc="-1" strike="noStrike">
                <a:solidFill>
                  <a:srgbClr val="05134a"/>
                </a:solidFill>
                <a:latin typeface="Arial"/>
              </a:rPr>
              <a:t> информационно-практико-ориентирован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513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34a"/>
                </a:solidFill>
                <a:latin typeface="Arial"/>
              </a:rPr>
              <a:t>Участники проекта: </a:t>
            </a:r>
            <a:r>
              <a:rPr b="0" lang="ru-RU" sz="2400" spc="-1" strike="noStrike">
                <a:solidFill>
                  <a:srgbClr val="05134a"/>
                </a:solidFill>
                <a:latin typeface="Arial"/>
              </a:rPr>
              <a:t>педагоги, дети и родители подготовительной 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513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34a"/>
                </a:solidFill>
                <a:latin typeface="Arial"/>
              </a:rPr>
              <a:t>Сроки выполнения: </a:t>
            </a:r>
            <a:r>
              <a:rPr b="0" lang="ru-RU" sz="2400" spc="-1" strike="noStrike">
                <a:solidFill>
                  <a:srgbClr val="05134a"/>
                </a:solidFill>
                <a:latin typeface="Arial"/>
              </a:rPr>
              <a:t>февраль– апр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2960" y="496800"/>
            <a:ext cx="831384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1d2b"/>
                </a:solidFill>
                <a:uFillTx/>
                <a:latin typeface="Arial"/>
              </a:rPr>
              <a:t>3. Осуществлении деятельности по реализации проект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Содержимое 4" descr="SDC11176.JPG"/>
          <p:cNvPicPr/>
          <p:nvPr/>
        </p:nvPicPr>
        <p:blipFill>
          <a:blip r:embed="rId1"/>
          <a:stretch/>
        </p:blipFill>
        <p:spPr>
          <a:xfrm>
            <a:off x="963720" y="892080"/>
            <a:ext cx="7756560" cy="5813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190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сок источник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2240" y="753840"/>
            <a:ext cx="8694720" cy="61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499"/>
              </a:spcBef>
              <a:buClr>
                <a:srgbClr val="011d2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Детям о космосе и Юрии Гагарине – первом космонавте Земли: Беседы, досуги, рассказы/Авт.-сост. Т.А.Шорыгина, сост. М.Ю.Парамонова. – М.: ТЦ Сфера,2011. – 128с.-(Библиотека воспитателя) (3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2. 3. Космос. Детская энциклопедия. -Москва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4. Левитан Е.П. Малышам о звездах и планетах. Москва, Педагогика-Пресс, 199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5. Леонов А. Я выхожу в космос.- Москва,198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6. Почемучка. Под ред. А.Алексина.- Москва, 199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7. Скоролупова О.А. Покорение космоса. – 2-е изд. – М.: ООО «Издательство Скрипторий 2003», 2007 – 80 с.: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8. Фильм «Другие миры» из документального сериала «Планеты» ВВС, 200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9. Юрмин Г., А.Дитрих. Потомучка. Веселая энциклопедия.- Москва, 199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11d2b"/>
                </a:solidFill>
                <a:uFillTx/>
                <a:latin typeface="Arial"/>
              </a:rPr>
              <a:t>http://www.maaam.r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11d2b"/>
                </a:solidFill>
                <a:uFillTx/>
                <a:latin typeface="Arial"/>
              </a:rPr>
              <a:t>http://nsportal.r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11d2b"/>
                </a:solidFill>
                <a:uFillTx/>
                <a:latin typeface="Arial"/>
              </a:rPr>
              <a:t>http://dohcolonoc.r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49280" y="433080"/>
            <a:ext cx="823752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ический проект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детей дошкольного возраста «Какие тайны хранит космос?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словиях реализации ФГТ</a:t>
            </a:r>
            <a:br>
              <a:rPr sz="2800"/>
            </a:b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0b2382"/>
                </a:solidFill>
                <a:latin typeface="Arial"/>
              </a:rPr>
              <a:t>Кузнецова Татьяна Викторовна</a:t>
            </a:r>
            <a:br>
              <a:rPr sz="1800"/>
            </a:br>
            <a:r>
              <a:rPr b="0" lang="ru-RU" sz="1800" spc="-1" strike="noStrike">
                <a:solidFill>
                  <a:srgbClr val="0b2382"/>
                </a:solidFill>
                <a:latin typeface="Arial"/>
              </a:rPr>
              <a:t>воспитатель МБДОУ детского сада № 359 г.о.Сам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382"/>
                </a:solidFill>
                <a:latin typeface="Arial"/>
              </a:rPr>
              <a:t>Г.Самара, пр. К.Маркса, 340</a:t>
            </a:r>
            <a:br>
              <a:rPr sz="1800"/>
            </a:br>
            <a:r>
              <a:rPr b="0" lang="en-US" sz="1800" spc="-1" strike="noStrike">
                <a:solidFill>
                  <a:srgbClr val="0b2382"/>
                </a:solidFill>
                <a:latin typeface="Arial"/>
              </a:rPr>
              <a:t>mbdou359@mail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1520" y="274680"/>
            <a:ext cx="80452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нотац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8080" y="929880"/>
            <a:ext cx="87278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134a"/>
                </a:solidFill>
                <a:latin typeface="Arial"/>
              </a:rPr>
              <a:t>С самого рождения ребёнок является первооткрывателем, исследователем того мира, который его окружает. Малыши активно познают мир, открывают для себя новые истины. Интерес к Космосу пробуждается у человека весьма рано, буквально с первых шагов. Загадки Вселенной будоражат воображение всегда, с раннего детства до старости. Солнце, Луна, звезды – это одновременно так близко, и в то же время так далеко. Вспомните свое детство, как интересно было смотреть в ночное неб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134a"/>
                </a:solidFill>
                <a:latin typeface="Arial"/>
              </a:rPr>
              <a:t>В основе данного проекта лежит жажда дошкольников к познанию, стремление к открытиям, любознательность, потребность в умственных впечатлениях, и наша задача удовлетворить потребности детей, что в свою очередь приведёт к интеллектуальному, эмоциональному развитию. Данный проект направлен на развитие кругозора детей, формирование у них познавательной активности, воспитание патриотических чувств (гордость за российских космонавтов – первооткрывателей космоса), нравственных ценностей (добрых, дружественных отношений и т.д.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892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ходы при организации проектной деятельности «Какие тайны хранит космос»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01760" y="1266840"/>
            <a:ext cx="82850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в процессе сотрудничества, взаимодействия происходит развитие коммуникативных навыков, развивается диалогическая реч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совместная продуктивная творческая деятельность создает атмосферу доброжелательности, взаимопомощи, благоприятного эмоционального клима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реализуя игровой проект, участники образовательного процесса “родители - дети - воспитатели” создают триаду содруж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у детей развивается собственное, личностное отношение к увиденному, услышанному, чувство радости от соприкосновения с космической красотой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7600" y="274320"/>
            <a:ext cx="826920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 проект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акие тайны хранит космос»: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9680" y="1600200"/>
            <a:ext cx="79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Формирование  у  детей старшего дошкольного возраста представлений о Вселенной, планетах Солнечной системы, космическом пространстве, освоении космоса людь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2640" y="27432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 проект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акие тайны хранит космос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3920" y="1363320"/>
            <a:ext cx="87120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1d2b"/>
                </a:solidFill>
                <a:latin typeface="Arial"/>
              </a:rPr>
              <a:t>Образова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1. Продолжать расширять представление детей о многообразии космоса. Рассказать детям об интересных фактах и событиях космоса. Вызвать интерес к познанию космического простран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2. Дать детям представления о том, что Вселенная – это множество звёзд. Солнце – это самая близкая к Земле звезда. Уточнить представления о планетах, созвездиях, их расположении относительно Солнца, орбитах движения планет, зодиакальных созвездиях. Подвести детей к пониманию, что наша планета Земля имеет форму ша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3. Дать детям знания об освоении человеком космического пространства, о значении космических исследований для жизни людей на Земле. Расширять представления детей о космических полётах, познакомить с российскими учёными (К.Э. Циалковским, С.П. Королёвым). Познакомить с первым лётчиком-космонавтом Ю.А. Гагари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560" y="433080"/>
            <a:ext cx="838188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1d2b"/>
                </a:solidFill>
                <a:latin typeface="Arial"/>
              </a:rPr>
              <a:t>Развивающ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1. Расширить и активизировать слова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2. Развивать воображение, логическое мышление,  внимание, пам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3. Формировать речевое развитие детей,  навыки творческого расск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4. Развивать творческий потенциал  и становление субъективно-оценочного отношения к окружающей действительности по данн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5. Сформировать эмоциональное, ценностное отношение к людям, работа которых связана с освоением косм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1d2b"/>
                </a:solidFill>
                <a:latin typeface="Arial"/>
              </a:rPr>
              <a:t>Воспита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1. Воспитывать социально-активную, творческую личность, способную понимать и ценить окружающий мир, природу, бережно относиться к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2. Воспитывать чувство гордости за свою Родину. Привить любовь к родному краю, стране, план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3. Воспитывать уважение и интерес к людям –первооткрыва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9120" y="496440"/>
            <a:ext cx="807732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11d2b"/>
                </a:solidFill>
                <a:uFillTx/>
                <a:latin typeface="Arial"/>
              </a:rPr>
              <a:t>Задачи для работы с родителя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1. Привлечь родителей к проблеме развития познавательной сферы ребенка, используя анкетирование, создание книг-самоделок, газет и другие форм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2. Стимулировать творческую активность родителей через участие в конкурсах, мероприятиях, досуг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3. Способствовать установлению партнерских отношений родителей и педагогов в вопросах воспитания и образования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4. Установление дружеских связей с другими родителями, что ведёт к объединению по интерес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5. Возможность работать в среде, которая побуждает к получению новых знаний и ум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d2b"/>
                </a:solidFill>
                <a:latin typeface="Arial"/>
              </a:rPr>
              <a:t>5. Привлечение родителей к совместной деятельности, к празднованию Дня космонав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1760" y="274320"/>
            <a:ext cx="828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уемые в проекте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ы детской деятельности: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Игр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Коммуника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Труд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Познавательно-исследователь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Продук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музыкально-художе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1d2b"/>
                </a:solidFill>
                <a:latin typeface="Arial"/>
              </a:rPr>
              <a:t>Чт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1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User</cp:lastModifiedBy>
  <dcterms:modified xsi:type="dcterms:W3CDTF">2017-08-18T05:06:21Z</dcterms:modified>
  <cp:revision>60</cp:revision>
  <dc:subject/>
  <dc:title>Sky Template</dc:title>
</cp:coreProperties>
</file>