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128-BC08-41DB-9A05-D80AC796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E18-76EB-4284-98E7-A438F631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A93-8A1E-46A5-B302-01F96C5E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14A-E4E0-411C-A2A6-CBA6F999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4739-B4A4-49B8-8FC6-32C2E67A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2AC6-1A9C-4706-9225-E32682C1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5B1-D4F1-4930-9818-1A5F7112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65F7-AC00-4DA7-991C-AEBE785C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E579-99EF-4806-ADCB-FFCC8070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AFA0-19ED-4B5A-ACCA-4182B15A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6B0A-032F-4917-89B9-B9E08BF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8A6-E54C-44BA-A80E-02653D5E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A93D-8A64-4FF1-83C4-BB30068A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2464-041B-42BC-BA50-B011992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311B-92A0-40CB-83ED-223D6C2D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2F0D-9F53-43DD-99A8-BF57756E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2DAC-E09E-46D5-8704-4042AFA9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F9C-503B-4A5A-AD10-6B4B4C5A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7DC-F31D-4377-92EA-C5570503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AF0-EDC1-4BB6-BAA1-51463E11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593-94E9-4DC4-9DB6-307DF2F4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CD9-5EEE-4CC2-8841-7E3BB7D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443-ADEA-4517-A69D-0BC5DDE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CE7-4EAD-4D0F-BD9D-A70141E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2E0E-DDCE-4E74-90C3-B48E24FDD2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69E-79FF-401F-AB40-202B96EECA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ереходный возраст: особенности контакта с подростками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99736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7 клас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8571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ньше 16 баллов. У вас проблемы с воспитанием. Вам недостает знаний, либо желания, стремления сделать ребенка личностью. Необходимо обратиться к помощи специалистов. Познакомиться с публикация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Когда встречаются два человека, на встрече присутствуют шестеро – каждый из двоих, каким он (или она) себя видит. Каждый из двоих, каким его (или ее) видят другие, и каждый из двоих, какими они являются на самом деле»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ильям Джейм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765000"/>
            <a:ext cx="865080" cy="719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126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ребено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родите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126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учите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Психолого-педагогические доминанты развития подростк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Потребность во взрослом общ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Превращение общения подростков в самостоятельный вид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Потребность самоутвердиться, занять достойное место в коллектив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отребность самоутвердиться, занять достойное место в коллективе 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(играние ролей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«Умны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«Сильные, смелые, волевы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«Активисты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«Талантливы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«Увлеченны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«Надежный друг, верный товарищ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32720" y="3213000"/>
            <a:ext cx="18716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особы компенсации состояний неудовлетворенности у подростков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ационализ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Фантаз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ублим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2448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отребность в половой идентификации.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(ПРОБЛЕМЫ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ФИЦИТ МУЖСКОГО ВНИМ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ЛОВАЯ ДЕЗОРИЕНТАЦ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ОПРОСЫ ПОЛОВОГО ПРОСВЕЩ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ЕКСУАЛЬНОЕ ПРОСВЕЩЕНИЕ, ИДУЩЕЕ ОТ СМ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ССОЦИАЛЬНО-ПОЛОВАЯ АДАПТАЦ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4763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Рекомендации педагогам и родителя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зитивные отнош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ружелюбие, уважительный то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вердость и добро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нимите контрол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ддерживайте подрост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Имейте мужеств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Взаимное ув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449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Если вы набрали от 30 до 39 баллов, это значит, что ребенок – это самая большая ценность. В вашей жизни. Вы стремитесь узнать и понять его, относитесь с уважением, придерживаетесь прогрессивных принципов. Вы можете надеяться на хорошие результа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умма от 16 до 30. Забота о ребенке для вас – вопрос первостепенной важности. Вы обладаете способностями воспитателя, но на практике не всегда применяете целенаправленно. Порой строги, а в других слишком мягки. Вы склонны к компромиссам. Задумайтесь над подходом воспит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9:39:35Z</dcterms:created>
  <dc:creator>Иван</dc:creator>
  <dc:description/>
  <dc:language>en-US</dc:language>
  <cp:lastModifiedBy>_</cp:lastModifiedBy>
  <dcterms:modified xsi:type="dcterms:W3CDTF">2004-12-31T20:17:49Z</dcterms:modified>
  <cp:revision>5</cp:revision>
  <dc:subject/>
  <dc:title>Переходный возраст: особенности контакта с подростками.</dc:title>
</cp:coreProperties>
</file>