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744-C5EA-4FD1-84D3-6F337DA0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D89-DD60-4A0F-A665-CE95B14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ADF-C0AB-491F-9651-AC3F1D7E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223-AD30-405A-ACCD-0DD077AF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883-1F91-4EEE-8BF8-2852EE7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8EB-9F01-4278-9236-E8E6208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790-9753-4687-96A3-CD42B12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8D6-F02D-4501-B087-8395112A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115-6863-498C-9F79-2D2AAAF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9D5-6BA0-4F48-93AE-5901AB5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A73-27E4-462A-BAB5-7B94C15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7FD-A6A9-4EB2-9BF8-2677E6B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899B-70B0-4C20-A47A-EE17FAE91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27040" y="642960"/>
            <a:ext cx="8280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Инклюзивное образование в условиях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общеобразовательной школы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492360" y="2421000"/>
            <a:ext cx="5183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У «Помарск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лж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спублики Марий Э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Иващенко О.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0000"/>
                </a:solidFill>
                <a:latin typeface="Georgia"/>
              </a:rPr>
              <a:t>Международный опыт в области инклюзив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99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, инклюзия за рубежом Развитие идеологии и законодательства За рубежом, начиная с 1970-х гг., ведется разработка и внедрение пакета нормативных актов, способствующих расширению образовательных возможностей инвалидов. В 1990-х гг. в США и странах Европы вышел ряд публикаций, посвященных проблеме самоорганизации родителей детей-инвалидов, общественной активности взрослых инвалидов и защитников их прав, способствовавшие популяризации идей инклюзивного образования. Исследования экономической эффективности инклюзивного образования, проведенные в 1980 - 1990-х гг. и демонстрируют преимущества интегрированного образования в терминах выгоды, пользы, достижений. Положения об инклюзивном образовании включены в Конвенцию ООН «О правах инвалидов», одобренной Генеральной Ассамблеей ООН 13 декабря 2006 года. На сегодняшний день в большинстве западных стран сложился определенный консенсус относительно важности интеграции детей-инвалидов. Государственные, муниципальные и школы получают бюджетное финансирование на детей с особыми потребностями, и, соответственно, заинтересованы в увеличении числа учащихся, официально зарегистрированных как инвали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47760" y="476280"/>
            <a:ext cx="8497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кая модель интеграции Британские специалисты приступают к системным занятиям со всеми детьми, начиная с девятимесячного возраста, не стремясь установить точный диагноз, а стараясь максимально развить имеющиеся у них потенциальные возможности. В дошкольном и младшем школьном возрасте интеграция очень объемная, но это объясняется специфической направленностью системы обучения. Возрастной этап от 5 до 11 лет соответствует подготовительной школе. Методы и содержание обучения в этот период очень похожи на российское дошкольное образование. В средней и старшей школе подход к интеграции видоизменяется: занимаясь в классе вместе с другими детьми, каждый «интегрированный ребенок» в то же время имеет своего учителя, свою индивидуальную программу, учитывающую его возможности и темп обучения. Перспективы развития «особого ребенка» тщательно планируются, в этот процесс включены все педагоги школы, контактирующие с ребенком, методист, тьютор и родители, которых информируют о возможностях его дальнейшей социализации. (см. Екжанова Е.А., Резникова Е. В. ) Интеграция, инклюзия за рубежом ВАРИАНТЫ ВОПЛОЩЕНИЯ Подходы к интеграции в современной образовательной политике США и Европы : Расширение доступа к образованию (widening participation). Мэйнстриминг (mainstreaming): ученики-инвалиды общаются со сверстниками на праздниках, в различных досуговых программах. Интеграция (integration): приведение потребностей детей с психическими и физическими нарушениями в соответствие с системой образования, остающейся в целом неизменной, не приспособленной для них. Инклюзия, т.е. включение (inclusion): реформирование школ и перепланировка учебных помещений так, чтобы они отвечали нуждам и потребностям всех детей без исключени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Саламанкская декларация об образовании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лиц с особ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основное право на образование и должен иметь возможность получать и поддерживать приемлемый уровень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уникальные особенности, интересы, способности и учебные потре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истемы образования, принимающие во внимание широкое разнообразие этих особенностей и потреб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собыми потребностями в образовании, должны иметь доступ к обучению в массовых шко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е школы с инклюзивной ориентацией – наиболее эффективное средство борьбы с дискриминационными воззрениями, построение инклюзивного общества и обеспечение образование для все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Инклюзивное образование в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24000" y="17002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оссии одновременно применяются 3 подхода в обучении детей с особыми образовательными потребностям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обучение детей с нарушениями речи, слуха, зрения, опорно-двигательного аппарата, интеллекта, с ЗПР в специальных (коррекционных) учреждениях I–VIII вид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обучение детей в специальных классах (группах) в общеобразовательных учреждения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люзивное обучение, когда дети с особыми образовательными потребностями обучаются в классе вместе с обычными деть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статистики к 2016 году инклюзивных школ должно стать в пять раз больше, чем сейчас, то есть около 20% по стране. В настоящее время 4 % школ РФ пытаются работать в режиме инклюзии. В 1992 году в России началась реализация проекта «Интеграция лиц с ограниченными возможностями здоровья», в результате которой в 11-ти регионах были созданы экспериментальные площадки по интегрированному обучению детей-инвалид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39640" y="89064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данным Министерства образования и науки РФ, в 2008 – 2010 годах модель инклюзивного образования внедряется в порядке эксперимента в образовательных учреждениях различных типов в ряде субъектов Федерации: Архангельской, Владимирской, Ленинградской, Московской, Нижегородской, Новгородской, Самарской, Томской и других областях. В г. Москве работает Институт проблем интегративного (инклюзивного) образования, специалисты которого рассматривают кадровые вопросы внедрения инклюзии в образовании России. Т. е. инклюзия в образовании не должна быть «поголовной», а с учётом многих условий для каждого ребёнка с ОВЗ должна быть выстроена индивидуальная образовательная траектор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цесс вовлечения детей с ОВЗ в образовательный процесс в режиме инклюзии нача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тся проекты «Доступная среда», «За инклюзивное образование в Росси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о нормативное обеспечение инклюзивного образ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паривается необходимость наличия в ОУ специалистов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ы требования к подготовке специалистов, работающих в режиме инклюз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ны первые обобщения российского опыт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ы проблемы и перспективы дальнейшего развит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72880"/>
            <a:ext cx="2953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   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Опыт     образовательного учреждения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6920" y="475920"/>
            <a:ext cx="489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и коррекция развития детей с ограниченными возможностями здоровья осуществляется по образовательным программам, разработанным на базе основных общеобразовательных программ с учетом психофизических особенностей и возможностей таких обучаю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обеспечения освоения детьми с ограниченными возможностями  здоровья  образовательных программ  введены в штатное расписание ОУ дополнительные педагогические ставки (учитель-логопед, педагог-психолог, социальные педагог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еспечения эффективного включения детей с ограниченными возможностями здоровья  в ОУ  проводится информационно-просветительская, разъяснительная работа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3672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300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Проблемы организации инклюзивного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 пропаганда в обществе идеи совмест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шены нормативно-правовые и финансовые вопросы организации интегрирован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ы подготовка и психологическое сопровождение педагогических работников,осуществляющих совместное обучение детей с ОВ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работано содержание образования детей,интегрированных в массовый коллектив и не решены вопросы организации совместного обучения детей с разными образовательными потребностями в одном классе или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ют технологии вовлечения родителей в процесс социально- образовательной интеграции,учитывающие особенности воспитания в семьях интегрируемых детей и их сверстников с нормативным темпом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Основные перспективы инклюзии в РФ: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активизировать PR-компанию по подготовке общества к инклюзивному образованию Популяризация «+» опыта инклю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го поко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«отношенческих» барьеров, формирование социума, дружественного к инвалид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Мы исключили эту часть людей из общества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и надо вернуть их назад, в общество, потому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что они могут нас чему-то научить»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Жан Ванье «Из глубины»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76720" y="2708280"/>
            <a:ext cx="309564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571680" y="755640"/>
            <a:ext cx="82072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клюзивное образование – это процесс обучения детей с особыми образовательными потребностями в условиях общеобразовательной (массовой) шко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81040" y="2708280"/>
            <a:ext cx="8207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разование, при котором все дети, несмотря на сво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, интеллектуальные и иные особенности, включе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ую систему образования и обучаются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школах вместе со своими сверстник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8"/>
          <p:cNvSpPr/>
          <p:nvPr/>
        </p:nvSpPr>
        <p:spPr>
          <a:xfrm>
            <a:off x="4211640" y="1944720"/>
            <a:ext cx="446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вное отношение ко всем детя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лноценное качественное образова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успешную социализацию де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755640" y="4508640"/>
            <a:ext cx="7343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468360" y="54936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адачи инклюзивного образования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Picture 18" descr=""/>
          <p:cNvPicPr/>
          <p:nvPr/>
        </p:nvPicPr>
        <p:blipFill>
          <a:blip r:embed="rId4"/>
          <a:stretch/>
        </p:blipFill>
        <p:spPr>
          <a:xfrm>
            <a:off x="785880" y="2428920"/>
            <a:ext cx="3244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611280" y="907920"/>
            <a:ext cx="813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Segoe UI"/>
              </a:rPr>
              <a:t>Инклюзивное образовани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над улучшением образовательных структур, систем и методик для обеспечения потребностей всех де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частью большой стратегии по созданию общества, принимающего всех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динамичным процессом, который постоянно в развит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, что все дети могут учить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Segoe UI Black"/>
              </a:rPr>
              <a:t>Ценности инклюзи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6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–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образование и обучение в течение жизни - необучаемых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уникальные особенности, интересы, способности и учебные потр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на дискриминацию в люб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высказываться и быть услыш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принадлежать к обществу и быть его ча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дружбу и значим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меет право на полноцен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имость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в духе толерантности, понимаемой как «гармония в многообраз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Восемь принципов инклюзивного образования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человека не зависит от его способностей и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способен чувствовать и дум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имеет право на общение и на то, чтобы быть услыша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юди нуждаются друг в друг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юди нуждаются в поддержке и дружбе рове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усиливает все стороны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Международная нормативно-правовая баз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ая Декларация прав человека (ООН, 1948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 (ООН, 1959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борьбе с дискриминацией в области образования (ЮНЕСКО, 1960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конвенция о ликвидации всех форм расовой дискриминации (ООН, 1965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социального прогресса и развития (ООН, 1969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 правах умственно отсталых лиц (ООН, 1971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отери трудоспособности и восстановлние трудоспособности инвалидов (Резолюция 1921 Экономического и Социального Совета ООН – ЭКОСОС. 197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 правах инвалидов (ООН, 1975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программа действий в отношении инвалидов (ООН, 1982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ООН, 1989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Декларация по образованию для всех (1990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правила ООН об обеспечении равных возможностей для инвалидов (1993 г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манкская декларация о принципах, политике и практических действиях в сфере образования лиц с особенными потребностями (1994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форум по образованию (2000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ая декларация об обеспечении выживания, защиты и развития детей (2000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инвалидов (2005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Федеральн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Закон Российской федерации от 29 декабря 2012 года № 273 «Об образовании в Российской Федерации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Закон Российской федерации от 24 ноября 1995 г. N 181-ФЗ (с дополнениями и изменениями) «О социальной защите инвалидов в Российской Федерации» -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Закон Российской Федерации 3 июля 1998 года (с изменениями от 20 июля 2000 г., 22 августа, 21 декабря 2004 г., 26, 30 июня 2007 г.) «Об основных гарантиях прав ребенка в Российской Федерации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Федеральный закон Российской Федерации от 3 мая 2012 г. N 46-ФЗ «О ратификации Конвенции о правах инвали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Указ Президента Российской Федерации от 7 мая 2012 года № 599 «О мерах по реализации государственной политики в области образования и нау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каз Президента Российской Федерации от 1 июня 2012 года № 761"О Национальной стратегии действий в интересах детей на 2012 - 2017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ЗАКОН РЕСПУБЛИКИ МАРИЙ Э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т 01 августа 2013 года N 29-З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Б ОБРАЗОВАНИИ В РЕСПУБЛИКЕ МАРИЙ Э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(в ред. законов Республики Марий Эл от 23.10.2013 N 46-З, от 18.08.2014 N 33-З, от 29.12.2014 N 67-З, от 02.03.2015 N 11-З, от 17.12.2015 N 56-З, от 29.02.2016 N 6-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852280"/>
            <a:ext cx="8569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становления Правительства Республики Марий Эл"Об утверждении Порядка предоставления и расходования субсидий из республиканского бюджета Республики Марий Эл бюджетам городских округов и муниципальных районов в Республике Марий Эл на проведение мероприятий по формированию в Республике Марий Эл сети общеобразовательных организаций, в которых созданы условия для инклюзивного образования детей-инвалидов" (сентябрь 2015 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Ольга</cp:lastModifiedBy>
  <dcterms:modified xsi:type="dcterms:W3CDTF">2017-08-18T19:26:38Z</dcterms:modified>
  <cp:revision>37</cp:revision>
  <dc:subject/>
  <dc:title>Слайд 1</dc:title>
</cp:coreProperties>
</file>