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F2E-1E12-4ADB-A50E-CC52BDE9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6AE-3CFA-4FB2-ABFC-E4BEB754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B87-908A-4441-AFDA-7F9E94A2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FB3-A71A-40A6-827F-AC91E787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C12C-BAA9-47BD-9913-B9411842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C433-C61D-41EA-A44E-6CAB29CE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D6B3-6D84-44D5-9DA4-45DEC9C8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0A11-025A-4334-8840-02C6F188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5920-650E-467D-A4C6-61ECC27E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6725-27EF-4768-8698-CB530A46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9C74-C46F-4ADC-90E4-4C586FF9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4A5-9A52-4AC6-88E6-6DCA9954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DBCB-09A3-491D-9D8F-60EB3A05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CC1A-DF23-4386-A105-619BE341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C0A5-7131-415E-81DF-07599E9F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7501-1CEE-448E-9E47-2A94B1AB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3709-9BAE-45B1-8219-237C6958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623-B5B6-4045-94C7-A2C6FCAB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7AD-D5E1-4DFD-AB5A-D9DAD3DF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8ED-62C7-4B2A-AB8D-7705756E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9E8-642F-4B9A-ACDF-98BEAF76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2C6-A9DB-41C5-B5BC-E67174AB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312-852A-4C98-B097-ADA52E8F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AFD-6762-4FCA-8AB2-1C8B4C3B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12AB-8215-4CA2-B346-ABAFB90BCEF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B12D-FD1D-4365-818C-0523FB60DFC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Venetsianov_Reaper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480320" y="1413000"/>
            <a:ext cx="540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Бесед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об искусств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http://www.artsait.ru/art/v/venecianov/img/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2"/>
          <p:cNvSpPr/>
          <p:nvPr/>
        </p:nvSpPr>
        <p:spPr>
          <a:xfrm>
            <a:off x="6601320" y="22860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умно. 1821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8363_101"/>
          <p:cNvPicPr/>
          <p:nvPr/>
        </p:nvPicPr>
        <p:blipFill>
          <a:blip r:embed="rId1"/>
          <a:stretch/>
        </p:blipFill>
        <p:spPr>
          <a:xfrm>
            <a:off x="539640" y="620640"/>
            <a:ext cx="2362320" cy="3175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695_002"/>
          <p:cNvPicPr/>
          <p:nvPr/>
        </p:nvPicPr>
        <p:blipFill>
          <a:blip r:embed="rId2"/>
          <a:stretch/>
        </p:blipFill>
        <p:spPr>
          <a:xfrm>
            <a:off x="4284720" y="692280"/>
            <a:ext cx="3608280" cy="4176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394560" y="4151160"/>
            <a:ext cx="35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ей Гаврилович Венецианов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оположник бытового жан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усский живо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791240" y="494172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жатве. Лето. 18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2777040" y="40392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вел Федотов (1815-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01"/>
          <p:cNvPicPr/>
          <p:nvPr/>
        </p:nvPicPr>
        <p:blipFill>
          <a:blip r:embed="rId1"/>
          <a:stretch/>
        </p:blipFill>
        <p:spPr>
          <a:xfrm>
            <a:off x="1835280" y="836640"/>
            <a:ext cx="4506840" cy="57610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6879240" y="58071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дов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04"/>
          <p:cNvPicPr/>
          <p:nvPr/>
        </p:nvPicPr>
        <p:blipFill>
          <a:blip r:embed="rId1"/>
          <a:stretch/>
        </p:blipFill>
        <p:spPr>
          <a:xfrm>
            <a:off x="1187280" y="1052640"/>
            <a:ext cx="5989680" cy="4324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393280" y="561024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СВАТОВСТВО МАЙ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5728680" y="5300640"/>
            <a:ext cx="193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силий П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33-18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r_pic"/>
          <p:cNvPicPr/>
          <p:nvPr/>
        </p:nvPicPr>
        <p:blipFill>
          <a:blip r:embed="rId1"/>
          <a:stretch/>
        </p:blipFill>
        <p:spPr>
          <a:xfrm>
            <a:off x="1692360" y="333360"/>
            <a:ext cx="41432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Тройка"/>
          <p:cNvPicPr/>
          <p:nvPr/>
        </p:nvPicPr>
        <p:blipFill>
          <a:blip r:embed="rId1"/>
          <a:stretch/>
        </p:blipFill>
        <p:spPr>
          <a:xfrm>
            <a:off x="468360" y="476280"/>
            <a:ext cx="7024680" cy="47289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925080" y="551808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ТРОЙ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проводы покой ника"/>
          <p:cNvPicPr/>
          <p:nvPr/>
        </p:nvPicPr>
        <p:blipFill>
          <a:blip r:embed="rId1"/>
          <a:stretch/>
        </p:blipFill>
        <p:spPr>
          <a:xfrm>
            <a:off x="971640" y="981000"/>
            <a:ext cx="4968720" cy="3949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3325680" y="53229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РОВОДЫ ПОКОЙН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ОХотники на привале"/>
          <p:cNvPicPr/>
          <p:nvPr/>
        </p:nvPicPr>
        <p:blipFill>
          <a:blip r:embed="rId1"/>
          <a:stretch/>
        </p:blipFill>
        <p:spPr>
          <a:xfrm>
            <a:off x="1116000" y="836640"/>
            <a:ext cx="6842160" cy="4429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038400" y="561024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ХОТНИКИ НА ПРЕВАЛ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MG_28341"/>
          <p:cNvPicPr/>
          <p:nvPr/>
        </p:nvPicPr>
        <p:blipFill>
          <a:blip r:embed="rId1"/>
          <a:stretch/>
        </p:blipFill>
        <p:spPr>
          <a:xfrm>
            <a:off x="5219640" y="2133720"/>
            <a:ext cx="3433680" cy="38988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181600" y="107316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асибо за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094400" y="4579920"/>
            <a:ext cx="320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Ильюшко Светлана Леонид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изобразительного искус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Ш№43 г. Петрозавод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2952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ма урока:</a:t>
            </a:r>
            <a:br>
              <a:rPr sz="32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«Тематическа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( сюжетная)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картина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8000" y="5949720"/>
            <a:ext cx="424656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 класс. ИЗ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южетно –тематическа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ртин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ытова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торическа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тальна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казочно-былинна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ифологическа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ытовой жан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 бытовому  жанру относятся картины, рассказывающиеся о событиях повседневной жизн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одина бытового жанра считается Голландия Х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I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асто произведения на бытовые сюжеты называют жанровыми или относящимися к жанровой живопис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9" descr="г"/>
          <p:cNvPicPr/>
          <p:nvPr/>
        </p:nvPicPr>
        <p:blipFill>
          <a:blip r:embed="rId1"/>
          <a:stretch/>
        </p:blipFill>
        <p:spPr>
          <a:xfrm>
            <a:off x="4844880" y="1268280"/>
            <a:ext cx="3643560" cy="4537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4808520" y="5950080"/>
            <a:ext cx="43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Терборх  Бокал лимонада 166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456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7" descr="федотов"/>
          <p:cNvPicPr/>
          <p:nvPr/>
        </p:nvPicPr>
        <p:blipFill>
          <a:blip r:embed="rId1"/>
          <a:stretch/>
        </p:blipFill>
        <p:spPr>
          <a:xfrm>
            <a:off x="468360" y="1563840"/>
            <a:ext cx="4535280" cy="4063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веницианов"/>
          <p:cNvPicPr/>
          <p:nvPr/>
        </p:nvPicPr>
        <p:blipFill>
          <a:blip r:embed="rId2"/>
          <a:stretch/>
        </p:blipFill>
        <p:spPr>
          <a:xfrm>
            <a:off x="5076720" y="692280"/>
            <a:ext cx="4000680" cy="54338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"/>
          <p:cNvSpPr/>
          <p:nvPr/>
        </p:nvSpPr>
        <p:spPr>
          <a:xfrm>
            <a:off x="5364000" y="630864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Г. Веницианов На жа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539640" y="56088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 А. Федотов  Сватовство май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Веласкес Завтрак"/>
          <p:cNvPicPr/>
          <p:nvPr/>
        </p:nvPicPr>
        <p:blipFill>
          <a:blip r:embed="rId1"/>
          <a:stretch/>
        </p:blipFill>
        <p:spPr>
          <a:xfrm>
            <a:off x="3492360" y="549360"/>
            <a:ext cx="2743200" cy="294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Гейнсборо Томас Разговор в партке"/>
          <p:cNvPicPr/>
          <p:nvPr/>
        </p:nvPicPr>
        <p:blipFill>
          <a:blip r:embed="rId2"/>
          <a:stretch/>
        </p:blipFill>
        <p:spPr>
          <a:xfrm>
            <a:off x="611280" y="476280"/>
            <a:ext cx="2313000" cy="26636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539640" y="350028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мас Гейнсб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Разговор в пар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047120" y="36669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ласкес «Завтра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Ватто серенада"/>
          <p:cNvPicPr/>
          <p:nvPr/>
        </p:nvPicPr>
        <p:blipFill>
          <a:blip r:embed="rId3"/>
          <a:stretch/>
        </p:blipFill>
        <p:spPr>
          <a:xfrm>
            <a:off x="6948360" y="692280"/>
            <a:ext cx="1781280" cy="24494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0"/>
          <p:cNvSpPr/>
          <p:nvPr/>
        </p:nvSpPr>
        <p:spPr>
          <a:xfrm>
            <a:off x="6965640" y="357516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тта «Серена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1" descr="Босх Фокусник"/>
          <p:cNvPicPr/>
          <p:nvPr/>
        </p:nvPicPr>
        <p:blipFill>
          <a:blip r:embed="rId4"/>
          <a:stretch/>
        </p:blipFill>
        <p:spPr>
          <a:xfrm>
            <a:off x="3635280" y="4292640"/>
            <a:ext cx="2095560" cy="17334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2"/>
          <p:cNvSpPr/>
          <p:nvPr/>
        </p:nvSpPr>
        <p:spPr>
          <a:xfrm>
            <a:off x="3709440" y="61657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сх «Фокус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ытовой – жанр изобразительного искусства, определяемый кругом тем и сюжетов из повседневной жизни челове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ытовые события, запечатленные художниками разных эпох, знакомят нас с жизнью людей давно ушедших време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ытовой жанр в Росс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одоначальниками жанровой живописи в России являются А. Г. Веницианов и И. П. Федотов. Значительный вклад внесли художники: В. Г. Перов(1834-1882 г.), И. Е. Репин 91844-1930 гг.), В. Е. Маковский (1846-1920), В.В. Пукирев (1832-189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.Г. Веницианов открыл крестьянские типы в русской живопис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. П. Федотов показал купеческое и мещанское сослов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://upload.wikimedia.org/wikipedia/commons/thumb/8/82/Venetsianov_Reapers.jpg/220px-Venetsianov_Reap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04920"/>
            <a:ext cx="4952880" cy="63482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5715000" y="5105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нецы. Середина 1820-х 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7:28:57Z</dcterms:created>
  <dc:creator>User</dc:creator>
  <dc:description/>
  <dc:language>en-US</dc:language>
  <cp:lastModifiedBy>sova131@outlook.com</cp:lastModifiedBy>
  <dcterms:modified xsi:type="dcterms:W3CDTF">2017-08-18T19:40:58Z</dcterms:modified>
  <cp:revision>10</cp:revision>
  <dc:subject/>
  <dc:title>Слайд 1</dc:title>
</cp:coreProperties>
</file>