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BC25-3B52-42ED-8077-C6F87217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9BCA-F3D6-4E33-9D88-265C8B67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048-6BEA-4A86-A6C8-51415EEC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D80-0A3E-4145-9E38-7AAE9DB3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3616-604D-4C0D-B9F1-8463B36F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3A10-96AF-4641-9FEA-874DF491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47D5-232C-4A16-A631-6CE13111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07E7-6466-45A1-8588-A403A43D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DC61-148B-47D3-970C-9F8C05F8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8B98-EF97-4C65-890A-0A6F5FE3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1CB2-F960-4233-BCAE-CCBC0D65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451-9229-42DF-900E-3B259525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D6E3-CF68-4F34-BEAA-D13A1668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80ED-823D-45B7-B6DA-D98EB447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1494-26FA-43B7-9752-C546686D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964C-9866-4308-A93B-3BD0A6E3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99E4-795F-4CC4-A542-CADEFD87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392-BEA8-4BE6-B574-1AC8B717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AD6-1B0E-4962-9693-80F7EA66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B0B-BE50-4EF2-B9DD-47311F0B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4D3-4BC8-4401-86AD-147C2E72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E491-CAB4-4454-860C-06057A8F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CE5-6E98-4FB0-8C43-52DCE756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9B6-78AE-4212-B849-2FDE84DB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A7E4-C7CA-4DB6-B711-A69649E8DF8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A7F8-4CB6-47D1-918C-E0D2AB60D50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Venetsianov_Reaper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480320" y="1413000"/>
            <a:ext cx="540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Бесед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об искусств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http://www.artsait.ru/art/v/venecianov/img/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2"/>
          <p:cNvSpPr/>
          <p:nvPr/>
        </p:nvSpPr>
        <p:spPr>
          <a:xfrm>
            <a:off x="6601320" y="22860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умно. 1821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8363_101"/>
          <p:cNvPicPr/>
          <p:nvPr/>
        </p:nvPicPr>
        <p:blipFill>
          <a:blip r:embed="rId1"/>
          <a:stretch/>
        </p:blipFill>
        <p:spPr>
          <a:xfrm>
            <a:off x="539640" y="620640"/>
            <a:ext cx="2362320" cy="3175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695_002"/>
          <p:cNvPicPr/>
          <p:nvPr/>
        </p:nvPicPr>
        <p:blipFill>
          <a:blip r:embed="rId2"/>
          <a:stretch/>
        </p:blipFill>
        <p:spPr>
          <a:xfrm>
            <a:off x="4284720" y="692280"/>
            <a:ext cx="3608280" cy="4176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9"/>
          <p:cNvSpPr/>
          <p:nvPr/>
        </p:nvSpPr>
        <p:spPr>
          <a:xfrm>
            <a:off x="394560" y="4151160"/>
            <a:ext cx="35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ексей Гаврилович Венецианов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оположник бытового жан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усский живо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4791240" y="494172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жатве. Лето. 18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2777040" y="40392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вел Федотов (1815-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01"/>
          <p:cNvPicPr/>
          <p:nvPr/>
        </p:nvPicPr>
        <p:blipFill>
          <a:blip r:embed="rId1"/>
          <a:stretch/>
        </p:blipFill>
        <p:spPr>
          <a:xfrm>
            <a:off x="1835280" y="836640"/>
            <a:ext cx="4506840" cy="57610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6879240" y="58071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Вдов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04"/>
          <p:cNvPicPr/>
          <p:nvPr/>
        </p:nvPicPr>
        <p:blipFill>
          <a:blip r:embed="rId1"/>
          <a:stretch/>
        </p:blipFill>
        <p:spPr>
          <a:xfrm>
            <a:off x="1187280" y="1052640"/>
            <a:ext cx="5989680" cy="4324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393280" y="561024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СВАТОВСТВО МАЙО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5"/>
          <p:cNvSpPr/>
          <p:nvPr/>
        </p:nvSpPr>
        <p:spPr>
          <a:xfrm>
            <a:off x="5728680" y="5300640"/>
            <a:ext cx="193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силий П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33-18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r_pic"/>
          <p:cNvPicPr/>
          <p:nvPr/>
        </p:nvPicPr>
        <p:blipFill>
          <a:blip r:embed="rId1"/>
          <a:stretch/>
        </p:blipFill>
        <p:spPr>
          <a:xfrm>
            <a:off x="1692360" y="333360"/>
            <a:ext cx="41432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Тройка"/>
          <p:cNvPicPr/>
          <p:nvPr/>
        </p:nvPicPr>
        <p:blipFill>
          <a:blip r:embed="rId1"/>
          <a:stretch/>
        </p:blipFill>
        <p:spPr>
          <a:xfrm>
            <a:off x="468360" y="476280"/>
            <a:ext cx="7024680" cy="47289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3925080" y="551808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ТРОЙ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проводы покой ника"/>
          <p:cNvPicPr/>
          <p:nvPr/>
        </p:nvPicPr>
        <p:blipFill>
          <a:blip r:embed="rId1"/>
          <a:stretch/>
        </p:blipFill>
        <p:spPr>
          <a:xfrm>
            <a:off x="971640" y="981000"/>
            <a:ext cx="4968720" cy="39499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3325680" y="532296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ПРОВОДЫ ПОКОЙН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ОХотники на привале"/>
          <p:cNvPicPr/>
          <p:nvPr/>
        </p:nvPicPr>
        <p:blipFill>
          <a:blip r:embed="rId1"/>
          <a:stretch/>
        </p:blipFill>
        <p:spPr>
          <a:xfrm>
            <a:off x="1116000" y="836640"/>
            <a:ext cx="6842160" cy="4429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038400" y="5610240"/>
            <a:ext cx="34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ХОТНИКИ НА ПРЕВАЛ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MG_28341"/>
          <p:cNvPicPr/>
          <p:nvPr/>
        </p:nvPicPr>
        <p:blipFill>
          <a:blip r:embed="rId1"/>
          <a:stretch/>
        </p:blipFill>
        <p:spPr>
          <a:xfrm>
            <a:off x="5219640" y="2133720"/>
            <a:ext cx="3433680" cy="38988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181600" y="1073160"/>
            <a:ext cx="32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асибо за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094400" y="4579920"/>
            <a:ext cx="320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Ильюшко Светлана Леонид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изобразительного искус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Ш№43 г. Петрозавод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2952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ема урока:</a:t>
            </a:r>
            <a:br>
              <a:rPr sz="3200"/>
            </a:b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«Тематическа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( сюжетная)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картина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8000" y="5949720"/>
            <a:ext cx="424656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 класс. ИЗ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южетно –тематическа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артин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ытова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торическа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тальна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казочно-былинна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ифологическа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ытовой жан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 бытовому  жанру относятся картины, рассказывающиеся о событиях повседневной жизн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одина бытового жанра считается Голландия Х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I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асто произведения на бытовые сюжеты называют жанровыми или относящимися к жанровой живопис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9" descr="г"/>
          <p:cNvPicPr/>
          <p:nvPr/>
        </p:nvPicPr>
        <p:blipFill>
          <a:blip r:embed="rId1"/>
          <a:stretch/>
        </p:blipFill>
        <p:spPr>
          <a:xfrm>
            <a:off x="4844880" y="1268280"/>
            <a:ext cx="3643560" cy="4537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"/>
          <p:cNvSpPr/>
          <p:nvPr/>
        </p:nvSpPr>
        <p:spPr>
          <a:xfrm>
            <a:off x="4808520" y="5950080"/>
            <a:ext cx="43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Терборх  Бокал лимонада 166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456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7" descr="федотов"/>
          <p:cNvPicPr/>
          <p:nvPr/>
        </p:nvPicPr>
        <p:blipFill>
          <a:blip r:embed="rId1"/>
          <a:stretch/>
        </p:blipFill>
        <p:spPr>
          <a:xfrm>
            <a:off x="468360" y="1563840"/>
            <a:ext cx="4535280" cy="4063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веницианов"/>
          <p:cNvPicPr/>
          <p:nvPr/>
        </p:nvPicPr>
        <p:blipFill>
          <a:blip r:embed="rId2"/>
          <a:stretch/>
        </p:blipFill>
        <p:spPr>
          <a:xfrm>
            <a:off x="5076720" y="692280"/>
            <a:ext cx="4000680" cy="54338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0"/>
          <p:cNvSpPr/>
          <p:nvPr/>
        </p:nvSpPr>
        <p:spPr>
          <a:xfrm>
            <a:off x="5364000" y="630864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Г. Веницианов На жа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539640" y="56088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 А. Федотов  Сватовство май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Веласкес Завтрак"/>
          <p:cNvPicPr/>
          <p:nvPr/>
        </p:nvPicPr>
        <p:blipFill>
          <a:blip r:embed="rId1"/>
          <a:stretch/>
        </p:blipFill>
        <p:spPr>
          <a:xfrm>
            <a:off x="3492360" y="549360"/>
            <a:ext cx="2743200" cy="2943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Гейнсборо Томас Разговор в партке"/>
          <p:cNvPicPr/>
          <p:nvPr/>
        </p:nvPicPr>
        <p:blipFill>
          <a:blip r:embed="rId2"/>
          <a:stretch/>
        </p:blipFill>
        <p:spPr>
          <a:xfrm>
            <a:off x="611280" y="476280"/>
            <a:ext cx="2313000" cy="26636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539640" y="3500280"/>
            <a:ext cx="20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мас Гейнсбо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Разговор в пар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047120" y="366696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ласкес «Завтра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Ватто серенада"/>
          <p:cNvPicPr/>
          <p:nvPr/>
        </p:nvPicPr>
        <p:blipFill>
          <a:blip r:embed="rId3"/>
          <a:stretch/>
        </p:blipFill>
        <p:spPr>
          <a:xfrm>
            <a:off x="6948360" y="692280"/>
            <a:ext cx="1781280" cy="24494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0"/>
          <p:cNvSpPr/>
          <p:nvPr/>
        </p:nvSpPr>
        <p:spPr>
          <a:xfrm>
            <a:off x="6965640" y="357516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тта «Серена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1" descr="Босх Фокусник"/>
          <p:cNvPicPr/>
          <p:nvPr/>
        </p:nvPicPr>
        <p:blipFill>
          <a:blip r:embed="rId4"/>
          <a:stretch/>
        </p:blipFill>
        <p:spPr>
          <a:xfrm>
            <a:off x="3635280" y="4292640"/>
            <a:ext cx="2095560" cy="17334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2"/>
          <p:cNvSpPr/>
          <p:nvPr/>
        </p:nvSpPr>
        <p:spPr>
          <a:xfrm>
            <a:off x="3709440" y="61657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сх «Фокус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ытовой – жанр изобразительного искусства, определяемый кругом тем и сюжетов из повседневной жизни челове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ытовые события, запечатленные художниками разных эпох, знакомят нас с жизнью людей давно ушедших време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ытовой жанр в Росс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одоначальниками жанровой живописи в России являются А. Г. Веницианов и И. П. Федотов. Значительный вклад внесли художники: В. Г. Перов(1834-1882 г.), И. Е. Репин 91844-1930 гг.), В. Е. Маковский (1846-1920), В.В. Пукирев (1832-1890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.Г. Веницианов открыл крестьянские типы в русской живопис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. П. Федотов показал купеческое и мещанское сослов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ttp://upload.wikimedia.org/wikipedia/commons/thumb/8/82/Venetsianov_Reapers.jpg/220px-Venetsianov_Reap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04920"/>
            <a:ext cx="4952880" cy="634824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2"/>
          <p:cNvSpPr/>
          <p:nvPr/>
        </p:nvSpPr>
        <p:spPr>
          <a:xfrm>
            <a:off x="5715000" y="51055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нецы. Середина 1820-х 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7:28:57Z</dcterms:created>
  <dc:creator>User</dc:creator>
  <dc:description/>
  <dc:language>en-US</dc:language>
  <cp:lastModifiedBy>sova131@outlook.com</cp:lastModifiedBy>
  <dcterms:modified xsi:type="dcterms:W3CDTF">2017-08-18T19:40:58Z</dcterms:modified>
  <cp:revision>10</cp:revision>
  <dc:subject/>
  <dc:title>Слайд 1</dc:title>
</cp:coreProperties>
</file>