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091-52B3-4C90-941F-053737F9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7EE-697A-457F-8D48-31D8C0A0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8BC-93AD-4D04-8232-A6EC67DF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398-0B24-4DF3-BD82-02075A99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CB7-3B4B-45C0-B530-7D21ECD7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613-1214-4620-A747-C35D23B2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9C3-1D6A-491E-851A-DA2D2A15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8EA-C228-4273-88C0-52334B99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203-5207-4DD2-8E6F-E26609DE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BA4-87AE-4EA9-B24A-F68A1C2C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8C6-B522-4AA1-952C-664C892C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E47-03FA-4FE0-B43E-7C6BD7BF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C481-750C-42F3-A474-2EE81EF4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5BC8-27B1-45AE-A2F1-E6A24DF5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A3D6-3032-4966-906E-4E98C66F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A11F-5C70-4CE3-B54A-EC13A5D1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945D-43B2-4592-A81E-33678997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E2C4-A873-41DB-BCF9-BC9F635F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952A-D3B0-44E9-8D4D-D06E9BCF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15A4-DCC0-4987-88F3-A1A3AD7D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146F-4ABF-4C03-8BD0-C001FC4C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372F-3B4D-4B96-9D6C-4D56FBCB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7667-24E7-4564-8D7A-B3798925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7E00-6A07-47F3-AF6B-38E13C5D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1\Desktop\наши шаблоны\trava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1c1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8160">
            <a:solidFill>
              <a:srgbClr val="f2f2f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Click to edit the outline text format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econd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Third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Four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Fif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ix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even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Users\1\Desktop\наши шаблоны\trava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1c1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8160">
            <a:solidFill>
              <a:srgbClr val="f2f2f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Click to edit the outline text format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econd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Third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Four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Fif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ix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even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5EB8-942E-4D11-9088-89F3273935E3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1\Desktop\наши шаблоны\trava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1c1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8160">
            <a:solidFill>
              <a:srgbClr val="f2f2f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Click to edit the outline text format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econd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Third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Four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Fif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ix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even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C2ED-8740-4751-B7AE-15F7ABB27038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F:\СУВЕНИРЫ 2\ф.jpg"/>
          <p:cNvPicPr/>
          <p:nvPr/>
        </p:nvPicPr>
        <p:blipFill>
          <a:blip r:embed="rId1"/>
          <a:stretch/>
        </p:blipFill>
        <p:spPr>
          <a:xfrm>
            <a:off x="2554200" y="695160"/>
            <a:ext cx="3554640" cy="4327560"/>
          </a:xfrm>
          <a:prstGeom prst="rect">
            <a:avLst/>
          </a:prstGeom>
          <a:ln w="0">
            <a:noFill/>
          </a:ln>
        </p:spPr>
      </p:pic>
      <p:pic>
        <p:nvPicPr>
          <p:cNvPr id="124" name="TextBox 4" descr=""/>
          <p:cNvPicPr/>
          <p:nvPr/>
        </p:nvPicPr>
        <p:blipFill>
          <a:blip r:embed="rId2"/>
          <a:stretch/>
        </p:blipFill>
        <p:spPr>
          <a:xfrm>
            <a:off x="1073160" y="4998960"/>
            <a:ext cx="6784920" cy="160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C:\Users\1\Downloads\4eb6b494477f9bd2146e344392164937_600x1000.jpg"/>
          <p:cNvPicPr/>
          <p:nvPr/>
        </p:nvPicPr>
        <p:blipFill>
          <a:blip r:embed="rId1"/>
          <a:stretch/>
        </p:blipFill>
        <p:spPr>
          <a:xfrm>
            <a:off x="1857240" y="500040"/>
            <a:ext cx="604368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Заголовок 10" descr=""/>
          <p:cNvPicPr/>
          <p:nvPr/>
        </p:nvPicPr>
        <p:blipFill>
          <a:blip r:embed="rId2"/>
          <a:stretch/>
        </p:blipFill>
        <p:spPr>
          <a:xfrm>
            <a:off x="3359160" y="4784760"/>
            <a:ext cx="2498760" cy="9828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785680" y="4786200"/>
            <a:ext cx="378612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тоит чудо-дерево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На дереве – мячики: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Летом – зеленые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сенью – румяные.</a:t>
            </a:r>
            <a:endParaRPr b="0" i="1" lang="en-US" sz="2400" spc="-1" strike="noStrike">
              <a:solidFill>
                <a:srgbClr val="1e1c11"/>
              </a:solidFill>
              <a:latin typeface="Calibri"/>
            </a:endParaRPr>
          </a:p>
        </p:txBody>
      </p:sp>
      <p:pic>
        <p:nvPicPr>
          <p:cNvPr id="128" name="Picture 2" descr="C:\Users\1\Downloads\842716.jpg"/>
          <p:cNvPicPr/>
          <p:nvPr/>
        </p:nvPicPr>
        <p:blipFill>
          <a:blip r:embed="rId3"/>
          <a:stretch/>
        </p:blipFill>
        <p:spPr>
          <a:xfrm>
            <a:off x="1785960" y="285840"/>
            <a:ext cx="6216480" cy="4143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1\Downloads\krasnye-jabloki-na-vetke-4163.jpg"/>
          <p:cNvPicPr/>
          <p:nvPr/>
        </p:nvPicPr>
        <p:blipFill>
          <a:blip r:embed="rId4"/>
          <a:stretch/>
        </p:blipFill>
        <p:spPr>
          <a:xfrm>
            <a:off x="1500120" y="285840"/>
            <a:ext cx="6699240" cy="4179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1360127979_yablonya-28"/>
          <p:cNvPicPr/>
          <p:nvPr/>
        </p:nvPicPr>
        <p:blipFill>
          <a:blip r:embed="rId5"/>
          <a:stretch/>
        </p:blipFill>
        <p:spPr>
          <a:xfrm>
            <a:off x="1357200" y="214200"/>
            <a:ext cx="6883560" cy="4286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8T06:43:21Z</dcterms:created>
  <dc:creator>1</dc:creator>
  <dc:description/>
  <dc:language>en-US</dc:language>
  <cp:lastModifiedBy>Svetlana</cp:lastModifiedBy>
  <dcterms:modified xsi:type="dcterms:W3CDTF">2017-08-18T15:33:50Z</dcterms:modified>
  <cp:revision>42</cp:revision>
  <dc:subject/>
  <dc:title>Шаблон презентации</dc:title>
</cp:coreProperties>
</file>