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488-4F89-47AE-BBE8-1279BE8C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F59-A577-45CF-A229-3C0192E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13A-F5C7-4A15-B35A-28D5440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912-287D-4AD3-B3FA-255EA206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1F7-0987-480B-8583-CA030DB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64B-374D-413B-9EFE-DD3A91E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F84-3C31-478A-BCEE-C40A012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514-0813-4E1B-8B22-71EF2DA6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0F7-8FB3-4F16-B748-0C05AD8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D98-3461-41B2-94FF-C2AA46F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23D-F470-49DF-BF21-0B77CA9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B35-A774-4E3B-AB43-788B542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3C2-B2A6-44EF-B486-B8076A43A3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 человека в сказках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2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Ауль Аделия, ученица             5 класс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712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Шарафиева О.Е., учитель русского языка и литератур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7128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scrn_big_1"/>
          <p:cNvPicPr/>
          <p:nvPr/>
        </p:nvPicPr>
        <p:blipFill>
          <a:blip r:embed="rId1"/>
          <a:stretch/>
        </p:blipFill>
        <p:spPr>
          <a:xfrm>
            <a:off x="228600" y="3581280"/>
            <a:ext cx="4648320" cy="2721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066680" y="2286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н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БУРАТИ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04.1. Конфискация им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59 Мошен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3157030-7db28a45bcf95190"/>
          <p:cNvPicPr/>
          <p:nvPr/>
        </p:nvPicPr>
        <p:blipFill>
          <a:blip r:embed="rId1"/>
          <a:stretch/>
        </p:blipFill>
        <p:spPr>
          <a:xfrm>
            <a:off x="685800" y="3276720"/>
            <a:ext cx="292104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05112659_380c643339c9"/>
          <p:cNvPicPr/>
          <p:nvPr/>
        </p:nvPicPr>
        <p:blipFill>
          <a:blip r:embed="rId2"/>
          <a:stretch/>
        </p:blipFill>
        <p:spPr>
          <a:xfrm>
            <a:off x="5329080" y="3200400"/>
            <a:ext cx="31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Лягушка-путешественни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ждый человек в своей стране имеет право свободно передвигаться и выбирать место ж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ждый человек имеет право уехать из своей страны, а также вернуться на род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Сергей\Desktop\2.jpg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казка «Волк и семеро козля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600200"/>
            <a:ext cx="8153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тья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косновенность жилищ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у от вмешатель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чную   жизн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татья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косновенность  жизнь и своб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честь и репут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Сергей\Desktop\volk-i-semero-kozlyat1.jpg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азка «ДЮЙМОВ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я 54                                                                    Дюймовочка имела право жить с родителя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й 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али эт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Виктор\Desktop\97b76e1fff00b669362983ee3be616d6.jpg"/>
          <p:cNvPicPr/>
          <p:nvPr/>
        </p:nvPicPr>
        <p:blipFill>
          <a:blip r:embed="rId1"/>
          <a:stretch/>
        </p:blipFill>
        <p:spPr>
          <a:xfrm>
            <a:off x="2133720" y="3200400"/>
            <a:ext cx="615312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Красная шап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                                                                                              Волк обманул Красную шапочку в своих корыстных цел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Виктор\Desktop\78014229.jpg"/>
          <p:cNvPicPr/>
          <p:nvPr/>
        </p:nvPicPr>
        <p:blipFill>
          <a:blip r:embed="rId1"/>
          <a:stretch/>
        </p:blipFill>
        <p:spPr>
          <a:xfrm>
            <a:off x="228600" y="3505320"/>
            <a:ext cx="4572000" cy="301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mg"/>
          <p:cNvPicPr/>
          <p:nvPr/>
        </p:nvPicPr>
        <p:blipFill>
          <a:blip r:embed="rId2"/>
          <a:stretch/>
        </p:blipFill>
        <p:spPr>
          <a:xfrm>
            <a:off x="4952880" y="35053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Лиса и Вол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ья 126                                                                   Лиса обманула Волка и нарушила кодекс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Виктор\Desktop\-b rrta mwduw.jpg"/>
          <p:cNvPicPr/>
          <p:nvPr/>
        </p:nvPicPr>
        <p:blipFill>
          <a:blip r:embed="rId1"/>
          <a:stretch/>
        </p:blipFill>
        <p:spPr>
          <a:xfrm>
            <a:off x="6095880" y="3048120"/>
            <a:ext cx="2692440" cy="366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1010605904"/>
          <p:cNvPicPr/>
          <p:nvPr/>
        </p:nvPicPr>
        <p:blipFill>
          <a:blip r:embed="rId2"/>
          <a:stretch/>
        </p:blipFill>
        <p:spPr>
          <a:xfrm>
            <a:off x="457200" y="3201840"/>
            <a:ext cx="51814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опросы анкетир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Как вы считаете, нарушаются ли права человека в сказк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Можете ли вы привести примеры сказок, в которых нарушаются права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Как  Вы считаете, в вашей семье соблюдаются права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1 «Да»- 15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Нет» - 5 челове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2 Смогли дать ответ – 10 человек, не смогли – 10 челове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3 «Да» - 17 человек, «Нет» - 3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Текст 2"/>
          <p:cNvGraphicFramePr/>
          <p:nvPr/>
        </p:nvGraphicFramePr>
        <p:xfrm>
          <a:off x="380880" y="914400"/>
          <a:ext cx="807264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07264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казках ярко показаны судьбы героев, их отношения, характеры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и знакомят нас с правами и обязан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южеты сказок отражают нарушения прав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читаю, что моя исследовательская работа помогла привлечь внимание учеников  к умению правильно ориентироваться в различных правовых 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дельных сказок  и поступков сказочных героев с точки зрения нарушения статей Конституции Р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отдельные статьи Конституции Р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сти анкетирование однокласс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ть взаимоотношения сказочных геро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ение справочной и художественной литератур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кетирование одноклассников по те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Анализ и синте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мет и объект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ъект исследования: детские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мет исследования: поведение героев в сказ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оложим, что сюжеты сказок демонстрируют нарушения прав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ЗАЮШКИНА ИЗБ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ья 139. Нарушение неприкосновенности жилища - «лиса попросилась у зайца переночевать, да его из избушки и выгнала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skazka-zayushkina-izbushka-2"/>
          <p:cNvPicPr/>
          <p:nvPr/>
        </p:nvPicPr>
        <p:blipFill>
          <a:blip r:embed="rId1"/>
          <a:stretch/>
        </p:blipFill>
        <p:spPr>
          <a:xfrm>
            <a:off x="228600" y="3300480"/>
            <a:ext cx="5562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ЗОЛ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ья 136. Нарушение равенства прав и свобод человека и граждан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d63b145ac4e0721c621a371b6b44d97b"/>
          <p:cNvPicPr/>
          <p:nvPr/>
        </p:nvPicPr>
        <p:blipFill>
          <a:blip r:embed="rId1"/>
          <a:stretch/>
        </p:blipFill>
        <p:spPr>
          <a:xfrm>
            <a:off x="228600" y="2666880"/>
            <a:ext cx="4257720" cy="31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azocharovanoe"/>
          <p:cNvPicPr/>
          <p:nvPr/>
        </p:nvPicPr>
        <p:blipFill>
          <a:blip r:embed="rId2"/>
          <a:stretch/>
        </p:blipFill>
        <p:spPr>
          <a:xfrm>
            <a:off x="3962520" y="2971800"/>
            <a:ext cx="48765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05. Убий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895480" y="2362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лобок прыг ли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ос, а лиса его – гам! – и съе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kolobok-i-lisa"/>
          <p:cNvPicPr/>
          <p:nvPr/>
        </p:nvPicPr>
        <p:blipFill>
          <a:blip r:embed="rId1"/>
          <a:stretch/>
        </p:blipFill>
        <p:spPr>
          <a:xfrm>
            <a:off x="533520" y="3314880"/>
            <a:ext cx="4647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1:18:07Z</dcterms:created>
  <dc:creator>ANNA</dc:creator>
  <dc:description/>
  <dc:language>en-US</dc:language>
  <cp:lastModifiedBy>ANNA</cp:lastModifiedBy>
  <dcterms:modified xsi:type="dcterms:W3CDTF">2017-03-03T15:29:1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