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2091-D4A2-45B3-B3B0-1CA97FF25A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010DE-716E-4FCF-A632-B15F9F83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C10C-C0B5-4591-82B2-41ECE694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EEA0-187B-4DEF-8031-84376A97C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FE1A-FD2D-4160-8402-0AB35A2C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B8D9-4769-4EA2-9383-150800B3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792F5-EF4E-4396-A942-6F2D5B6F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69F1-0285-4289-993A-31F47715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7E46-23B2-44F5-A45F-A99144D8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A89B-F602-4F61-89A4-8D2CA4CC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BCF7-8065-4AC9-96E0-121637D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0F99C-D172-4323-B2A9-9516CE6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40FD10-92EB-4085-9EB9-E7F8E8B74B4F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ack a suit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1281240" cy="194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80000" y="1413000"/>
            <a:ext cx="1528560" cy="196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20000" y="1341360"/>
            <a:ext cx="1218960" cy="20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3716280"/>
            <a:ext cx="2664000" cy="252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Group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 is a holiday-maker. She is going to Greece. Help her pack her suitcase. What will she ne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645000"/>
            <a:ext cx="2663640" cy="25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Group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m is a student. He is going to the university to another town. Help him pack his suitcase. What will he ne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3573360"/>
            <a:ext cx="2665440" cy="25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Group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ice is a businesswoman. She is going to London. Help her pack her suitcase. What will she ne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20:25:41Z</dcterms:created>
  <dc:creator>км</dc:creator>
  <dc:description/>
  <dc:language>en-US</dc:language>
  <cp:lastModifiedBy>км</cp:lastModifiedBy>
  <dcterms:modified xsi:type="dcterms:W3CDTF">2014-11-24T20:38:13Z</dcterms:modified>
  <cp:revision>2</cp:revision>
  <dc:subject/>
  <dc:title>Pack a suitcase</dc:title>
</cp:coreProperties>
</file>