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26F9-F263-4C6D-930A-D7173728A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D920-457C-4671-A972-E538DF9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DE16-13DD-45E7-81E4-70855C1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967A-32A3-4BE4-80EE-F75CAA2C4D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F153-E0E5-4187-9DBB-35AF8A79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E1B8-5A44-49E7-B47E-E51203A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6738-AEEB-402A-8762-FAD5D3C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B94C-341F-402B-B52A-4A0F308F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CCA9-5C97-4CF8-9733-BF8FA09D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B75D-EEEF-4C0B-96C1-3697514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8822-D3C9-4619-A815-E666287D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3C61-AE74-4A63-BA93-63854D3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92552B-AE60-49EC-ADC7-38A36004496F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ack a suit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28124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1528560" cy="196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0000" y="1341360"/>
            <a:ext cx="1218960" cy="20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3716280"/>
            <a:ext cx="2664000" cy="25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Group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 is a holiday-maker. She is going to Greece. Help her pack her suitcase. What will she ne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645000"/>
            <a:ext cx="2663640" cy="25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Group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m is a student. He is going to the university to another town. Help him pack his suitcase. What will he ne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3573360"/>
            <a:ext cx="2665440" cy="25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Group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 is a businesswoman. She is going to London. Help her pack her suitcase. What will she ne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20:25:41Z</dcterms:created>
  <dc:creator>км</dc:creator>
  <dc:description/>
  <dc:language>en-US</dc:language>
  <cp:lastModifiedBy>км</cp:lastModifiedBy>
  <dcterms:modified xsi:type="dcterms:W3CDTF">2014-11-24T20:38:13Z</dcterms:modified>
  <cp:revision>2</cp:revision>
  <dc:subject/>
  <dc:title>Pack a suitcase</dc:title>
</cp:coreProperties>
</file>