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28.jpeg" ContentType="image/jpeg"/>
  <Override PartName="/ppt/media/image18.png" ContentType="image/png"/>
  <Override PartName="/ppt/media/image34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8.jpeg" ContentType="image/jpeg"/>
  <Override PartName="/ppt/media/image39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C88-3075-4BA3-AD8D-3B22FA7D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E85-DB14-4D0B-963B-D37A076C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443-E881-403C-9958-02247E74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D33-A413-4325-B903-338D2DB7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2733-09F2-465D-B264-539EF2BD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A44C-1240-497F-923F-9FE153E8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12F9-F224-4AC9-AC18-EE9996C8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0031-3F6C-4B78-B046-07DD3156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D0D0-3118-4476-857D-A7C1E390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4AD8-9D82-4418-AB64-F27B671A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F13C-E3C5-4294-BCE6-39D4CA6D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CE8-EB80-4831-9FFE-981F3A29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8456-4582-4F05-A1BF-AE3734DE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6811-446A-48C5-BD9C-6FA52DC4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06AE-9D5D-4C22-898E-9FFE0F45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7721-4E37-4E6F-B71E-9B35461E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3741-0AAB-407C-8B99-14B94376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8D2-1ADB-41AB-8769-2854AEEC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CF8-CC58-4E6E-A191-D4E328A5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ADC4-2CAF-4A7C-ACE6-03AC7E0A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998-12E0-4717-B876-B101BFCA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989-0328-4145-B1AF-9B3702E9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0C7-31D3-4928-A34B-36D18551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67D-166A-41B2-85B7-FBF7ADA8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4824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356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856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62C0-B107-44C7-A0A6-006DE37C0B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4824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356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856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90E4-3922-4726-9806-5BB8C6F51E04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29.jpe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11.jpeg"/><Relationship Id="rId21" Type="http://schemas.openxmlformats.org/officeDocument/2006/relationships/image" Target="../media/image12.jpeg"/><Relationship Id="rId22" Type="http://schemas.openxmlformats.org/officeDocument/2006/relationships/image" Target="../media/image13.jpeg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14.jpeg"/><Relationship Id="rId24" Type="http://schemas.openxmlformats.org/officeDocument/2006/relationships/image" Target="../media/image15.jpeg"/><Relationship Id="rId25" Type="http://schemas.openxmlformats.org/officeDocument/2006/relationships/image" Target="../media/image16.jpe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0" y="1190880"/>
            <a:ext cx="914400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–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общеразвивающего вида с приоритетным осуществлением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по художественно-эстетическому развитию детей №14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аркса Саратовской област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Calibri"/>
              </a:rPr>
              <a:t>ПРЕЗЕНТАЦИЯ НОД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Calibri"/>
              </a:rPr>
              <a:t>на тему:«Музыка Инди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 детьми подготовительной к школе группы ДО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узыкальный руководитель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довина Наталья Яковлев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 квалификационная категори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444600" y="3797280"/>
            <a:ext cx="20365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457200"/>
            <a:ext cx="747684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Ремесленники из Индии используют различные металлы для изготовления посуды: серебро, железо, медь и прочее. Из них изготавливают чайные наборы, вазы для цветов, шкатулки для украшений и благовоний, используя растительные мотивы: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- подносы в виде листьев чинары;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- масляные лампы, напоминающие цветок 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лотоса и многое другое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Чайный сервиз, поднос  и ваза из серебра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Picture 2" descr="C:\Users\Comp\Downloads\bronza_kashmir1.jpg"/>
          <p:cNvPicPr/>
          <p:nvPr/>
        </p:nvPicPr>
        <p:blipFill>
          <a:blip r:embed="rId1"/>
          <a:stretch/>
        </p:blipFill>
        <p:spPr>
          <a:xfrm>
            <a:off x="228600" y="3352680"/>
            <a:ext cx="5419800" cy="2533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Users\Comp\Downloads\bronza_kashmir4.jpg"/>
          <p:cNvPicPr/>
          <p:nvPr/>
        </p:nvPicPr>
        <p:blipFill>
          <a:blip r:embed="rId2"/>
          <a:stretch/>
        </p:blipFill>
        <p:spPr>
          <a:xfrm>
            <a:off x="6527880" y="1752480"/>
            <a:ext cx="2616120" cy="2667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Users\Comp\Downloads\bronza_kashmir5.jpg"/>
          <p:cNvPicPr/>
          <p:nvPr/>
        </p:nvPicPr>
        <p:blipFill>
          <a:blip r:embed="rId3"/>
          <a:stretch/>
        </p:blipFill>
        <p:spPr>
          <a:xfrm>
            <a:off x="6248520" y="464832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8600"/>
            <a:ext cx="74768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Посуда из мед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В искусных руках мастеров медные листы превращаются в чудесные предметы. 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Они обладают не только красотой, но и лечебными свойствами (уничтожают бактерии и благотворно влияют на людей с заболеваниями сердца)  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Picture 5" descr="C:\Users\Comp\Downloads\bronza_coper4.jpg"/>
          <p:cNvPicPr/>
          <p:nvPr/>
        </p:nvPicPr>
        <p:blipFill>
          <a:blip r:embed="rId1"/>
          <a:stretch/>
        </p:blipFill>
        <p:spPr>
          <a:xfrm>
            <a:off x="228600" y="3276720"/>
            <a:ext cx="4456080" cy="2968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C:\Users\Comp\Downloads\bronza_coper3.jpg"/>
          <p:cNvPicPr/>
          <p:nvPr/>
        </p:nvPicPr>
        <p:blipFill>
          <a:blip r:embed="rId2"/>
          <a:stretch/>
        </p:blipFill>
        <p:spPr>
          <a:xfrm>
            <a:off x="4952880" y="3505320"/>
            <a:ext cx="35798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Убранство дома: гостина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Picture 2" descr="C:\Users\Comp\Downloads\Indiyskiy-stil-v-inerere-8.jpg"/>
          <p:cNvPicPr/>
          <p:nvPr/>
        </p:nvPicPr>
        <p:blipFill>
          <a:blip r:embed="rId1"/>
          <a:stretch/>
        </p:blipFill>
        <p:spPr>
          <a:xfrm>
            <a:off x="5005440" y="3886200"/>
            <a:ext cx="4138560" cy="27669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Традиционный дом в Индии, чаще всего, рассчитан на большую семью с несколькими поколениями родственник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арадная комната – гостиная – предназначена для мужчин и приёма гост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Главный элемент гостиной – диван на деревянных ножках или с выдвижными ящичками. Традиционно на диване лежат  множество разноцветных подуше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чень часто в гостиной находятся удобные и модные плетёные кресл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центре гостиной – кофейный столик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з мебели часто присутствуют открытые или закрытые стеллажи для книг, посуды, подело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 стене и на полу – часто традиционный ковёр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3" descr="C:\Users\Comp\Downloads\Indiyskiy-stil-v-inerere-12.jpg"/>
          <p:cNvPicPr/>
          <p:nvPr/>
        </p:nvPicPr>
        <p:blipFill>
          <a:blip r:embed="rId9"/>
          <a:stretch/>
        </p:blipFill>
        <p:spPr>
          <a:xfrm>
            <a:off x="5181480" y="1143000"/>
            <a:ext cx="383076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Музыка Инди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63520" y="1143000"/>
            <a:ext cx="73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узыка Индии – часть божественного откровения, поэтому к ней относятся с трепет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Традиционная классическая индийская музыка передавалась от учителя к ученику, а не при помощи нотного письма, как это принято во многих странах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ушой индийской музыки является рага – мелодическая форма, в рамках которой музыкант импровизирует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га – музыка души, мелодия настроения. Она наталкивает человека на размышления о вечности духа, жизни и красоте. Исполняемая мелодия – живое творчество, порыв души, её обращение к людям и Богу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Индии существует 72 основных классических раги и несколько тысяч вариаций. Традиция предписывает каждому времени года и времени суток свою рагу. Поэтому каждую рагу исполняют в определённое время. Также есть раги сезона дождей, весенние раги и раги, связанные с праздником урожа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Музыкальные инструменты. ВИН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52280" y="10663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ина – старинный щипковый струнный инструмент с двумя резонаторами, выполненными из особой разновидности тыквы и соединёнными грифом с прикреплёнными к нему ладам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самой распространённой модели вина есть 4 главных струны и 3 дополнительных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ндийская богиня Сарасвати, считающаяся покровительницей искусств, изображена с виной в руках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Picture 2" descr="C:\Users\Comp\Downloads\x_6396c884.jpg"/>
          <p:cNvPicPr/>
          <p:nvPr/>
        </p:nvPicPr>
        <p:blipFill>
          <a:blip r:embed="rId14"/>
          <a:stretch/>
        </p:blipFill>
        <p:spPr>
          <a:xfrm>
            <a:off x="1905120" y="25909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9240" y="990720"/>
            <a:ext cx="450504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СИТАР</a:t>
            </a: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– индийский струнный щипковый инструмент с богатейшим оркестровым звуком. 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Слово «ситар» переводится «семь струн». 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Звуки извлекаются проволочным плектром, имеющим вид металлического когтя, надеваемого на указательный палец правой руки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9" name="Picture 2" descr="C:\Users\Comp\Downloads\sitar.png"/>
          <p:cNvPicPr/>
          <p:nvPr/>
        </p:nvPicPr>
        <p:blipFill>
          <a:blip r:embed="rId1"/>
          <a:stretch/>
        </p:blipFill>
        <p:spPr>
          <a:xfrm>
            <a:off x="228600" y="3962520"/>
            <a:ext cx="4610160" cy="2428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Comp\Downloads\2.jpg"/>
          <p:cNvPicPr/>
          <p:nvPr/>
        </p:nvPicPr>
        <p:blipFill>
          <a:blip r:embed="rId2"/>
          <a:stretch/>
        </p:blipFill>
        <p:spPr>
          <a:xfrm>
            <a:off x="4862520" y="685800"/>
            <a:ext cx="4199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68580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Духовые инструменты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63520" y="1143000"/>
            <a:ext cx="514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ид поперечной флейты – индийский духовой инструмент БОНСУР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Бонсури изготавливают из отдельного полого стебля бамбука с 6 или 7 отверстиям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Этот инструмент почитается как божественный инструмент, так как тесно связан с историей бога Кришны. В мифологии упоминается, что мелодии, исполняемые Кришной на флейте очаровывали не только людей, но и животных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ШАНКХА – это духовой музыкальный инструмент, который делают из морской раковины больших размеров. Шанкху использовали в храмовых ритуалах, на поле бо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2" descr="L:\Слушание_подготов._гр\Слушание музыки в ДС\3174.jpg"/>
          <p:cNvPicPr/>
          <p:nvPr/>
        </p:nvPicPr>
        <p:blipFill>
          <a:blip r:embed="rId7"/>
          <a:stretch/>
        </p:blipFill>
        <p:spPr>
          <a:xfrm>
            <a:off x="5867280" y="763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C:\Users\Comp\Downloads\kagylokurtdiszes.jpg"/>
          <p:cNvPicPr/>
          <p:nvPr/>
        </p:nvPicPr>
        <p:blipFill>
          <a:blip r:embed="rId8"/>
          <a:stretch/>
        </p:blipFill>
        <p:spPr>
          <a:xfrm>
            <a:off x="5867280" y="4572000"/>
            <a:ext cx="3033720" cy="2155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C:\Users\Comp\Downloads\celebnye-svoystva-bambuka.jpg"/>
          <p:cNvPicPr/>
          <p:nvPr/>
        </p:nvPicPr>
        <p:blipFill>
          <a:blip r:embed="rId9"/>
          <a:stretch/>
        </p:blipFill>
        <p:spPr>
          <a:xfrm>
            <a:off x="6400800" y="3048120"/>
            <a:ext cx="18018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Ударные инструменты 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219320"/>
            <a:ext cx="4267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ажнейшее место среди музыкальных инструментов Древней Индии принадлежало наряду со струнными инструментами ударным инструментам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астера создавали барабаны, гонги, колокола, металлические тарелк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Барабаны обтягивали кожей или пергаментом, которые предварительно обрабатывали специальными отварами из риса и трав. Благодаря такой выделке достигалось мягкое и насыщенное звучани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2" descr="C:\Users\Comp\Downloads\1241251.jpg"/>
          <p:cNvPicPr/>
          <p:nvPr/>
        </p:nvPicPr>
        <p:blipFill>
          <a:blip r:embed="rId5"/>
          <a:stretch/>
        </p:blipFill>
        <p:spPr>
          <a:xfrm>
            <a:off x="4952880" y="1676520"/>
            <a:ext cx="40068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94360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Индийские танцы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63244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Традиционный танец в Индии является средством выражения глубочайших чувств и настроений челове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мимо собственно танца, танец включает в себя пение и искусство мимики. При помощи языка жестов — </a:t>
            </a:r>
            <a:r>
              <a:rPr b="0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удры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исполнитель имеет возможность не только выразить свои эмоции, но и рассказать зрителю историю, передать определённые, в том числе отвлечённые понятия. Несмотря на такую особенность классических индийских стилей, из-за отсутствия точного термина в европейской культуре, британские колониальные власти называли любые формы индийского исполнительного искусства «танцами», что в дальнейшем и закрепилось в европейской практике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пределение «классический»  танец было введено сравнительно недавно Национальной академией исполнительского искусства </a:t>
            </a:r>
            <a:r>
              <a:rPr b="0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Sangeet Natak Akademi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специально для обозначения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тилей исполнительского искусств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настоящее время </a:t>
            </a:r>
            <a:r>
              <a:rPr b="0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Sangeet Natak Akademi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присвоила статус «классический» восьми танцевальным стилям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Бхаратанатьям, Катхак, Катхакали, Кучипуди, 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анипури,Мохиниаттам, Одисси и Сатрия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Picture 2" descr="L:\Слушание_подготов._гр\Слушание музыки в ДС\bharatanatyam_1h.jpg"/>
          <p:cNvPicPr/>
          <p:nvPr/>
        </p:nvPicPr>
        <p:blipFill>
          <a:blip r:embed="rId1"/>
          <a:stretch/>
        </p:blipFill>
        <p:spPr>
          <a:xfrm>
            <a:off x="6705720" y="152280"/>
            <a:ext cx="2154240" cy="3276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C:\Users\Comp\Downloads\odissi04.jpg"/>
          <p:cNvPicPr/>
          <p:nvPr/>
        </p:nvPicPr>
        <p:blipFill>
          <a:blip r:embed="rId2"/>
          <a:stretch/>
        </p:blipFill>
        <p:spPr>
          <a:xfrm>
            <a:off x="6248520" y="3960720"/>
            <a:ext cx="272412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Индийский народный танец «Гарба»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769644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Гарба - радостный стиль танца, основанный на построении танцоров в круг, а также характеризующийся широким спектром движений, которые производятся из стороны в сторону. Выступления гарба часто включают в себя пение и музыкальное сопровождение, традиционно исполняемое на дхоле (двуглавом барабане), дхолаке - барабане меньшего размера, цимбалах, а также обычным хлопанием рук. Исторически сложилось так, что певцы, которые аккомпанировали гарба, подыгрывали себе на шехнае (инструменте из тростника), но в начале 21-го века этот инструмент был в основном заменен на синтезатор.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2" descr="C:\Users\Comp\Downloads\Garba-dance.jpg"/>
          <p:cNvPicPr/>
          <p:nvPr/>
        </p:nvPicPr>
        <p:blipFill>
          <a:blip r:embed="rId1"/>
          <a:stretch/>
        </p:blipFill>
        <p:spPr>
          <a:xfrm>
            <a:off x="4343400" y="4191120"/>
            <a:ext cx="3494160" cy="2446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Comp\Downloads\150388_485634641468896_869432984_n.jpg"/>
          <p:cNvPicPr/>
          <p:nvPr/>
        </p:nvPicPr>
        <p:blipFill>
          <a:blip r:embed="rId2"/>
          <a:stretch/>
        </p:blipFill>
        <p:spPr>
          <a:xfrm>
            <a:off x="152280" y="4191120"/>
            <a:ext cx="403884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ебята, я приглашаю вас совершить путешествие в удивительную страну – Индию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ля этого путешествия нам понадобится необычное средство передвижения – ковёр-самолёт. Посмотрите, здесь изображен ковёр-самолёт из современного мультсериала об Алладине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Хотите отправиться в путешествие на нём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Тогда устраивайтесь поудобнее и отправляемся навстречу солнцу на восто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3" descr="C:\Users\Comp\Downloads\aladdin-and-jas.jpg"/>
          <p:cNvPicPr/>
          <p:nvPr/>
        </p:nvPicPr>
        <p:blipFill>
          <a:blip r:embed="rId5"/>
          <a:stretch/>
        </p:blipFill>
        <p:spPr>
          <a:xfrm>
            <a:off x="1447920" y="2590920"/>
            <a:ext cx="57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Блиц-опрос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8" name="Picture 3" descr="C:\Users\Comp\Downloads\aladdin-and-jas.jpg"/>
          <p:cNvPicPr/>
          <p:nvPr/>
        </p:nvPicPr>
        <p:blipFill>
          <a:blip r:embed="rId1"/>
          <a:stretch/>
        </p:blipFill>
        <p:spPr>
          <a:xfrm>
            <a:off x="5791320" y="4343400"/>
            <a:ext cx="3193920" cy="2286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ебята, вот и закончилось наше путешествие в Индию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авайте подведём итоги. Прошу вас ответить на вопросы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нравилось ли вам это путешествие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Хотите ли вы ещё раз, но уже по-настоящему отправиться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эту страну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.  Что вам запомнилось из путешествия в Индию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4.  Какие  особенности климата Индии вы можете назвать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сскажите по картинке о традиционной индийской одежде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аково убранство гостиной в индийском доме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Чем запомнилась вам музыка раги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зовите индийские музыкальные инструменты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нравился ли вам индийский танец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тличается ли он от русского народного танца и чем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 теперь  давайте все вместе расположимся на ковре –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амолёте и отправимся в родной город в наш любимый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етский сад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0" name="Picture 10" descr="C:\Users\Comp\Downloads\off-white-jacquard-sherwani-for-groom-with-maroon-dhoti-b15368-016.jpg"/>
          <p:cNvPicPr/>
          <p:nvPr/>
        </p:nvPicPr>
        <p:blipFill>
          <a:blip r:embed="rId2"/>
          <a:stretch/>
        </p:blipFill>
        <p:spPr>
          <a:xfrm>
            <a:off x="6248520" y="324000"/>
            <a:ext cx="27097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Как же мы отыщем эту страну? 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Далеко ли она находится от нас?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Для того, чтобы это узнать, я расскажу вам о нашей планете – Земля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63520" y="1447560"/>
            <a:ext cx="7386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давние времена люди не могли долго понять, как устроена Земля, на которой они живут. Вот и придумали, будто Земля похожа на диск, со всех сторон окружённый океаном. А держится она на спинах трёх могучих китов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2" descr="C:\Users\Comp\Downloads\1010592_html_mf0f8ebe.jpg"/>
          <p:cNvPicPr/>
          <p:nvPr/>
        </p:nvPicPr>
        <p:blipFill>
          <a:blip r:embed="rId2"/>
          <a:stretch/>
        </p:blipFill>
        <p:spPr>
          <a:xfrm>
            <a:off x="1076400" y="2514600"/>
            <a:ext cx="6149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На самом деле Земля имеет форму шара. Люди придумали почти 500 лет назад уменьшенную модель Земли – глобус.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И на глобусе мы видим сушу, реки, моря, океаны, можем найти любую страну мира. 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Ребята, посмотрите на вторую картинку – это Индия, окружённая  водами великого Индийского океана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2" descr="C:\Users\Comp\Downloads\HTB1Yt4fHFXXXXXDapXXq6xXFXXXf.jpg"/>
          <p:cNvPicPr/>
          <p:nvPr/>
        </p:nvPicPr>
        <p:blipFill>
          <a:blip r:embed="rId1"/>
          <a:stretch/>
        </p:blipFill>
        <p:spPr>
          <a:xfrm>
            <a:off x="228600" y="22096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Users\Comp\Downloads\934px-Рельеф_Индии.png"/>
          <p:cNvPicPr/>
          <p:nvPr/>
        </p:nvPicPr>
        <p:blipFill>
          <a:blip r:embed="rId2"/>
          <a:stretch/>
        </p:blipFill>
        <p:spPr>
          <a:xfrm>
            <a:off x="4876920" y="2286000"/>
            <a:ext cx="37922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152280"/>
            <a:ext cx="7476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Особенности климата Инди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144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 климат Индии влияют Гималайские горы, Индийский океан и пустыня Тар. Пустыня и горы делают климат страны жарким и влажным. </a:t>
            </a:r>
            <a:br>
              <a:rPr sz="1400"/>
            </a:br>
            <a:r>
              <a:rPr b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лимат Индии настолько отличается от нашего, что привычных нам четырёх времен года там нет. Вместо этого выделяют три сезона: 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 июня по октябрь </a:t>
            </a:r>
            <a:r>
              <a:rPr b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жаркий и влажный, выпадает много дождей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 ноября по февраль </a:t>
            </a:r>
            <a:r>
              <a:rPr b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относительно прохладный и сухой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 марта по май </a:t>
            </a:r>
            <a:r>
              <a:rPr b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очень жаркий и сухой.</a:t>
            </a:r>
            <a:r>
              <a:rPr b="0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ысоко в горах лежат снега и ледники круглый го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 вот в пустыне Тар дождь может не идти 9-10 месяцев. 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Гималаи в Индии                                                                      Пустыня Тар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ляж в Гоа</a:t>
            </a:r>
            <a:br>
              <a:rPr sz="1200"/>
            </a:br>
            <a:r>
              <a:rPr b="1" lang="ru-RU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3" descr="C:\Users\Comp\Downloads\00.jpg"/>
          <p:cNvPicPr/>
          <p:nvPr/>
        </p:nvPicPr>
        <p:blipFill>
          <a:blip r:embed="rId20"/>
          <a:stretch/>
        </p:blipFill>
        <p:spPr>
          <a:xfrm>
            <a:off x="5334120" y="4572000"/>
            <a:ext cx="3422520" cy="2152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Users\Comp\Downloads\main.jpg"/>
          <p:cNvPicPr/>
          <p:nvPr/>
        </p:nvPicPr>
        <p:blipFill>
          <a:blip r:embed="rId21"/>
          <a:stretch/>
        </p:blipFill>
        <p:spPr>
          <a:xfrm>
            <a:off x="190440" y="3962520"/>
            <a:ext cx="3902040" cy="2590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C:\Users\Comp\Downloads\9779160-R3L8T8D-1000-179a5c83072bf0bee62cbf6a8c46f9e9.jpg"/>
          <p:cNvPicPr/>
          <p:nvPr/>
        </p:nvPicPr>
        <p:blipFill>
          <a:blip r:embed="rId22"/>
          <a:stretch/>
        </p:blipFill>
        <p:spPr>
          <a:xfrm>
            <a:off x="5334120" y="2057400"/>
            <a:ext cx="3660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В Индии мы увидим живописные картины — сказочные шелка, национальные наряды, яркие головные уборы, завораживающие танцы, необычайные коллекции украшений, расшитые золотом роскошные ковры ручной работы.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4" descr="C:\Users\Comp\Downloads\62290471.jpg"/>
          <p:cNvPicPr/>
          <p:nvPr/>
        </p:nvPicPr>
        <p:blipFill>
          <a:blip r:embed="rId23"/>
          <a:stretch/>
        </p:blipFill>
        <p:spPr>
          <a:xfrm>
            <a:off x="685800" y="2610000"/>
            <a:ext cx="5359320" cy="4019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C:\Users\Comp\Downloads\latest-south-indian-jewellery-designs.jpg"/>
          <p:cNvPicPr/>
          <p:nvPr/>
        </p:nvPicPr>
        <p:blipFill>
          <a:blip r:embed="rId24"/>
          <a:stretch/>
        </p:blipFill>
        <p:spPr>
          <a:xfrm>
            <a:off x="7086600" y="228600"/>
            <a:ext cx="1981080" cy="2959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Users\Comp\Downloads\off-white-jacquard-sherwani-for-groom-with-maroon-dhoti-b15368-016.jpg"/>
          <p:cNvPicPr/>
          <p:nvPr/>
        </p:nvPicPr>
        <p:blipFill>
          <a:blip r:embed="rId25"/>
          <a:stretch/>
        </p:blipFill>
        <p:spPr>
          <a:xfrm>
            <a:off x="6539040" y="3352680"/>
            <a:ext cx="2446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464832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Одежда для женщи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циональная одежда Индии очень красива и удобна. До сих пор её носят с гордостью на праздниках, официальных церемониях и семейных торжествах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Её отличает многообразие и цветовая насыщенность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дежда для женщин –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ари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это один из самых прекрасных национальных нарядов, которые носят индианк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ари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прямоугольный кусок ткани из нежного хлопка или шёлка, который драпируется вокруг фигуры. Ткань может быть однотонной или с цветочными узорами, которые могут быть расшиты золотыми нитями и блёстка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3" descr="C:\Users\Comp\Downloads\53259l.jpg"/>
          <p:cNvPicPr/>
          <p:nvPr/>
        </p:nvPicPr>
        <p:blipFill>
          <a:blip r:embed="rId1"/>
          <a:stretch/>
        </p:blipFill>
        <p:spPr>
          <a:xfrm>
            <a:off x="5410080" y="838080"/>
            <a:ext cx="3087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Одежда для мужчи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962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циональная одежда для мужчин отличается разнообразие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 картинке мы видим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шервани –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длинный сюртук, застёгивающийся до воротника, длина которого доходит ниже колена. Шервани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осят обычно с узкими штанами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(чуридарами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урта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длинная широкая рубаха. Курту одевают обычно с узкими штанами, выкроенными длиннее ноги, чтобы внизу образовать складки, напоминающие браслеты</a:t>
            </a: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2" descr="C:\Users\Comp\Downloads\266341_4_o.gif"/>
          <p:cNvPicPr/>
          <p:nvPr/>
        </p:nvPicPr>
        <p:blipFill>
          <a:blip r:embed="rId1"/>
          <a:stretch/>
        </p:blipFill>
        <p:spPr>
          <a:xfrm>
            <a:off x="6858000" y="1865160"/>
            <a:ext cx="1949400" cy="4641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Comp\Downloads\indian-wedding-dress-for-men-a-journey-to-incredible-india-traditional-clothing-in-india-28592.jpg"/>
          <p:cNvPicPr/>
          <p:nvPr/>
        </p:nvPicPr>
        <p:blipFill>
          <a:blip r:embed="rId2"/>
          <a:stretch/>
        </p:blipFill>
        <p:spPr>
          <a:xfrm>
            <a:off x="4572000" y="914400"/>
            <a:ext cx="19954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Индийская национальная посуда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из металла, керамики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2" descr="L:\Слушание_подготов._гр\Слушание музыки в ДС\30_03_2011_145347.jpg"/>
          <p:cNvPicPr/>
          <p:nvPr/>
        </p:nvPicPr>
        <p:blipFill>
          <a:blip r:embed="rId1"/>
          <a:stretch/>
        </p:blipFill>
        <p:spPr>
          <a:xfrm>
            <a:off x="4419720" y="2057400"/>
            <a:ext cx="4627440" cy="4038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L:\Слушание_подготов._гр\Слушание музыки в ДС\posuda-indiya-latunnay -rr-17_enl.jpg"/>
          <p:cNvPicPr/>
          <p:nvPr/>
        </p:nvPicPr>
        <p:blipFill>
          <a:blip r:embed="rId2"/>
          <a:stretch/>
        </p:blipFill>
        <p:spPr>
          <a:xfrm>
            <a:off x="228600" y="2133720"/>
            <a:ext cx="39020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09:23:36Z</dcterms:created>
  <dc:creator>comp</dc:creator>
  <dc:description/>
  <dc:language>en-US</dc:language>
  <cp:lastModifiedBy>Comp</cp:lastModifiedBy>
  <dcterms:modified xsi:type="dcterms:W3CDTF">2017-08-19T16:59:54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