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CD0-3BD6-410A-8F38-82BB3F85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9B1-C1D4-4C83-A07B-C58E0D76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305-62CC-4E44-86FA-D19D068C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595-45F3-44A8-B2DC-5A27D8E6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B9A3-60BB-4552-AE7C-25FB13AA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0D38-FBC3-4B50-A68B-45A48FDB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B345-5A48-455D-B225-566C42C3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2807-9A0B-46BD-BF17-033F8806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5381-DCAE-487E-B760-0256A48E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F04E-A745-45B9-83F6-281F6875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E6E2-1A02-4EB8-B015-52EC98E7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E03-680E-4DD3-9C39-DA27B2F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F9F9-3F6A-41DB-9578-37DA73F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D2A6-9594-45AB-96F0-75C26ED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7CB1-4640-40C4-9FC9-BF850B40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1B3F-04E1-482C-85BE-0121285B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447B-4F0E-4DF7-B8C2-06F37560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2FD4E-06EB-4CA1-AEFB-F62E1391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AC3E-4D4D-4CC6-A306-E4D237AA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EEA7-5835-478B-8319-0AB0B4D9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1492-EF01-4A49-B45D-A6A8E061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F000-24E8-4C80-ADB5-9E3853B7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57A-83D1-46E0-8BF6-D29F40A4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32B3-F4F6-4D13-B439-A22DCDB7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301C-2B8F-4F2D-B7A8-713E8865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A27B-4385-4399-9F09-200DD26F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4741-F391-4055-99DA-F436ECFE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3DDD-E041-4451-9764-A0E3CB86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65D6-6DC4-490B-82A5-E2E418DE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7EBE2-9B84-41CC-BB71-B1CBF22D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A0B08-A9F7-40AC-8AFF-17B9B50F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FCA78-0457-4E63-B1CD-4221411D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96F4D-422C-4C36-A29B-E5B24DAA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8C9-D1A5-4BDF-BBEC-65687877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EBEC6-DD85-4F11-B3D8-88B75B44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3B2E7-B5C3-4D23-850E-6229D675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6192C-1B66-4265-B94E-8C91178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CC3CE-6D35-4FD4-87A1-6E6CCC86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E0FDE-BDA0-45E6-BF54-59F9961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0026D-B595-4AC3-BC6D-88792C0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6D60C-8D03-4227-BADF-21B0F610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82CF1-4352-4949-9DF5-193E8FEB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53725-44CC-4E17-AC7A-2980A525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59944-93DE-41D9-84D5-37277F53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CD6-6047-4E6F-979C-63594690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84E4-C12D-463B-A089-2AF760C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3AC24-BA71-409F-98D4-8F1737D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8A06-9ADE-4C1F-A8E2-769AB0E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2805-8EEA-47F3-B165-57167BB9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E97D5-8D5A-47D3-A5FE-2CDBDEFB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7BFDB-072A-4894-B50D-6D0B282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45DC-D3E9-4760-B3D5-C5A7B608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F692-9442-43A5-BB6F-7DC0EE58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F9C32-3EE9-4532-854E-492152F2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F62F-C7B3-4AFC-A235-20B738CB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8C7-1FDC-4562-892B-B1155D30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C7AF5-069C-4913-8B92-5B3E016D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A84F1-963D-43FF-B0C7-4F1D4A60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29870-D8C8-425E-926A-C46F4243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C6DA6-D7FC-4313-A4D8-5AD1D122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44922-5BC4-421C-8BEB-5F6CA93E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3FD50-385E-46D8-B214-A3574E7A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2C185-8358-4EF2-896C-53539312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D995-32D9-41AB-B285-B7EF888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8E33E-147C-400E-989C-0BFDD3EC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916D-0B78-4CEE-9EBA-0554048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5E4-D432-45D5-94EC-743E447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2550-7F18-46C8-9C89-A9B8BF8D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FAD07-25A2-468A-9BFC-5A946D58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B686A-1446-4AF2-8658-C24296A7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1E9B8-9F16-47E4-A905-7DD75089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F139F-C881-4A1A-B112-40E4D399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99F09-56FC-4DC3-A6D8-91BC21CC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67C8-B050-4B8F-B3D8-A9574D32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1A182-6D50-4D37-B342-648856EA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9E186-277C-42D6-B337-6B53F068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EB053-47E5-4B5A-BC41-54192B79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DC9-2FC5-4CFF-AA9E-5E81240C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04F99-D17A-4769-A21F-A8FB9390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212C6-4B13-4016-A6C2-BBB8A33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9F539-ADA5-45CE-8CE8-94E8DBF0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88749-1F54-4F01-BE19-437FBF2A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0D1F8-827B-470D-B71B-AE5AE49B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7E7C0-FB1A-432E-A9C2-EB0E520F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158DEE-7DAF-4950-8710-24C1BF7D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9710F-8218-43C8-9CDD-EF1E581C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874BC4-4320-416C-B85C-0E25C26A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C978D6-91A3-4C3A-A71C-B131A27B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922-3D20-4B8A-9391-B4B9AA23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CB5E30-CB15-4393-B1D2-DB677414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9E6B5-85AB-41BD-B465-9A44FD2A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EC4F50-7462-4133-B731-551FBEEA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488B0E-2511-4527-A340-CA8C5129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7640C-134C-4E74-B52F-62A5730C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0C5FA-B1BB-4E2A-A0EB-F0A10B39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010392-1FD4-42BC-9B29-82B6CD70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1E12-89CB-4097-A3CB-263797D6E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8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0124-A7FE-4D77-A44C-FFCCFC708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AEC5-C4C8-4416-B297-599FC561573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4675-BC17-450D-9FAA-BD900D08C3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A14E-DC2B-4882-8107-D7BEDE9E0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6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0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0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2D6C-09B9-4F30-88A8-C80424337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4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06C-1CC8-44AB-8962-34D4DA5B44E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9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9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9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9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9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9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9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9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9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9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0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0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4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3C28-BDFF-40D1-BDD4-B9A281B405AC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картинки к уроку 002"/>
          <p:cNvPicPr/>
          <p:nvPr/>
        </p:nvPicPr>
        <p:blipFill>
          <a:blip r:embed="rId1"/>
          <a:stretch/>
        </p:blipFill>
        <p:spPr>
          <a:xfrm>
            <a:off x="1071720" y="285840"/>
            <a:ext cx="707220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99640" y="836280"/>
            <a:ext cx="79455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ое число пропущен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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  =  + 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 – 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 – 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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  &gt;  + 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 – 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&lt;  – 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вьте в «окошки» числа 5, 6, 8, 9 таким образом, чтобы равенства и неравенства были верны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470" name="Picture 4" descr="картинки к уроку 012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те значения выражен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4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0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Times New Roman"/>
              </a:rPr>
              <a:t>Найдите среди записей уравнения: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0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&gt; 4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0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5 – 5 = 4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8 – 8 &lt; 5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0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9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8 =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картинки к уроку 015"/>
          <p:cNvPicPr/>
          <p:nvPr/>
        </p:nvPicPr>
        <p:blipFill>
          <a:blip r:embed="rId1"/>
          <a:stretch/>
        </p:blipFill>
        <p:spPr>
          <a:xfrm>
            <a:off x="785880" y="333360"/>
            <a:ext cx="778680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                          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1 ря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3 ря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"/>
          <p:cNvSpPr/>
          <p:nvPr/>
        </p:nvSpPr>
        <p:spPr>
          <a:xfrm>
            <a:off x="0" y="3284640"/>
            <a:ext cx="2484360" cy="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Line 5"/>
          <p:cNvSpPr/>
          <p:nvPr/>
        </p:nvSpPr>
        <p:spPr>
          <a:xfrm flipV="1">
            <a:off x="0" y="4653000"/>
            <a:ext cx="2484360" cy="7128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Line 6"/>
          <p:cNvSpPr/>
          <p:nvPr/>
        </p:nvSpPr>
        <p:spPr>
          <a:xfrm flipV="1">
            <a:off x="2484360" y="1483920"/>
            <a:ext cx="3095640" cy="180036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Line 7"/>
          <p:cNvSpPr/>
          <p:nvPr/>
        </p:nvSpPr>
        <p:spPr>
          <a:xfrm flipV="1">
            <a:off x="3132000" y="1700280"/>
            <a:ext cx="2952720" cy="201600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Line 8"/>
          <p:cNvSpPr/>
          <p:nvPr/>
        </p:nvSpPr>
        <p:spPr>
          <a:xfrm flipV="1">
            <a:off x="3132000" y="3645000"/>
            <a:ext cx="4176720" cy="7128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Line 9"/>
          <p:cNvSpPr/>
          <p:nvPr/>
        </p:nvSpPr>
        <p:spPr>
          <a:xfrm flipV="1">
            <a:off x="3203640" y="4292640"/>
            <a:ext cx="4392720" cy="7128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Line 10"/>
          <p:cNvSpPr/>
          <p:nvPr/>
        </p:nvSpPr>
        <p:spPr>
          <a:xfrm>
            <a:off x="3348000" y="4365720"/>
            <a:ext cx="4896000" cy="122400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Line 11"/>
          <p:cNvSpPr/>
          <p:nvPr/>
        </p:nvSpPr>
        <p:spPr>
          <a:xfrm>
            <a:off x="2484360" y="4653000"/>
            <a:ext cx="4392720" cy="165564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324000" y="4005360"/>
            <a:ext cx="1152360" cy="0"/>
          </a:xfrm>
          <a:prstGeom prst="line">
            <a:avLst/>
          </a:prstGeom>
          <a:ln w="28440">
            <a:solidFill>
              <a:srgbClr val="141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95640" y="321300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2 ряд</a:t>
            </a:r>
            <a:r>
              <a:rPr b="0" lang="ru-RU" sz="72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endParaRPr b="1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4" descr="картинки к уроку 006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х-8=2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х=8+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х=10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10-8=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2=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картинки к уроку 013"/>
          <p:cNvPicPr/>
          <p:nvPr/>
        </p:nvPicPr>
        <p:blipFill>
          <a:blip r:embed="rId1"/>
          <a:stretch/>
        </p:blipFill>
        <p:spPr>
          <a:xfrm>
            <a:off x="522360" y="500040"/>
            <a:ext cx="36273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276720" y="476280"/>
            <a:ext cx="5914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4" descr="картинки к уроку 020"/>
          <p:cNvPicPr/>
          <p:nvPr/>
        </p:nvPicPr>
        <p:blipFill>
          <a:blip r:embed="rId1"/>
          <a:stretch/>
        </p:blipFill>
        <p:spPr>
          <a:xfrm>
            <a:off x="108000" y="333360"/>
            <a:ext cx="3168720" cy="63356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3708360" y="549360"/>
            <a:ext cx="5111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3419640" y="407664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картинки к уроку 009"/>
          <p:cNvPicPr/>
          <p:nvPr/>
        </p:nvPicPr>
        <p:blipFill>
          <a:blip r:embed="rId1"/>
          <a:stretch/>
        </p:blipFill>
        <p:spPr>
          <a:xfrm>
            <a:off x="1071720" y="0"/>
            <a:ext cx="69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  2 </a:t>
            </a: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lang="ru-RU" sz="9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Щ</a:t>
            </a:r>
            <a:r>
              <a:rPr b="0" lang="ru-RU" sz="9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Й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картинки к уроку 014"/>
          <p:cNvPicPr/>
          <p:nvPr/>
        </p:nvPicPr>
        <p:blipFill>
          <a:blip r:embed="rId1"/>
          <a:stretch/>
        </p:blipFill>
        <p:spPr>
          <a:xfrm>
            <a:off x="1643040" y="214200"/>
            <a:ext cx="58579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640" y="-5614200"/>
            <a:ext cx="946080" cy="132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79280" y="0"/>
            <a:ext cx="107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e81f0a"/>
              </a:solidFill>
              <a:latin typeface="Arial Black"/>
            </a:endParaRPr>
          </a:p>
        </p:txBody>
      </p:sp>
      <p:pic>
        <p:nvPicPr>
          <p:cNvPr id="455" name="Picture 8" descr="картинки к уроку 010"/>
          <p:cNvPicPr/>
          <p:nvPr/>
        </p:nvPicPr>
        <p:blipFill>
          <a:blip r:embed="rId1"/>
          <a:srcRect l="5990" t="1741" r="10712" b="0"/>
          <a:stretch/>
        </p:blipFill>
        <p:spPr>
          <a:xfrm>
            <a:off x="90000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99640" y="907560"/>
            <a:ext cx="7945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закономерность и продолжите ряды чисел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, 15, 20, 24, 29, 33, ... , ... , ... , ... ,  ... , 6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Times New Roman"/>
              </a:rPr>
              <a:t>Проверим: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11, 15, 20, 24, 29, 33, 38, 42, 47, 51, 56, 60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2, 11, 13, 12, 14, 13, 15,  ...  , ...  , ... , 17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12, 11, 13, 12, 14, 13, 15, 14, 16, 15, 17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907560"/>
            <a:ext cx="800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8 – 8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3 + 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90 – 40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6 + 4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9 – 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5 + 1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70 – 30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+ 3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картинки к уроку 003"/>
          <p:cNvPicPr/>
          <p:nvPr/>
        </p:nvPicPr>
        <p:blipFill>
          <a:blip r:embed="rId1"/>
          <a:stretch/>
        </p:blipFill>
        <p:spPr>
          <a:xfrm>
            <a:off x="214200" y="571680"/>
            <a:ext cx="8479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4:47:12Z</dcterms:created>
  <dc:creator>АНДРЕЙ</dc:creator>
  <dc:description/>
  <dc:language>en-US</dc:language>
  <cp:lastModifiedBy>User</cp:lastModifiedBy>
  <dcterms:modified xsi:type="dcterms:W3CDTF">2011-12-20T12:17:01Z</dcterms:modified>
  <cp:revision>24</cp:revision>
  <dc:subject/>
  <dc:title>Слайд 1</dc:title>
</cp:coreProperties>
</file>