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A97-9FF8-4AB5-A5D6-271F551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78D-F991-4D83-A521-652CFF9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F57-71DC-40E6-B538-9881794F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6B0-88BF-4B1A-AD2E-F18C5F0D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A4FE-C2B5-49C0-99E3-36B0D3E8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D41F-87F9-4CDE-9D20-80AD3D1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0BB-5E67-497F-BE0F-CC2350A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338-6078-42E2-821A-EBF838B9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85B-120A-4B55-B8E5-E5B74AE7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45C-E0E9-4111-9BCD-F587FCE2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F2F1-072E-4801-ACF7-0A2EDFD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CBB-868F-4DE8-A004-7ED8C18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6707-D1EC-4252-A9D0-DADC139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2136-C659-4BBA-8F16-102DC27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EA8-A6C4-46F8-BC5B-0BC217C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8720-4B12-4D3F-B90D-52822941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6C1E-DB72-4EF4-8B18-BFBAAE36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EAB9-7838-445D-BB61-262D8195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0E57-D444-4505-A231-2B06984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7309-8E94-4EFF-90AE-9CE3DBB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50EF-DA02-487D-B637-A1EAFE05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6E16-F9D6-49E1-9BC3-D41418D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ADA-500D-45D6-8AF9-5D2F0E4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D447-BC72-4EE8-B8B1-F1F8A2D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C890-BC02-496E-A8A7-5D1CF29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F631-79B5-4317-97EB-EDF7219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8D66-6227-4F14-B7A2-E1B76AA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DBD2-ED90-4D39-9E6A-4660EA2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FB0C-6FA4-4AB0-8E94-72511443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F979-CD6F-45D3-B1FB-C097007C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B1077-753C-4D37-B80E-71245665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84E7F-F3A2-46A9-81F4-390BD06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E945F-44B7-444A-8F67-00337537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087-2572-4FF6-90EE-F34AFDB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89CA9-4035-4C4D-A62A-87EC9E9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64E67-0523-473C-84A5-CD5BF99B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7888F-00B4-42B9-B73D-CDED2454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94132-BAC4-4017-AAA7-4A44985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6FBE4-7066-400F-A161-EF2C299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9D0E9-8064-4B3F-821E-7A32FC7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69F5F-C3EE-4A44-9BEB-5725320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CF027-A4DD-4FF2-80FE-9435E95A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718C4-35A9-4EEA-AF49-FBA738D6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84E8-1588-41BE-9EDF-1AAC7B37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7A7-8625-45A5-943A-0589257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B798-C67D-4621-B21D-BDA9F68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56F6-3F49-42A2-A452-EF7AE03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4BB3-0977-4DC3-817B-EA0540C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9113-ED25-43CA-B079-3FA79A5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5782-6D23-4E20-8195-ACE9273A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7A0A-C74A-4196-9458-16920E1A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6CD3-08E8-4D06-9549-2A0B827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E57B-0FCD-4F25-98B1-2A1DC968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27C7-E3A7-4024-A511-01C46B5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DD42-BE6F-4C5C-95DB-387F288C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9B5-4E6E-4423-8061-EF42C138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1108-A346-474E-81C8-3C2EFBB8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7AB5-B348-4B6F-880B-B8FB8910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2CD29-6BEF-4FC5-B28F-4538F8B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D190-DF35-4CEA-9D2B-7BAF4B20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3DD64-81EC-48D4-8FB1-8BEA23E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2870-BFA6-4EC9-BBF4-9515133C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A9B8-6E24-48AD-9BEF-940BA03E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FD9C-D30D-434C-BFF6-1AF9D1C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065E-4B21-4F16-BA9E-41B58B3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7844-3C03-406F-9274-B3A85EF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5C8-5341-4D64-9468-4039D737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B249-3193-4354-A1C7-24586A6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6B4E-0D35-4350-BCD3-F1FBF4FD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5836-1573-4E66-B3B6-4EFECE02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10D3C-1461-4C4D-9DF5-2F793CB0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5F535-61D7-45FA-8B29-2D4E678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EE78-4A36-4434-9A43-FA9FF55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AEDB-30FA-4B01-84F7-3F619A6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AB258-74A1-4859-851F-7F7EBFE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F411-2791-4AF6-9C3A-3CC4674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3C04-142F-488F-8896-743DCA8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FDE-8123-4EDC-82A4-F12F67E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0907-A207-49BB-8DD5-FB02372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5D68-AF96-4F9D-AD0A-7F9A859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E71E-8642-4714-9584-A276513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8ECA-A91E-43A8-B293-220A979C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C009-84C2-47BF-BA4C-03A2B98E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5AD93-9B70-4281-9E9C-457281C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C2F75-B5D0-432A-AE98-5EB0F4B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528A0-8037-4265-B01E-78205F2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E6E4B-E431-4C03-8C6D-CBC650E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D82C5-7BEF-4FA4-BAFE-73A43072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0AA-9F92-47CA-B9D3-BC6A374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B03A4-A37E-4E46-BE4E-CE3F5CD8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955B0-295F-40E5-9828-C9D3212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A0167-8F5E-4635-B0A7-A86BE95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6675FC-3D59-41F0-BFCB-57B0DB2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CFCD1-37B5-4863-8CAB-9DCB7E9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0EA06-362F-4017-8D87-D221E57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9E863-3181-4C78-B2A7-FEFDD6F0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A3E6-3362-4C13-BD34-A402603B0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8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7F1-24AF-41A3-BBB3-73947D07C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D3E2-67F8-41A2-9A5D-D6FA8E76C4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17ED-07D4-4CC4-A754-ECD63E0420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1F5-D04E-4476-9576-5D4BA3713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0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0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2F3-EBDF-4988-8D22-B9C03E773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4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329E-EA0A-482B-AD65-57E9894D783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4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E68-F7A6-4A80-ABF2-3CD0D50FE041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картинки к уроку 002"/>
          <p:cNvPicPr/>
          <p:nvPr/>
        </p:nvPicPr>
        <p:blipFill>
          <a:blip r:embed="rId1"/>
          <a:stretch/>
        </p:blipFill>
        <p:spPr>
          <a:xfrm>
            <a:off x="1071720" y="285840"/>
            <a:ext cx="707220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99640" y="836280"/>
            <a:ext cx="7945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е число пропущен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 =  +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– 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 –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 &gt;  +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 – 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&lt;  – 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ьте в «окошки» числа 5, 6, 8, 9 таким образом, чтобы равенства и неравенства были верны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470" name="Picture 4" descr="картинки к уроку 012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значения выражен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Times New Roman"/>
              </a:rPr>
              <a:t>Найдите среди записей уравнения: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&gt; 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5 – 5 = 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 – 8 &lt; 5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0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8 =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картинки к уроку 015"/>
          <p:cNvPicPr/>
          <p:nvPr/>
        </p:nvPicPr>
        <p:blipFill>
          <a:blip r:embed="rId1"/>
          <a:stretch/>
        </p:blipFill>
        <p:spPr>
          <a:xfrm>
            <a:off x="785880" y="333360"/>
            <a:ext cx="77868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                       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1 ря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3 ря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"/>
          <p:cNvSpPr/>
          <p:nvPr/>
        </p:nvSpPr>
        <p:spPr>
          <a:xfrm>
            <a:off x="0" y="3284640"/>
            <a:ext cx="2484360" cy="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Line 5"/>
          <p:cNvSpPr/>
          <p:nvPr/>
        </p:nvSpPr>
        <p:spPr>
          <a:xfrm flipV="1">
            <a:off x="0" y="4653000"/>
            <a:ext cx="248436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Line 6"/>
          <p:cNvSpPr/>
          <p:nvPr/>
        </p:nvSpPr>
        <p:spPr>
          <a:xfrm flipV="1">
            <a:off x="2484360" y="1483920"/>
            <a:ext cx="3095640" cy="180036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Line 7"/>
          <p:cNvSpPr/>
          <p:nvPr/>
        </p:nvSpPr>
        <p:spPr>
          <a:xfrm flipV="1">
            <a:off x="3132000" y="1700280"/>
            <a:ext cx="2952720" cy="201600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Line 8"/>
          <p:cNvSpPr/>
          <p:nvPr/>
        </p:nvSpPr>
        <p:spPr>
          <a:xfrm flipV="1">
            <a:off x="3132000" y="3645000"/>
            <a:ext cx="417672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Line 9"/>
          <p:cNvSpPr/>
          <p:nvPr/>
        </p:nvSpPr>
        <p:spPr>
          <a:xfrm flipV="1">
            <a:off x="3203640" y="4292640"/>
            <a:ext cx="4392720" cy="7128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3348000" y="4365720"/>
            <a:ext cx="4896000" cy="122400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2484360" y="4653000"/>
            <a:ext cx="4392720" cy="1655640"/>
          </a:xfrm>
          <a:prstGeom prst="line">
            <a:avLst/>
          </a:prstGeom>
          <a:ln w="76320">
            <a:solidFill>
              <a:srgbClr val="141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324000" y="4005360"/>
            <a:ext cx="1152360" cy="0"/>
          </a:xfrm>
          <a:prstGeom prst="line">
            <a:avLst/>
          </a:prstGeom>
          <a:ln w="28440">
            <a:solidFill>
              <a:srgbClr val="141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95640" y="3213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 ряд</a:t>
            </a: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endParaRPr b="1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4" descr="картинки к уроку 006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х-8=2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х=8+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х=10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10-8=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2=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картинки к уроку 013"/>
          <p:cNvPicPr/>
          <p:nvPr/>
        </p:nvPicPr>
        <p:blipFill>
          <a:blip r:embed="rId1"/>
          <a:stretch/>
        </p:blipFill>
        <p:spPr>
          <a:xfrm>
            <a:off x="522360" y="500040"/>
            <a:ext cx="3627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276720" y="476280"/>
            <a:ext cx="5914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4" descr="картинки к уроку 020"/>
          <p:cNvPicPr/>
          <p:nvPr/>
        </p:nvPicPr>
        <p:blipFill>
          <a:blip r:embed="rId1"/>
          <a:stretch/>
        </p:blipFill>
        <p:spPr>
          <a:xfrm>
            <a:off x="108000" y="333360"/>
            <a:ext cx="3168720" cy="6335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3708360" y="549360"/>
            <a:ext cx="5111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3419640" y="407664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картинки к уроку 009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 2 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lang="ru-RU" sz="9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Щ</a:t>
            </a:r>
            <a:r>
              <a:rPr b="0" lang="ru-RU" sz="9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Й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картинки к уроку 014"/>
          <p:cNvPicPr/>
          <p:nvPr/>
        </p:nvPicPr>
        <p:blipFill>
          <a:blip r:embed="rId1"/>
          <a:stretch/>
        </p:blipFill>
        <p:spPr>
          <a:xfrm>
            <a:off x="1643040" y="214200"/>
            <a:ext cx="58579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-5614200"/>
            <a:ext cx="946080" cy="132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79280" y="0"/>
            <a:ext cx="107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e81f0a"/>
              </a:solidFill>
              <a:latin typeface="Arial Black"/>
            </a:endParaRPr>
          </a:p>
        </p:txBody>
      </p:sp>
      <p:pic>
        <p:nvPicPr>
          <p:cNvPr id="455" name="Picture 8" descr="картинки к уроку 010"/>
          <p:cNvPicPr/>
          <p:nvPr/>
        </p:nvPicPr>
        <p:blipFill>
          <a:blip r:embed="rId1"/>
          <a:srcRect l="5990" t="1741" r="10712" b="0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9640" y="907560"/>
            <a:ext cx="7945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закономерность и продолжите ряды чисел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, 15, 20, 24, 29, 33, ... , ... , ... , ... ,  ... , 6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Times New Roman"/>
              </a:rPr>
              <a:t>Проверим: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11, 15, 20, 24, 29, 33, 38, 42, 47, 51, 56, 60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2, 11, 13, 12, 14, 13, 15,  ...  , ...  , ... , 17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12, 11, 13, 12, 14, 13, 15, 14, 16, 15, 17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8 – 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3 + 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90 – 4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6 + 4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9 – 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5 + 1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0 – 3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+ 3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картинки к уроку 003"/>
          <p:cNvPicPr/>
          <p:nvPr/>
        </p:nvPicPr>
        <p:blipFill>
          <a:blip r:embed="rId1"/>
          <a:stretch/>
        </p:blipFill>
        <p:spPr>
          <a:xfrm>
            <a:off x="214200" y="571680"/>
            <a:ext cx="847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4:47:12Z</dcterms:created>
  <dc:creator>АНДРЕЙ</dc:creator>
  <dc:description/>
  <dc:language>en-US</dc:language>
  <cp:lastModifiedBy>User</cp:lastModifiedBy>
  <dcterms:modified xsi:type="dcterms:W3CDTF">2011-12-20T12:17:01Z</dcterms:modified>
  <cp:revision>24</cp:revision>
  <dc:subject/>
  <dc:title>Слайд 1</dc:title>
</cp:coreProperties>
</file>