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15.jpeg" ContentType="image/jpeg"/>
  <Override PartName="/ppt/media/image14.gif" ContentType="image/gif"/>
  <Override PartName="/ppt/media/image2.png" ContentType="image/png"/>
  <Override PartName="/ppt/media/image3.jpeg" ContentType="image/jpeg"/>
  <Override PartName="/ppt/media/image12.wmf" ContentType="image/x-wmf"/>
  <Override PartName="/ppt/media/image5.jpeg" ContentType="image/jpeg"/>
  <Override PartName="/ppt/media/image6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494-7C88-4EE7-B616-04F711DF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279-0E1C-411F-B0DA-1FAC5583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49446-A6EE-48BE-A2E9-F35CE2A8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E205A-8081-4C0D-88B5-0B09ED76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C641E-ED66-4A7D-B91F-F773891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49013-0818-4898-90B2-5F1A195C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6BBA6-2555-47BF-BD3E-1571DE7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562B1-360F-49C0-8C72-D482071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032B1-0541-4E6C-9776-3A2A4F81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7686B-A200-42F9-8B3D-B576CFBC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16446-379A-4D26-AC6B-BC5AB6B1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A0314-5CB8-4DE4-8EE5-562CD2EA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041-4076-4A5F-A78B-1F1D509A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795F6-AA97-4213-8827-968C5D7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1CB9D-C6C9-429D-8F13-9072D84E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8B6F6-FDBE-45C6-BB14-1CCE993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535F6-F25D-4136-8CE1-11CE1D22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66ABF-8C56-4741-8282-63E800D2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D5B53-9B8C-4C9C-BAB1-066612A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3C51B-BFFD-4D45-B9B3-0CC2E63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62739-5A01-42A6-93D6-62D2499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EA436-EA3E-4EDB-A7A3-0FD1025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426CA-41E6-4258-9F83-ADBDA54D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10D-C19D-43A0-BC82-66B1725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8E999-1125-4B6A-B69A-01540421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0EB65-FC37-4CC5-903F-C13E2928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92700-20A6-47D5-8258-29345623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D2F42-54CA-4DE2-9C4C-04C4A98D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A07F4-B6EB-4D4B-BD03-EE20568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C695D-DCDE-43FE-9531-E00CF845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B8793-16EC-4DE0-88CC-27D6BABF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71C86-F3BE-46E3-8F90-2442301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CFA09-C021-4BDA-9A4B-7BD927A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D6BF2-562D-4447-9F73-93781652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16FC-3625-4F63-B7CA-30750D33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AFA6F-CE21-4AC3-8E1F-BF539647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AFD0E-F410-48B5-A8EE-7BE8D0D9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ABF95-7FBF-43CD-8D97-DFE710EE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81E45-638E-4E55-B9B7-7BF5923A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6DC8E-4336-42A7-9624-231E8CA9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2A063-A8FA-41C6-81F7-B1F68512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A7C53-2906-489F-BBD1-4F0C21C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E9CA5-148C-4892-99DE-C90DCFCE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1D29B-74AF-4195-9829-7D49B48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B0CF0-6A24-4CB6-9B7B-A740060D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841A-8D9B-401A-B955-958296D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77764-002A-4114-B417-DE94C75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30435-D588-47A5-8CF8-8F328B8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0B8DF-241C-4063-B81B-5642CA6D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C844E-A8E1-4AE1-8828-C64514A5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D0AC-77A6-48C8-8DA5-44EE10CC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EA72DF-46ED-496D-BAB2-6A151D4C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2A6E57-E5C9-4629-A722-9EA2CF97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B0D421-08F9-444C-AC04-F26ADE4A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90EC2A-8E89-41D0-8EB0-7FB1C59A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6C8855-2F62-4F28-A141-E8DE184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E0FF-6187-4374-8A5E-7F17DFEB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16E3C2-3D32-4E58-A362-A722FE09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9D2A85-5988-47E5-9D54-251B45AB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15CF18-E45F-4404-B59E-94FF7AD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3BDD07-DB91-44B6-87C5-DD2AB16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6B3F18-A012-4402-BF0A-16538F11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A394BE-1E13-4896-B87E-A8DF3BE4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282EF-1E4E-482C-A9A4-4879D4D0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2182C-7C10-463E-88B8-538C99D9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8F4F7-C958-44A8-BCA7-4E8C27C1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DC7B4-2755-439D-8EED-0297475C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6B33-A0F1-4D68-9B04-B7F9758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28E98-0DBE-4E3D-B256-ABFE13B3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5B5D5-FA7F-4EB1-BB5D-0FDEDFA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CF951-F34F-46BB-BBC4-339F8426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879D3-7C51-4963-8B65-E355EA1A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75965-3503-46F0-9078-18667F2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5FAEF-098C-48A1-BE25-B224461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DF52E-0688-4A6E-BA27-170A093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6D147-668C-4CBC-8247-2D871CB8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041F0-45D7-4041-838E-2E0B7DD3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6C4D03-68F0-4822-985A-CCE6DAE2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4C95-AE65-48E6-94D4-8DE5B8C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9FA38B-A783-494B-B039-D4E06C64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B86F33-7915-4198-87EA-13220461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317067-740C-409B-B640-5E119BBA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ABAE13-B8C6-43A2-B2C0-9DEF5CDD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9A029C-10D0-4691-A1B7-CD351FA8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C809A5-3D85-4AF9-BDDA-4DA786B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FA8B06-F55B-4837-8B70-7964400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A4C92E-4028-4C25-8815-C1562AA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2F80EB-4650-4CEA-A88A-4E62FC75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B66890-6B38-4124-A656-3797848D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10B8-D0D6-4D59-8DB5-AB9F8EE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97428B-4B3C-4174-8BF7-67ED06F0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0C460A-2C19-4C0A-96C7-81451237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D71D45-AC0B-49E9-9A65-264B1B1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E7595B-C8B7-4736-A7A1-F986D909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FB91E5-1BA4-48D5-B472-7D193E54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5C0A25-75DE-40B6-B534-4A49736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DBCB95-3CB3-4DC9-83CE-63A2B7B0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C03E61-2832-4BD1-9D22-45F75C7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9B3733-6BE0-443D-B020-ADB5738D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0C57B8-CEFF-46E7-8281-7DE2BE5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B35-6DF8-42DF-A5FC-AF36479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D3C390-736A-4B57-B297-959BC069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ED08A1-5EBD-481E-9F9A-FD79C000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F4A7AC-3087-4207-B2B4-2C386694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5D7EE9-CCE6-447A-A42E-463B83FA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AAB091-07C8-4686-AB4E-7670B07F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2F6BC4-25DE-4B41-813B-0AB926D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E61960-F17D-477A-88E4-B1CFD47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03C5B6-205F-414A-8B07-9C76D68A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901ABD-215C-4CDA-8E5B-BA29E0BB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429D44-82B7-41C6-B6A4-8565088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52E-06FC-40FA-8C65-709B3DF3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308E-6B99-44DE-87BF-2C0DD9D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013030-796D-424F-8951-E3364F7C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552866-0EC1-474A-9F45-3BEBCFA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3D729D-49FB-496F-A928-54FDE171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7103EE-1CE1-4E8C-86BF-923ADEAB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925F28-027D-438F-88BB-0C8137B5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45D54-75A5-491F-B455-F3946703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3CE2E-06B8-4936-972B-F984887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FA5AC-0636-4639-9CD8-FAA0C221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EF148-1BED-4B46-AEF2-9CE63954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01445-E70B-4741-924C-ABB78D77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7092-02F4-4D39-B10A-E334775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1C6E9-3172-4C03-B1E2-C76881E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19838-9A99-43E7-9C1E-E213EB6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9662F-A61D-4688-81D8-F1F7CFC8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13BB5-E599-40BF-97A0-9D6243E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8067B-E7A0-420C-9EA2-DC5FD4A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A50E9-09F3-40E0-80DD-870A8B14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4B459-1DE4-4771-AE30-5B005B0A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8B029-3F62-4133-8841-0E3DAA6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205BE-C336-4088-BA5D-0FFCF6C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99604-36EB-4742-AE16-0C4469A6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4C00-1B54-4A48-9F5C-702E9E27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4425F-F272-4A05-8B5C-F3356201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E813B-E1A7-4E0E-ABE0-1C6EEDFB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EB490-2102-4CA4-9609-0C38B61D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D1566-D57F-48A3-8787-54F9B59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1EFAD-91DF-42D5-ABAF-4C3D3697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237B0-01AB-4C61-8926-0600132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E11E1-8988-4C2E-9402-F2C2A93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B9844-21D0-4377-9F48-56DD523C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A8E47-2DA1-4094-9773-BE61DC21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E5A2E-AA07-4F6F-9AB2-85A0CC26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08D8-6121-4182-A54E-80438478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CEAD9D-812F-48DA-A243-69A6C4E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04092-DC6E-4538-88F9-BC54E06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35483-2448-499D-A0C4-B4A4AD7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33E66-D760-4172-AE6C-E2EC2BE1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62257-E857-4E89-973D-1940864A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9A28E-35A9-409D-B7BD-9A226C45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826A2-CF83-4E04-89E5-72041C9E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65718-C319-41C5-99F1-6A6012F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52D99-8A97-4638-9183-A3F9D0CC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201F4-4305-4095-B496-F70DDFD2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D2CC-56B2-4C2C-AA61-5C448E2A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CDED6-6EA2-4C15-ADB2-B90698C7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9232F-67F5-4E34-B98C-50878DA7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4405B-2205-43F2-A3C7-98B3BF2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2DAE0-D117-4136-A6DB-031CBF47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E325B-EB5E-487D-8C85-3E92D62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AA4EA-4C4A-4F21-AC3E-BA1B046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78EA2-81A2-4BBF-AB95-1531BF3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78F414-E19F-4365-B234-32F3516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C9E0F-2C81-4FD9-ADB8-5330F8B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32ABAB-0CFA-4CB5-9021-83BBE8A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0947-6376-469B-9F4B-738D55E2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79A2B8-70F0-4317-9776-436D18BC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DC4D0-DE2A-4E0C-9EF8-F0036662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C0081-6CAA-46E7-83E9-601C06E5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F9625C-DF1F-4496-B696-DDC791E0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E1660-429A-4508-94D4-51DEAC3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E8034-EA20-4FCB-8178-20A4097C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26FD0-CD98-466F-B0AD-AD38856D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7BEB51-857D-4337-8186-2D45B8BD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A650A8-CF72-4303-91EC-D9B7356A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470181-2B77-460B-A727-13043EE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FBB9-7DA7-4AB4-810B-73F6F7A5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107BDE-323D-4D6D-B1C9-954AD74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3F8AC5-0257-4187-AD95-497C138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7B43E5-08FE-4B93-A526-7CFC756E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157EB-C5EF-4020-B331-371998B1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FDDF3F-83EC-4C28-B71E-71D0D4F8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C14F1-7C91-44F2-BB83-275BC14F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E5B253-5822-4FE6-891E-E205FCB0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799F3-BE2E-40DA-89AF-02C5EB5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070194-C840-422A-9259-B4449114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9FCD37-2595-4B47-9D95-DAE0D5A3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3DE5-EB79-449E-9478-7768628A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7E1C33-250F-4A87-B38A-4DD80CA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0D554C-1984-40BF-840B-392F88AA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3A47F-97C4-477C-91D2-AF6076B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E03EE-A293-47B0-8A7E-8DDE5FB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06E76F-DFE6-4548-82A7-11AD863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31EE14-1EED-4B89-BA9D-BAA70C08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287C7-ECE4-4678-A9E7-BED6A3AF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EA6634-6961-46FE-ACC1-4222C7E0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73D6D8-FED9-4CE3-8EED-5634CA2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6DDBFA-469B-437A-9776-D45FDB24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E04B-7BB6-4481-84CF-EA1AC659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183F66-73B8-4E78-ACCF-DC9AB4E1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A533C-6BB9-4E35-88CD-4C59C3B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F58550-8DA5-4F27-9EB8-9AA487DF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FBC066-B8CC-4AC6-A7C0-E87F392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A02048-C974-4AD9-999B-ABFC33BA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F4AD34-B5DD-405B-845E-5444297F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586B61-9842-4D6F-AF99-9B8F0C2B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9C9165-43AA-4009-91B8-C3B4E61F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2AE5FE-26CA-4BC9-A246-01D810A3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A46B6C-40D6-4BE5-BE4F-876F20ED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58CB-36DD-4753-9F43-3403CC27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E97F87-0351-4A75-B491-5F346E3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C87171-82DC-490A-9253-F65799BF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51ED52-226A-47A6-AED0-E30898F1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716F32-B41E-40C3-BD41-1EFF69F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1B628F-3EDA-42B5-9F26-3E67CFD2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B52FBC-4296-45D6-BCB5-B43903F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455792-A296-411B-96FE-27DE7B33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75DED3-BA3F-4D63-8DC8-18AF77D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29209C-045C-4DD6-889C-FF7BFEA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70A5CD-CC4D-4971-BFAD-F9B84F0F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1AE-A2C3-4AF3-9910-1E6B9EF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2ED0-1E32-4708-A8DB-94802E06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49D349-CD0A-4C22-87C5-1B03BB41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015E-DC91-4CDA-BF27-614C117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35EC-1DD9-4EB3-93D7-F4C57BC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8215-C4C0-4FC4-B78B-FF065EC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8698-CC00-4774-B3F7-B730EF25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D6AF-3500-4147-9991-352CA5A0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2911-0916-4AA7-91D6-394EAD35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1B116-6C49-417E-8F99-7D7F9F14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6309-C2AA-4515-BD46-51C2CD93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309E-26E9-4DF4-9BDC-84BDBC4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14B-D7D1-48E5-93B3-8286821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4B4C-0100-4D81-A1A0-482AAC2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0ABC-618A-454F-84B0-52F8F47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CE4E-D607-44C0-ABAF-561C028D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4E14-1C24-430F-A77C-11C8E08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577D-6E8D-485C-9CBB-7DF97E0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0AE4-8A76-4D24-A16F-214A50FE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D466-4DE2-463A-B62D-BCD83A8C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8F9B-F3B6-465E-961B-001FF871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0D7B-9FA4-4E18-AEFC-7F87B361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8C0C-F578-46E7-BE4C-3C544EF2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6C7-FA5D-4E12-9560-86086D96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DED8-131C-4F8D-AC0D-D1189C40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B4D7-28D6-43C8-82FB-C5611E62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ED34-FF28-442D-95E2-BB53FF5A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2089C-98D0-41E7-AB40-DA1E369D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93D09-19C8-47EC-826D-E2343CE0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2928-C3EF-4EB0-A1E6-AD440E6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607C-454D-466A-8DC9-05F8FA62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55FE-01E2-4C7A-B807-B837183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7D28-39BA-46D9-B05E-530A668F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59EA-7FAF-4ABA-9AEC-699243AB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2CF-1761-4B8B-A872-CA1A61ED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9928-9D9F-4373-80FB-86C90E47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0B98-E659-4A2E-9F66-B99A57D6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08DD-C3D3-4C6B-B117-FCA53087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35346-3EFB-48E0-A76F-7856C97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EA1E5-9798-4786-8342-9AD43680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A3F0-7A2D-41F6-900A-D19F1EBE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0C6B-C1D9-4243-B900-407C1ED7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EE69E-8B2F-40DE-A8FB-19CACC3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C9048-21BD-4A59-8692-FE10050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1C80-1DFF-45E9-A55F-86AF249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64E-194A-4032-8900-947C73D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D4C31-8DB2-45B1-B005-DD08C5FB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A124-6018-48B7-B028-055C77B5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C378-FACC-49C0-B719-208D9654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24D3-42DC-46D6-A94E-E14CB888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40E4-DD70-4652-8CB5-F61AF8B9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F02D-2109-4B97-BFAD-CD23E0DB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AE1D-8EE0-4EED-A78E-F4E3E9A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73E37-E1B7-43B4-98FB-2D349951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00E51-A574-41E6-939E-183228EA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AE33-EF99-4E2D-8B7D-B6E47CE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90C-D79A-4FB7-86C7-9817919F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E0EF-511C-471B-998E-88773708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88A19-31A6-46B3-8A30-CF8A098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CE9F-75E2-4A74-B428-8A18CB6C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9620F-DBC4-463E-8018-AC9C3F2F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6EEFC-1A76-492F-A11F-F6D81B9B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48E8-9534-458A-A9AB-16DCA64E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13AB5-0171-4B15-85DF-73469BB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1EDF1-EE6E-4740-9FC5-1A81CA00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DA77E-C165-4902-879F-0A66D530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21C8-1DE3-4F28-B86B-B949C91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9DD-748F-4949-8DA2-C608F34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DCCB5-8750-4EC1-8196-FAF8DE9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BBB2A-8031-4FDA-BEAC-D752EF1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C5CA4-1E62-418D-8AB9-C257004E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1FDA-23A9-4F63-8574-3AB9C1FA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F2D1D-9750-4957-A912-3DF4A2AB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D13C4-52D4-4729-8749-15DD8957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99259-2F34-4BC2-8CC9-D505818F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17EF3-FD29-48DC-9BCE-AD15EBD4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A2B8D-AA80-48E4-ADF5-AE21D6E3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5CC78-0686-4E6C-8AA3-9249E1B0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56AA-826C-49D4-8A20-BD2DE4CEF3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2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868C-376E-4531-8542-5BF80DA871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7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20DD-647F-47B1-BAEA-0960B9EB4C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C6E-ACCA-476A-BC40-6F223F2811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A270-CA6B-4D55-BA1B-DC3F47A02F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4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4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04A-44C6-4DED-A501-08114D0823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9BB5-A9EB-4F8D-B271-A27340F607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0FCD-AFE9-4AF2-A6EA-DEF68C9E35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0FF-90A2-49EA-911E-C378B37936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3f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5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d3fa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299C-2715-4875-9FAC-032D1220FCE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5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56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57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43C-0F73-44CD-8071-2E73328E3F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7997-34A1-4BC3-B170-103E55F7AE8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3f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86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8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89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8278-DE91-4F35-8151-734110E36E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BC6D-B735-4B13-9AF8-9F198A70368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14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6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261-1AEE-4B7F-9DA6-EE91AF359A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18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36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37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CA9-A295-4738-9BF3-1C7991833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3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7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7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C82-6641-49A3-A282-0516EC1132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48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51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51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51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51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52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7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7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7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C9A0-436E-4C29-A3F7-D848BF99B8A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1C5A-8BA9-48BA-A954-E4AE11A685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4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449F-D985-4E07-9BE0-5F5B473223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2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2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EEB-A015-4703-993A-01438BF1E51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FC5-8315-4B82-946D-BD16A7ED27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F5B-4651-4E86-9D64-EDF041C527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21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22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23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29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335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341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47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53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54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57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60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63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66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69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72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75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14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7D0-5A4C-44FD-91F6-9CAA45014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EC4C-C4C9-4779-A3C9-AF7F2261EE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280" y="3645000"/>
            <a:ext cx="7643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Урок русского языка  Тема урока: 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71" name="Picture 6" descr="http://img.youtube.com/vi/SfvahFzSEe4/0.jpg"/>
          <p:cNvPicPr/>
          <p:nvPr/>
        </p:nvPicPr>
        <p:blipFill>
          <a:blip r:embed="rId1"/>
          <a:stretch/>
        </p:blipFill>
        <p:spPr>
          <a:xfrm>
            <a:off x="2314440" y="836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Дирижёр – лицо, руководящее коллективным исполнением музыкального произведения или хор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етеран – опытный, бывалый, испытанный в боях воин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Генерал – звание или чин военных, состоящих в высшем командном составе арми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Герой – человек, самоотверженно совершающий подвиг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Директор – лицо, руководящее предприятием или учебным заведение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екретарь – работник, ведущий деловую переписку в учреждени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Физкультминутка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Опишите картинку, используя словосочетание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причастие + определяемое слово 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92" name="Рисунок 17" descr="LANDS001.WMF"/>
          <p:cNvPicPr/>
          <p:nvPr/>
        </p:nvPicPr>
        <p:blipFill>
          <a:blip r:embed="rId1"/>
          <a:stretch/>
        </p:blipFill>
        <p:spPr>
          <a:xfrm>
            <a:off x="762120" y="1905120"/>
            <a:ext cx="1979640" cy="1981080"/>
          </a:xfrm>
          <a:prstGeom prst="rect">
            <a:avLst/>
          </a:prstGeom>
          <a:ln w="0">
            <a:noFill/>
          </a:ln>
        </p:spPr>
      </p:pic>
      <p:pic>
        <p:nvPicPr>
          <p:cNvPr id="1593" name="Рисунок 7" descr="лыжница.gif"/>
          <p:cNvPicPr/>
          <p:nvPr/>
        </p:nvPicPr>
        <p:blipFill>
          <a:blip r:embed="rId2"/>
          <a:stretch/>
        </p:blipFill>
        <p:spPr>
          <a:xfrm>
            <a:off x="685800" y="4343400"/>
            <a:ext cx="2270160" cy="1752480"/>
          </a:xfrm>
          <a:prstGeom prst="rect">
            <a:avLst/>
          </a:prstGeom>
          <a:ln w="0">
            <a:noFill/>
          </a:ln>
        </p:spPr>
      </p:pic>
      <p:pic>
        <p:nvPicPr>
          <p:cNvPr id="1594" name="Рисунок 9" descr="021.gif"/>
          <p:cNvPicPr/>
          <p:nvPr/>
        </p:nvPicPr>
        <p:blipFill>
          <a:blip r:embed="rId3"/>
          <a:stretch/>
        </p:blipFill>
        <p:spPr>
          <a:xfrm>
            <a:off x="3657600" y="2133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595" name="Рисунок 18" descr="LANDS064.WMF"/>
          <p:cNvPicPr/>
          <p:nvPr/>
        </p:nvPicPr>
        <p:blipFill>
          <a:blip r:embed="rId4"/>
          <a:stretch/>
        </p:blipFill>
        <p:spPr>
          <a:xfrm>
            <a:off x="6248520" y="2133720"/>
            <a:ext cx="1717560" cy="1801800"/>
          </a:xfrm>
          <a:prstGeom prst="rect">
            <a:avLst/>
          </a:prstGeom>
          <a:ln w="0">
            <a:noFill/>
          </a:ln>
        </p:spPr>
      </p:pic>
      <p:pic>
        <p:nvPicPr>
          <p:cNvPr id="1596" name="Рисунок 19" descr="TOURS055.WMF"/>
          <p:cNvPicPr/>
          <p:nvPr/>
        </p:nvPicPr>
        <p:blipFill>
          <a:blip r:embed="rId5"/>
          <a:stretch/>
        </p:blipFill>
        <p:spPr>
          <a:xfrm>
            <a:off x="3276720" y="4114800"/>
            <a:ext cx="2487600" cy="2147760"/>
          </a:xfrm>
          <a:prstGeom prst="rect">
            <a:avLst/>
          </a:prstGeom>
          <a:ln w="0">
            <a:noFill/>
          </a:ln>
        </p:spPr>
      </p:pic>
      <p:pic>
        <p:nvPicPr>
          <p:cNvPr id="1597" name="Рисунок 3" descr="LANDS039.WMF"/>
          <p:cNvPicPr/>
          <p:nvPr/>
        </p:nvPicPr>
        <p:blipFill>
          <a:blip r:embed="rId6"/>
          <a:stretch/>
        </p:blipFill>
        <p:spPr>
          <a:xfrm>
            <a:off x="6400800" y="4495680"/>
            <a:ext cx="18018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0203b"/>
                </a:solidFill>
                <a:latin typeface="Times New Roman"/>
              </a:rPr>
              <a:t>Работаем с текстом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99" name="Picture 12" descr="office20"/>
          <p:cNvPicPr/>
          <p:nvPr/>
        </p:nvPicPr>
        <p:blipFill>
          <a:blip r:embed="rId1"/>
          <a:stretch/>
        </p:blipFill>
        <p:spPr>
          <a:xfrm>
            <a:off x="142920" y="5357880"/>
            <a:ext cx="1508040" cy="135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6840" y="11556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ыли «не сахар»: каждый со своим норовом, уровнем «пропущенных лет» в школе. Только повзрослев, понимаешь, каково было преподавателям совладать с на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ельность была высокой, поблажек не было. «Тройку» нужно было заработать. Она означала, что воспитанник твердо усвоил изучаемый на уроках материал и правильно пользуется полученными знаниями. Для «пятерки» было мало знать то, что изложено в учебнике, необходимо привлекать сведения из других источник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их пор помню традиционную фразу преподавателя математики майора Прохорова перед каждой контрольной: «Ученики, желающие получить  «отлично», должны решить дополнительно задачи, расположенные в правой стороне доски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ывать категорически нельзя. Запомнился случай: идет разбор сочинений, воспитанник П.  возмущается полученной за сочинение «тройкой» (только одна синтаксическая ошибка). Преподаватель литературы майор Субботин отвечает: «Вы получили оценку не за сочинение, а за то, что с ошибками переписали «отличное» сочинение выпускника 1 роты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456840" y="11556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тельность была высокой, поблажек не было. «Тройку» нужно было заработать. Она означала, что воспитанник твердо усвоил изучаемый на уроках материал и правильно пользуется полученными знаниями. Для «пятерки» было мало знать то, что изложено в учебнике, необходимо пр…влекать сведения из других источ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 сих пор помню традици…нную фразу препод…вателя математики майора Прохорова перед каждой контрольной: «Ученики, желающ…е получить  «отлично», должны решить дополнительно задачи, расположенные в правой стороне доски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сывать категорически нельзя. Запомнился случай: идет разбор сочинений, воспитанник П.  возмущается полученной за сочинение «тройкой» (только одна синтаксическая ошибка). Преподаватель литературы майор Субботин отвечает: «Вы получили оценку не за сочинение, а за то, что с ошибками переписали «отличное» сочинение выпускника 1 роты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роль причастных оборотов в тексте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ЛОЖНО ИЛИ ПРОСТО?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е было легко, потому 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ым сложным на уроке был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е всего запомнилось на уроке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№ 71 в рабочей тетради под редакцией В.В. Бабайцевой, выделить причастия и причастные обор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12" name="Рисунок 3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solidFill>
            <a:srgbClr val="f0f1e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Times New Roman"/>
              </a:rPr>
              <a:t>Задание:  </a:t>
            </a:r>
            <a:r>
              <a:rPr b="1" lang="ru-RU" sz="3600" spc="-1" strike="noStrike">
                <a:solidFill>
                  <a:srgbClr val="2e2e45"/>
                </a:solidFill>
                <a:latin typeface="Times New Roman"/>
              </a:rPr>
              <a:t>Продолжите предложение</a:t>
            </a:r>
            <a:br>
              <a:rPr sz="20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1.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– это …</a:t>
            </a:r>
            <a:br>
              <a:rPr sz="36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2.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ричастный оборот  в предложении относится к…</a:t>
            </a:r>
            <a:br>
              <a:rPr sz="36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3.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Определяемое слово - это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…</a:t>
            </a:r>
            <a:br>
              <a:rPr sz="36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4. 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Если причастный оборот стоит</a:t>
            </a:r>
            <a:br>
              <a:rPr sz="3800"/>
            </a:b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    после определяемого слова, то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…</a:t>
            </a:r>
            <a:br>
              <a:rPr sz="4000"/>
            </a:b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73" name="Picture 7" descr="1-277"/>
          <p:cNvPicPr/>
          <p:nvPr/>
        </p:nvPicPr>
        <p:blipFill>
          <a:blip r:embed="rId1"/>
          <a:stretch/>
        </p:blipFill>
        <p:spPr>
          <a:xfrm>
            <a:off x="2000160" y="5929200"/>
            <a:ext cx="214560" cy="21456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7" descr="1-277"/>
          <p:cNvPicPr/>
          <p:nvPr/>
        </p:nvPicPr>
        <p:blipFill>
          <a:blip r:embed="rId2"/>
          <a:stretch/>
        </p:blipFill>
        <p:spPr>
          <a:xfrm>
            <a:off x="7215120" y="5929200"/>
            <a:ext cx="214560" cy="2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755280" y="3645000"/>
            <a:ext cx="7643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66693e"/>
                </a:solidFill>
                <a:latin typeface="Times New Roman"/>
              </a:rPr>
              <a:t>Знаки препинания при причастном обороте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76" name="Picture 6" descr="http://img.youtube.com/vi/SfvahFzSEe4/0.jpg"/>
          <p:cNvPicPr/>
          <p:nvPr/>
        </p:nvPicPr>
        <p:blipFill>
          <a:blip r:embed="rId1"/>
          <a:stretch/>
        </p:blipFill>
        <p:spPr>
          <a:xfrm>
            <a:off x="2484360" y="40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те свою подготовку к уроку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отов к уроку, потому что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Не совсем готов к уроку, потому что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 уроку было легко (сложно) подготовиться, потому что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Продолжи предложения, используя причастия и причастные обороты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Морфология – это наука …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частие – это часть реч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Действительные причастия – это причастия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Многозначные слова – это слова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Еще М.В. Ломоносов отмечал книжный характер причастных оборотов. Они реже встречаются в…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ерните на место </a:t>
            </a:r>
            <a:br>
              <a:rPr sz="4400"/>
            </a:b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ичастный оборо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. Машинист впервые в своей жизни вёл электровоз, недавно окончивший курс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. Он увид..л наш костёр, закоченевший в гор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. Самолёт сел на п…л…су а…р…дрома, вылетевший из Новосибирс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. Орёл опустился на гребень горы, пр…летевший изд…ле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ричастный оборот связан с определяемым словом…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лова для справок: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Дайте толкование словарным словам, предложенным вашей группе, используя причастные обор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 группа: д…р…жёр, в…т…ран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 группа: г…нерал, г…рой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 группа: д…ректор, с…кретарь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а</dc:creator>
  <dc:description/>
  <dc:language>en-US</dc:language>
  <cp:lastModifiedBy>Света</cp:lastModifiedBy>
  <dcterms:modified xsi:type="dcterms:W3CDTF">2017-08-19T18:21:27Z</dcterms:modified>
  <cp:revision>81</cp:revision>
  <dc:subject/>
  <dc:title>Слайд 1</dc:title>
</cp:coreProperties>
</file>