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9.gif" ContentType="image/gif"/>
  <Override PartName="/ppt/media/image13.wmf" ContentType="image/x-wmf"/>
  <Override PartName="/ppt/media/image15.jpeg" ContentType="image/jpeg"/>
  <Override PartName="/ppt/media/image14.gif" ContentType="image/gif"/>
  <Override PartName="/ppt/media/image2.png" ContentType="image/png"/>
  <Override PartName="/ppt/media/image3.jpeg" ContentType="image/jpeg"/>
  <Override PartName="/ppt/media/image12.wmf" ContentType="image/x-wmf"/>
  <Override PartName="/ppt/media/image5.jpeg" ContentType="image/jpeg"/>
  <Override PartName="/ppt/media/image6.gif" ContentType="image/gif"/>
  <Override PartName="/ppt/media/image4.gif" ContentType="image/gif"/>
  <Override PartName="/ppt/media/image1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5B6-E052-46F8-BA30-825A3205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3D2-32D2-492D-BD15-D7661339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7053A-C1ED-4425-A34F-C7310CB3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E0E59-DD9A-41CD-A527-D76A056F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34A07-59A9-4952-8F2A-842F58AB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98FEA-85BA-4F5C-90C1-C4C01938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1BD58-0F4C-435C-BE3D-2319A9E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13246-399C-4E95-AE49-5D64C777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36E8F-38BE-43D8-B56F-12BAE492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2BC8D-63C0-4979-A188-800B9B6B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92694-ED95-4E8D-ABD0-B7E0498E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A6725-F196-4083-A6D6-08CB03AD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E74-498C-48FA-A2C2-A4A43A16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67571-E1E2-4397-95A5-80018B37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5EA3F-7451-467B-A157-7D1478E2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53DB5-F22C-4625-A4BF-820CBC4F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BE533-E550-447D-9FC9-AF11633C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9A45E-C09F-44D3-BF06-A0AE599E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8D221-6E78-4F0C-B853-F8BA47A8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2D870-9E82-4860-AD91-94EB4A78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59200-F288-4A8C-9B77-392FF54A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B5BC3-9F7E-4F14-8E14-FDF080D0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45A8D-5B34-461B-A572-1DD9EF74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510-0976-4265-89A2-DFD2920B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680D4-4174-4691-A38E-0D0A10C9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D8A7C-13C9-4C13-BE70-50600C6F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366DB-A857-4C0B-8BE9-BB21F44F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8882C-2668-4E7A-86CA-8729BA2A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E9208-7EF2-4E14-B70A-DA69C2E3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3A43-47B3-474C-B0F7-75901949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D12F7-DCDA-4A39-9830-D09A97D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09743-2B9C-4BF2-992F-2C93C58D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94A2F-AB26-43F1-8E96-3FD06F03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99F03-C743-478C-95A1-C85EA182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5FBB-EB59-429F-A5A9-E32DF5AA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71E63-D7FD-484A-906F-861C8BB8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7B38A-BFCC-4FBB-9834-66216598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F1385-457A-43B7-894A-C930B358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C24E7-1388-44A9-A0F0-8BEF448B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6322D-4C30-4714-8D54-3CD4F769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295E4-90E8-4A56-92A3-20D4F2BE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B43E5-2F93-4098-A24F-E48CA181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D389A-3C1B-4192-BAFB-60CD8718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66CA4-4A0E-4CF2-AFD0-48804C5D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3E3A5-EBD1-456D-8DB6-C3D3C403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B9DB-4232-4BAE-B75F-F8885D03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2AD35-A06A-468A-8E8C-5030627C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FAAE3-AA92-4B59-80B7-B9F7ADBD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FB577-1546-4BF8-A679-6D86CFC7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8986D-C4E4-4F9A-99C1-2584EB38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FA685-727F-4D32-91CE-05FB295E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36BDB2-568E-49F1-B646-918FDB20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DA3021-7CD6-4476-8AD4-977977CD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172741-4676-4E56-B30F-A40D34A2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F3564B-C024-4F14-BEBE-E3C051D2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C5269D-5E74-48FB-9531-546C9F2E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F406-77C9-41FB-BD37-4612FA0E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9AC990-A8BB-48E3-AA83-DBEC2AE7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C7244A-3417-4BEC-AD1A-B8669092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4A90C0-4F25-417A-9367-9D91FABA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328CDB-EFDD-4EBD-91D2-E5284AA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E0AA9D-4052-4AED-8AD5-83200CAB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2A2870-721C-4827-8451-137AD057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7548F2-D225-4288-A5AE-DBA22C43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1A683-5B4E-45E6-865A-2583BCAD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29328-2AC3-498E-A5E9-0D186B17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F4A1E-E39E-49F3-BABF-5133BC8E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64C9-F79F-4AB4-B1F9-EE4E5862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93BB0-4F1B-4E4F-B4EB-DCD2FFC0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80B92-BB92-4E5B-A6A8-A1FD68C1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155BC-20E3-40E1-878D-9499A416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0D025-7679-42AA-96B2-9C7E4ED2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B00DD-E095-4853-B2A8-091D8B50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87E42-7AC5-4854-BD94-E78A64D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67F86-B8C2-4B80-B324-5810680F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0DF32-B673-4AF8-88D9-180C1C90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10026-982B-4997-A408-24CDCE35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A58172-7739-4E58-AC51-5353DB7E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686B-D012-4113-B183-99135200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2B077C-F287-4B50-9DD2-087F55D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D9EBBE-C1FE-409C-BC15-ECF73AE9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A1C4A1-4C5C-440D-90E2-6009A53E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0063BF-2B22-4802-A711-04AE7BE9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77195F-DDB3-48BA-A1AB-6B71585E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AF38C5-83A3-485F-8205-811EA897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41619B-4020-420E-827D-2777067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36F12F-F489-4CCF-8358-2F31AF52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504EA1-82BF-42A2-AF6B-1BDFDEB5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3DF0A8-570B-49FF-8F42-EF50B759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3653-D118-4FC5-917D-94336ABC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AF5BCF-1B3B-403C-BC97-B8D161C3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C92790-BAFA-4A7B-9901-17E780AE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1F29D9-CED1-46D2-B5B7-07FF0405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6D0E30-DEEA-4E48-8145-92A3DCFA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DE4EB7-5072-4F64-B70E-E8E77D2B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A60CA7-89BC-4688-8EE7-9E156526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CA39E8-27A3-45EB-AA11-63381514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FB26CE-380E-43F3-829D-583E108A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4B9BFD-A292-463F-B567-255368CE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5F8D89-85C6-4C01-8F7A-B9C00C54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299E-B2CE-4894-B5C2-2B1EAB5D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0436D8-F520-4FF7-8729-D576A3D3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7A649F-B840-4F10-B9D0-A7FC8975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89C28E-7FCF-4936-A1CE-9A8F5DB4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05BD96-2705-4D48-A211-E99A7E83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0D4128-CDA5-4182-90C2-4F24DCD3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1305A7-2A42-4EC0-8BC6-2FC2E5C4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AD2A78-AEE1-484D-AA44-4ADFF074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29E2BA-C7F3-49E1-8DA5-00E54231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B358BA-5CC0-4603-B26E-773ADD1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73F9F2-C0FE-4992-9F09-57BA93EC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069-D4A2-42A9-9E47-9B4A56CA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B40F-6271-4772-B1CF-602484D4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547810-E907-4855-992E-C6449A53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A911ED-4C44-4A5B-9719-B15F1CF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20FB2A-B8B2-4782-9248-A5CAAA8A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6536F9-6F27-48C4-B081-F63EACB2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8927C5-236A-4CB2-BE08-F5FEE4D3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7FE9D-7F57-4944-9671-B27361BC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044344-B886-438F-B730-C3E68F4D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DC0A1-6C2F-4ED7-B8BE-73C5ED94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077B32-F0BA-4932-B8BC-7AFE035F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13A12D-264A-4501-A053-16334090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9DFA-A24F-4029-9620-E5B8B3C4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6167E-C5A6-48BF-BF27-62DD0BE8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5B66A-51DE-437D-A509-2C87D64D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B9E960-E158-4646-B62C-BEB18E72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3A64AD-FDCD-4234-94AB-5C817ACE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E02E3-35E3-4801-9079-E2D54930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5DBD4-F301-48C8-B937-73689FFF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644AC-2983-46BE-B7AE-5D4859AC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B2816-F669-4059-8C5B-76B8B1A0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2D5B0F-53BD-411B-81CA-174C0927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06DC6-A6D0-4C01-84CF-6B8CCE69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1319-3724-447C-8B31-AA06DB91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5A77E7-A7A5-4ADC-9180-75E03E8F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4A3586-CC90-4D83-BBE7-206D4C85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21277A-E6C2-414C-A668-AB14FDE1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F23BA8-EA59-4E08-803E-67207741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773E8A-E51C-46BE-A6C6-9CA251FC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EA6E8-F9C8-4CAE-9C89-30D19ECE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56070-4225-4E50-8CD3-A96255AF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0E2A76-01A9-4642-A67E-400841E8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5FE7D8-57C4-4FE8-92BB-9A649718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62E90D-DEE4-466A-993B-8692FAAB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F13D-E223-4AE7-AF3D-B8B27808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C40F23-9575-4A9C-B60F-5F326D0C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403C6-9CB5-4203-AE1D-1DD64623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75E50B-92D0-43D8-B781-6C70114A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EC7933-E678-4B0B-A9D4-E46D8FF8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73BDED-D52B-47AF-B3F5-0B3E98BE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8451B-1D26-4CD3-AE40-1AA5EBC9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3AA734-243D-4D1E-8F2A-792C8C59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78ACED-ABB6-408E-AC17-B967E640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7BD008-DD19-457D-8E5F-78B33C36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8BF371-FF19-4B19-AC4A-7634AB16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8FF4-1188-450B-9C17-407DB9F4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BABFD-DBE8-4D99-9FC6-204F871A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D7C100-2895-4F4D-B15A-98D09F38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E75CD8-9335-40CC-943D-4528B1DF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371E17-CBA6-4624-9EC3-F4310D0E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4993E-27E8-4715-AD1A-628D35D4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99C263-88E0-4E81-B75D-7F822E3D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112D8F-A5D1-4B89-99B1-0E945282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E563B-1F42-4139-BE7B-315944F1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903FC9-4922-4604-8385-9C4968E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AC292F-8749-41CE-B145-434928CE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82D2-F90B-4B04-8C21-CE73A981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BB24C4-65D0-4651-875E-03844EC4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41BEFD-E766-4037-9048-CA57184D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3C34E9-2028-442A-8B7F-0E8DA2A2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80010A-62E7-4D59-96CE-97A34C43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EB5C0F-3418-4261-88BA-A9063FBC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F52B4C-948E-4F22-96D1-3DE1E687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C4E50C-CF56-47B4-A07B-9802C200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6A9B47-F284-4711-870D-ADF25E0B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857C9C-471D-4610-A622-C0A5918C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54CBD2-42AC-44B8-994B-C6F65C58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0325-291D-4DFB-A365-570B85D9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26A930-B4D5-47FB-932E-B0954738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AD608B-3D4B-4FBD-AEB7-B26B3A8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1F980C-215E-4EE6-B755-84836683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FEB783-A527-439B-8D5D-F4CE227C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887167-784A-4D5C-A370-91193003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FA133F-869C-4098-BF8A-5FBEC6B3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C89774-6264-4A4A-B00C-6452FD07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4B63F1-E8ED-4F57-AFCD-B73DF161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42EE80-2BAD-49F7-A130-7D56101B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B532E8-C5B4-44D1-9262-EA8C7FBF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C14B-D5F3-4D70-89D6-2E08445F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267159-57A1-40ED-8031-63D58A9D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8CBE58-9143-45A9-ADCF-BCD0E840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3C87B4-6F20-4844-B5CC-9F11C081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BC8A45-C3DC-421A-99F8-4F2B3E11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AB470A-BE69-4F24-9816-6B111AAF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55B79C-E83B-4200-9FBA-4BD79BA4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BE2F33-6B7C-4135-BE27-CE48F37E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23F7B1-9E4F-4627-AD69-1A41888F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4FF1AB-13D9-477F-B3D7-7499251C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87716A-17FD-4B24-9294-35349FBA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FAAA-DC6C-4E97-A179-1EB9844C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ED314E-A61C-4CAC-9468-7C0F82FF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14C630-1DF3-40A1-90A9-BCB772BF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81F211-D893-4A82-9B3E-AFC2E36B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43B602-5B79-44B2-8D7B-C0BC8CCD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2F97DE-8046-4A2F-BD66-5AC859F3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ED73D8-77BF-472F-802A-2F6C84C0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B4ACC5-0F0C-40D0-B878-D188FB37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79526B-6BFB-4903-BD1D-E0EE335A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B9D984-84C5-485A-8770-4B16AFE7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99A3DA-FAC8-4AA6-ABB4-9A9E2700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4166-645A-4676-9B34-B922A5DE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1B8C35-7E57-47B9-8F41-E058D90A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FB501E-9142-4922-8807-D5099314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B2C29B-767C-4457-BBAE-0BD36B1F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9A9ECE-C6B2-4115-AA00-8539E685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102F0E-3AD0-40D5-8C1E-37828370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117276-B26B-4656-9162-31E4AE89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144C09-C3D2-424F-85E9-CA856877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A4B137-AC86-4320-B3A6-1EC9B80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254850-C727-4750-8F28-9FA16A0D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80F83D-8064-4A72-82AA-63483245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71E-B12B-43DB-92F3-FD172E74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2CE75-CEC6-4446-83EA-C899A0CE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0D9F17-BAAE-4A07-A451-EF0C6D4D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B825-E0E8-4A2A-BE0A-211126D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5AE8-348B-47E3-B1A5-501A681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7F39-ABB3-4401-B66C-559DA6A2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B19A0-CDAD-4F92-8690-26E9C8E2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3522-6458-47E2-9D24-98D14967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C6C10-C943-4805-A52A-537C119D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A19E-E750-4D9F-B186-A5B661BB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20818-3D6A-40B4-A935-FF8DFCFD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B534C-5096-4A4B-9041-A9988C88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3B2-D97D-46C6-B2B2-4993CDA3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8FC0D-6CB6-4298-9831-AEB35E31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1DD6B-002D-475E-BB7C-FC8F8346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ED3AB-E07C-4C28-9F82-FB860F20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70E1-614C-4F42-827F-70E27E29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023F-D14B-41A6-9ACF-29B2233F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605D-6553-4576-AC5F-A48F8548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D2EE-6459-4AAD-85B8-77BB8594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11D98-5394-4954-99E8-C0C1D67D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833A-4C57-407E-A10F-FE3143B9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DC979-5D64-43AA-83C4-4C96A857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E51-DC3E-488D-96CD-F1F90B2F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50AB-3AB1-4539-B0D5-ECF2BF9B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418F7-8288-4992-9D88-27AE5F65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9779E-18C1-45E8-A658-06712C40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4977C-60F7-4EFF-82FA-60E7710D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14908-1546-4B8A-9A16-0453A4F7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5BC6-2ECD-47A9-918A-F84A5C50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47E3D-6CDF-4770-8065-085CB1E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97FDD-EAEF-43B7-A06A-984818DF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9C949-4FD5-4363-9582-0C654C1C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0E737-BC1B-422B-B2B9-E5C11E07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CF9-0A14-4B25-867D-2372E5BD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D0CA7-1B34-423D-BA91-51ABCCAD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6945B-4C0B-4204-BF3E-3125C362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1B869-53A2-4AFC-9544-CFA68AEA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EE2A4-F8C1-471F-9896-6973E022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FA735-8637-41EC-9C3D-2EBC7170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9EE3-FCA4-4E28-B7D9-4E1AC582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29C6A-9250-4180-9BCC-370E326A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37A90-58AE-4EB7-834C-78E4FC70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511DE-F44D-402D-A58D-57614ED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8791D-3ED2-48D6-9B16-E289379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1B7-5608-440E-BE4A-3ACE47D8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9C81A-313D-486A-9B64-688FBA40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177E1-0E4B-49EB-97AA-EFD2052D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AA93B-03F1-4E1B-A0CC-7BD55FAE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80599-28A5-4AB4-85CF-61F0B853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D4697-40A3-43C6-9FD6-E39F076F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C872F-8260-459A-A2E0-090ED75C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C69C0-2B24-4F4D-A685-4BB5B557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39BB-23B3-4B73-90CB-05A983FD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EA0FE-4628-4151-A7FB-3D989F79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AC186-0056-4D03-AEE8-328A6DFF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1FA-EA2A-41C8-B8BC-A18F876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7B880-FF6A-456E-8015-C7500371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DC76B-6CCD-400C-AF2D-45C72F8D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4BB1D-391C-47F5-B4C1-273613EE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17986-732D-400B-9CDD-BF8E2D41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3E268-62A8-4B96-93DA-24AB1671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CB680-ACA0-4E9C-8EA5-02837763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14053-5DFA-4D35-AD9E-6A30F94B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39F5F-F549-4660-8CE4-6FAA969F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161F8-2395-4B6C-A281-FF3E55CA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CC501-847A-4FAD-A99F-743B6DAF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574-9614-4D16-AE7D-53EC2CFC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FAD76-053A-4569-8D06-8B603884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119B6-AA60-456A-B763-4F34752E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0957B-C423-45C7-8D2A-16F154FB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781C9-ECB1-4206-890E-F22E3F8E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DA497-1A44-4CB8-BA72-E974B100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9636C-C35D-4471-B203-25C217DC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8BFAD-F68E-410A-A94E-17C324AE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5B096-F3E6-4F36-A756-436D417E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555BD-98AC-4728-ADA4-BCB0EE5B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2C480-96C4-43A1-9454-7AF75A1A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AFAE-C3B1-4CD6-A4D5-CD9F69EF76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2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20C9-0E50-4A21-8E63-C380646272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7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053C-5083-46BF-9CC7-543E05636E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3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3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A49F-D7AD-4A03-A8CA-4A92C16472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12CD-48BA-4B4D-BEF8-1670DE6B74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4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4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85B2-0D2F-4DDE-A2A5-399A72324AB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DD69-6692-4205-8D4F-3121BF9E14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4861-3707-4709-844E-C04B1E0F56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95BD-DDB8-4184-BCC1-77938600C3D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4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d3f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57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6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d3fa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5A75-3EA6-4542-B40B-173F4374B2B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5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56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57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3CBD-D9DC-4DDA-89FA-D61A1E1718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995E-1B98-419E-9B07-7011C81D57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d3f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86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8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89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5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6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F5C2-2CE3-4F48-8DE3-A91813BDEB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6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6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6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3C53-EED3-4103-9A23-CBD3B833525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143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6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1F85-72C8-4BCC-AF1E-CB900EF7CD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118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36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137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15EC-C44F-4D97-B979-3B4549EB09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3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7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7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1C0-9882-4955-AD08-92CA2C6B9D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9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480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510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1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512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513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514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8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2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523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73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7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7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46C2-60D4-4574-AD82-4CB6FB8EA88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45B7-0898-4678-8AE6-A599D5A0AF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40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6976-3C91-4CD0-BF34-523F113EB9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23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2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AC00-6C8E-468A-9361-17EE2E9C512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DEEB-9C18-42DA-8055-7D72E3DBAB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6D00-0477-4568-B69A-037D2D9C2B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321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322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23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329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335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341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47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53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54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57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60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63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66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69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72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75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414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09E8-65A6-4B3B-A661-75D92E0AF1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C96A-BC30-4362-8356-84482C7900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280" y="3645000"/>
            <a:ext cx="7643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Урок русского языка  Тема урока: 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71" name="Picture 6" descr="http://img.youtube.com/vi/SfvahFzSEe4/0.jpg"/>
          <p:cNvPicPr/>
          <p:nvPr/>
        </p:nvPicPr>
        <p:blipFill>
          <a:blip r:embed="rId1"/>
          <a:stretch/>
        </p:blipFill>
        <p:spPr>
          <a:xfrm>
            <a:off x="2314440" y="836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Дирижёр – лицо, руководящее коллективным исполнением музыкального произведения или хор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етеран – опытный, бывалый, испытанный в боях воин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Генерал – звание или чин военных, состоящих в высшем командном составе арми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Герой – человек, самоотверженно совершающий подвиг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Директор – лицо, руководящее предприятием или учебным заведение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екретарь – работник, ведущий деловую переписку в учреждени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Физкультминутка</a:t>
            </a:r>
            <a:br>
              <a:rPr sz="2800"/>
            </a:b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Опишите картинку, используя словосочетание</a:t>
            </a:r>
            <a:br>
              <a:rPr sz="2800"/>
            </a:b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причастие + определяемое слово 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92" name="Рисунок 17" descr="LANDS001.WMF"/>
          <p:cNvPicPr/>
          <p:nvPr/>
        </p:nvPicPr>
        <p:blipFill>
          <a:blip r:embed="rId1"/>
          <a:stretch/>
        </p:blipFill>
        <p:spPr>
          <a:xfrm>
            <a:off x="762120" y="1905120"/>
            <a:ext cx="1979640" cy="1981080"/>
          </a:xfrm>
          <a:prstGeom prst="rect">
            <a:avLst/>
          </a:prstGeom>
          <a:ln w="0">
            <a:noFill/>
          </a:ln>
        </p:spPr>
      </p:pic>
      <p:pic>
        <p:nvPicPr>
          <p:cNvPr id="1593" name="Рисунок 7" descr="лыжница.gif"/>
          <p:cNvPicPr/>
          <p:nvPr/>
        </p:nvPicPr>
        <p:blipFill>
          <a:blip r:embed="rId2"/>
          <a:stretch/>
        </p:blipFill>
        <p:spPr>
          <a:xfrm>
            <a:off x="685800" y="4343400"/>
            <a:ext cx="2270160" cy="1752480"/>
          </a:xfrm>
          <a:prstGeom prst="rect">
            <a:avLst/>
          </a:prstGeom>
          <a:ln w="0">
            <a:noFill/>
          </a:ln>
        </p:spPr>
      </p:pic>
      <p:pic>
        <p:nvPicPr>
          <p:cNvPr id="1594" name="Рисунок 9" descr="021.gif"/>
          <p:cNvPicPr/>
          <p:nvPr/>
        </p:nvPicPr>
        <p:blipFill>
          <a:blip r:embed="rId3"/>
          <a:stretch/>
        </p:blipFill>
        <p:spPr>
          <a:xfrm>
            <a:off x="3657600" y="2133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595" name="Рисунок 18" descr="LANDS064.WMF"/>
          <p:cNvPicPr/>
          <p:nvPr/>
        </p:nvPicPr>
        <p:blipFill>
          <a:blip r:embed="rId4"/>
          <a:stretch/>
        </p:blipFill>
        <p:spPr>
          <a:xfrm>
            <a:off x="6248520" y="2133720"/>
            <a:ext cx="1717560" cy="1801800"/>
          </a:xfrm>
          <a:prstGeom prst="rect">
            <a:avLst/>
          </a:prstGeom>
          <a:ln w="0">
            <a:noFill/>
          </a:ln>
        </p:spPr>
      </p:pic>
      <p:pic>
        <p:nvPicPr>
          <p:cNvPr id="1596" name="Рисунок 19" descr="TOURS055.WMF"/>
          <p:cNvPicPr/>
          <p:nvPr/>
        </p:nvPicPr>
        <p:blipFill>
          <a:blip r:embed="rId5"/>
          <a:stretch/>
        </p:blipFill>
        <p:spPr>
          <a:xfrm>
            <a:off x="3276720" y="4114800"/>
            <a:ext cx="2487600" cy="2147760"/>
          </a:xfrm>
          <a:prstGeom prst="rect">
            <a:avLst/>
          </a:prstGeom>
          <a:ln w="0">
            <a:noFill/>
          </a:ln>
        </p:spPr>
      </p:pic>
      <p:pic>
        <p:nvPicPr>
          <p:cNvPr id="1597" name="Рисунок 3" descr="LANDS039.WMF"/>
          <p:cNvPicPr/>
          <p:nvPr/>
        </p:nvPicPr>
        <p:blipFill>
          <a:blip r:embed="rId6"/>
          <a:stretch/>
        </p:blipFill>
        <p:spPr>
          <a:xfrm>
            <a:off x="6400800" y="4495680"/>
            <a:ext cx="18018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0203b"/>
                </a:solidFill>
                <a:latin typeface="Times New Roman"/>
              </a:rPr>
              <a:t>Работаем с текстом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99" name="Picture 12" descr="office20"/>
          <p:cNvPicPr/>
          <p:nvPr/>
        </p:nvPicPr>
        <p:blipFill>
          <a:blip r:embed="rId1"/>
          <a:stretch/>
        </p:blipFill>
        <p:spPr>
          <a:xfrm>
            <a:off x="142920" y="5357880"/>
            <a:ext cx="1508040" cy="1357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456840" y="115560"/>
            <a:ext cx="7467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были «не сахар»: каждый со своим норовом, уровнем «пропущенных лет» в школе. Только повзрослев, понимаешь, каково было преподавателям совладать с нам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ельность была высокой, поблажек не было. «Тройку» нужно было заработать. Она означала, что воспитанник твердо усвоил изучаемый на уроках материал и правильно пользуется полученными знаниями. Для «пятерки» было мало знать то, что изложено в учебнике, необходимо привлекать сведения из других источник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их пор помню традиционную фразу преподавателя математики майора Прохорова перед каждой контрольной: «Ученики, желающие получить  «отлично», должны решить дополнительно задачи, расположенные в правой стороне доски»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ывать категорически нельзя. Запомнился случай: идет разбор сочинений, воспитанник П.  возмущается полученной за сочинение «тройкой» (только одна синтаксическая ошибка). Преподаватель литературы майор Субботин отвечает: «Вы получили оценку не за сочинение, а за то, что с ошибками переписали «отличное» сочинение выпускника 1 роты»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456840" y="115560"/>
            <a:ext cx="7467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тельность была высокой, поблажек не было. «Тройку» нужно было заработать. Она означала, что воспитанник твердо усвоил изучаемый на уроках материал и правильно пользуется полученными знаниями. Для «пятерки» было мало знать то, что изложено в учебнике, необходимо пр…влекать сведения из других источ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 сих пор помню традици…нную фразу препод…вателя математики майора Прохорова перед каждой контрольной: «Ученики, желающ…е получить  «отлично», должны решить дополнительно задачи, расположенные в правой стороне доски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исывать категорически нельзя. Запомнился случай: идет разбор сочинений, воспитанник П.  возмущается полученной за сочинение «тройкой» (только одна синтаксическая ошибка). Преподаватель литературы майор Субботин отвечает: «Вы получили оценку не за сочинение, а за то, что с ошибками переписали «отличное» сочинение выпускника 1 роты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роль причастных оборотов в тексте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ЛОЖНО ИЛИ ПРОСТО?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е было легко, потому чт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ым сложным на уроке был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е всего запомнилось на уроке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ражнение № 71 в рабочей тетради под редакцией В.В. Бабайцевой, выделить причастия и причастные обор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12" name="Рисунок 3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5715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solidFill>
            <a:srgbClr val="f0f1e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Times New Roman"/>
              </a:rPr>
              <a:t>Задание:  </a:t>
            </a:r>
            <a:r>
              <a:rPr b="1" lang="ru-RU" sz="3600" spc="-1" strike="noStrike">
                <a:solidFill>
                  <a:srgbClr val="2e2e45"/>
                </a:solidFill>
                <a:latin typeface="Times New Roman"/>
              </a:rPr>
              <a:t>Продолжите предложение</a:t>
            </a:r>
            <a:br>
              <a:rPr sz="20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1.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– это …</a:t>
            </a:r>
            <a:br>
              <a:rPr sz="36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2.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Причастный оборот  в предложении относится к…</a:t>
            </a:r>
            <a:br>
              <a:rPr sz="36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3.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Определяемое слово - это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…</a:t>
            </a:r>
            <a:br>
              <a:rPr sz="36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4. </a:t>
            </a: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Если причастный оборот стоит</a:t>
            </a:r>
            <a:br>
              <a:rPr sz="3800"/>
            </a:b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    после определяемого слова, то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…</a:t>
            </a:r>
            <a:br>
              <a:rPr sz="4000"/>
            </a:b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73" name="Picture 7" descr="1-277"/>
          <p:cNvPicPr/>
          <p:nvPr/>
        </p:nvPicPr>
        <p:blipFill>
          <a:blip r:embed="rId1"/>
          <a:stretch/>
        </p:blipFill>
        <p:spPr>
          <a:xfrm>
            <a:off x="2000160" y="5929200"/>
            <a:ext cx="214560" cy="214560"/>
          </a:xfrm>
          <a:prstGeom prst="rect">
            <a:avLst/>
          </a:prstGeom>
          <a:ln w="0">
            <a:noFill/>
          </a:ln>
        </p:spPr>
      </p:pic>
      <p:pic>
        <p:nvPicPr>
          <p:cNvPr id="1574" name="Picture 7" descr="1-277"/>
          <p:cNvPicPr/>
          <p:nvPr/>
        </p:nvPicPr>
        <p:blipFill>
          <a:blip r:embed="rId2"/>
          <a:stretch/>
        </p:blipFill>
        <p:spPr>
          <a:xfrm>
            <a:off x="7215120" y="5929200"/>
            <a:ext cx="214560" cy="2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755280" y="3645000"/>
            <a:ext cx="7643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66693e"/>
                </a:solidFill>
                <a:latin typeface="Times New Roman"/>
              </a:rPr>
              <a:t>Знаки препинания при причастном обороте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76" name="Picture 6" descr="http://img.youtube.com/vi/SfvahFzSEe4/0.jpg"/>
          <p:cNvPicPr/>
          <p:nvPr/>
        </p:nvPicPr>
        <p:blipFill>
          <a:blip r:embed="rId1"/>
          <a:stretch/>
        </p:blipFill>
        <p:spPr>
          <a:xfrm>
            <a:off x="2484360" y="40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цените свою подготовку к уроку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Готов к уроку, потому что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Не совсем готов к уроку, потому что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К уроку было легко (сложно) подготовиться, потому что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Продолжи предложения, используя причастия и причастные обороты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Морфология – это наука …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частие – это часть речи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Действительные причастия – это причастия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Многозначные слова – это слова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Еще М.В. Ломоносов отмечал книжный характер причастных оборотов. Они реже встречаются в…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ерните на место </a:t>
            </a:r>
            <a:br>
              <a:rPr sz="4400"/>
            </a:b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ичастный оборо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1. Машинист впервые в своей жизни вёл электровоз, недавно окончивший курс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2. Он увид..л наш костёр, закоченевший в гор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3. Самолёт сел на п…л…су а…р…дрома, вылетевший из Новосибирс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4. Орёл опустился на гребень горы, пр…летевший изд…ле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Причастный оборот связан с определяемым словом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лова для справок: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Дайте толкование словарным словам, предложенным вашей группе, используя причастные обор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1 группа: д…р…жёр, в…т…ран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2 группа: г…нерал, г…рой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3 группа: д…ректор, с…кретарь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а</dc:creator>
  <dc:description/>
  <dc:language>en-US</dc:language>
  <cp:lastModifiedBy>Света</cp:lastModifiedBy>
  <dcterms:modified xsi:type="dcterms:W3CDTF">2017-08-19T18:21:27Z</dcterms:modified>
  <cp:revision>81</cp:revision>
  <dc:subject/>
  <dc:title>Слайд 1</dc:title>
</cp:coreProperties>
</file>