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7.jpeg" ContentType="image/jpeg"/>
  <Override PartName="/ppt/media/camera.wav" ContentType="audio/x-wav"/>
  <Override PartName="/ppt/media/image10.wmf" ContentType="image/x-wmf"/>
  <Override PartName="/ppt/media/image3.png" ContentType="image/png"/>
  <Override PartName="/ppt/media/image6.jpeg" ContentType="image/jpe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A54-FDC1-491F-A0F9-AB728821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121-D24B-4B70-AC90-AB76CCFA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61E-A944-4C06-8DFA-17701876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D85-CBAD-48BD-A52B-B7706204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2823-BC16-4B1C-A8DC-94386BFB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C60D-57A0-4802-8849-37FA6D3A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704F-3743-4C87-995A-6ED4706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8FE-A7CE-4271-B1E1-E397074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13DF-6B6A-4385-B9D5-DA18E56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9EF5-5CE9-45C9-89EA-8DC74E62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6CA-F48E-401A-BEB1-5E55C36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CD9-FF08-4A6B-9DA4-F4228DD5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9B34-1CCF-4D86-98F0-3532CB9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64E7-2418-4B8F-8BD6-C132F1D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A2C5-19A4-45FE-BC73-F65A689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652E-1559-4B02-BDD0-766F98A7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4182-5759-44D3-87EE-8FDA02DA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9ED-3C3E-4F49-9AE0-ED31A2A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99E-8693-4115-B2E9-F458743C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1EF-970A-4524-A71E-35D2247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002-50D6-4F60-A42D-890C1DEE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68B-DD45-4DDD-BBB9-20D2B25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A41-57E2-4128-B82E-B3AADD48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F90-7F76-4E61-80BC-66E81B6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png"/><Relationship Id="rId10" Type="http://schemas.openxmlformats.org/officeDocument/2006/relationships/image" Target="../media/image4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0469-5DAA-4FAD-9F4B-1DBAB08346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blipFill rotWithShape="0">
            <a:blip r:embed="rId2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WordArt 13"/>
          <p:cNvSpPr txBox="1"/>
          <p:nvPr/>
        </p:nvSpPr>
        <p:spPr>
          <a:xfrm>
            <a:off x="1547640" y="1052640"/>
            <a:ext cx="6480360" cy="482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сложение </a:t>
            </a:r>
            <a:endParaRPr b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двузначных чисел </a:t>
            </a:r>
            <a:endParaRPr b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вычитание</a:t>
            </a:r>
            <a:endParaRPr b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5" descr="c 04"/>
          <p:cNvPicPr/>
          <p:nvPr/>
        </p:nvPicPr>
        <p:blipFill>
          <a:blip r:embed="rId9"/>
          <a:stretch/>
        </p:blipFill>
        <p:spPr>
          <a:xfrm>
            <a:off x="1116000" y="260280"/>
            <a:ext cx="1722600" cy="2658960"/>
          </a:xfrm>
          <a:prstGeom prst="rect">
            <a:avLst/>
          </a:prstGeom>
          <a:ln w="0">
            <a:noFill/>
          </a:ln>
        </p:spPr>
      </p:pic>
      <p:sp>
        <p:nvSpPr>
          <p:cNvPr id="9" name="WordArt 16"/>
          <p:cNvSpPr txBox="1"/>
          <p:nvPr/>
        </p:nvSpPr>
        <p:spPr>
          <a:xfrm>
            <a:off x="1547640" y="1125360"/>
            <a:ext cx="6480360" cy="482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 </a:t>
            </a:r>
            <a:endParaRPr b="1" lang="en-US" sz="4000" spc="1" strike="noStrike">
              <a:ln w="19080">
                <a:solidFill>
                  <a:srgbClr val="a50021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двузначных чисел </a:t>
            </a:r>
            <a:endParaRPr b="1" lang="en-US" sz="4000" spc="1" strike="noStrike">
              <a:ln w="19080">
                <a:solidFill>
                  <a:srgbClr val="a50021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" name="Picture 17" descr="BD05092_[1]"/>
          <p:cNvPicPr/>
          <p:nvPr/>
        </p:nvPicPr>
        <p:blipFill>
          <a:blip r:embed="rId10"/>
          <a:stretch/>
        </p:blipFill>
        <p:spPr>
          <a:xfrm>
            <a:off x="3995640" y="4005360"/>
            <a:ext cx="1511280" cy="13698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c 04"/>
          <p:cNvPicPr/>
          <p:nvPr/>
        </p:nvPicPr>
        <p:blipFill>
          <a:blip r:embed="rId11"/>
          <a:stretch/>
        </p:blipFill>
        <p:spPr>
          <a:xfrm>
            <a:off x="6588000" y="260280"/>
            <a:ext cx="1768680" cy="273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2C25-1F5E-4C19-81FC-B8F32FEF2C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User\Рабочий стол\МОЯ РАБОТА\РАЗНЫЕ РАЗНОСТИ\рамки для фотошопа\Ramochky.narod.ru272.jpg"/>
          <p:cNvPicPr/>
          <p:nvPr/>
        </p:nvPicPr>
        <p:blipFill>
          <a:blip r:embed="rId1"/>
          <a:stretch/>
        </p:blipFill>
        <p:spPr>
          <a:xfrm>
            <a:off x="4428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64520" y="1778040"/>
            <a:ext cx="59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емейные трад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Documents and Settings\User\Рабочий стол\Анимационные картинки для презентаций на тему Школа\79966779.gif"/>
          <p:cNvPicPr/>
          <p:nvPr/>
        </p:nvPicPr>
        <p:blipFill>
          <a:blip r:embed="rId2"/>
          <a:stretch/>
        </p:blipFill>
        <p:spPr>
          <a:xfrm>
            <a:off x="3365640" y="4365720"/>
            <a:ext cx="1304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Объект 3"/>
          <p:cNvGraphicFramePr/>
          <p:nvPr/>
        </p:nvGraphicFramePr>
        <p:xfrm>
          <a:off x="1763640" y="1182600"/>
          <a:ext cx="911700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82600"/>
                    <a:ext cx="911700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Прямоугольник 4"/>
          <p:cNvSpPr/>
          <p:nvPr/>
        </p:nvSpPr>
        <p:spPr>
          <a:xfrm>
            <a:off x="539640" y="69228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ое пособие мы предложили каждой семье нашего класса, после чего каждая семья сможет выбрать те традиции, которые понравятся их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ы надеемся, что такие семьи станут крепче и друж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547640" y="476280"/>
            <a:ext cx="68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полнили: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еники 4 б класс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ь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ндарева Ирина 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0438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ть   сборник семейных традиций, которые можно ввести в каждую сем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User\Рабочий стол\Анимационные картинки для презентаций на тему Школа\5.gif"/>
          <p:cNvPicPr/>
          <p:nvPr/>
        </p:nvPicPr>
        <p:blipFill>
          <a:blip r:embed="rId1"/>
          <a:stretch/>
        </p:blipFill>
        <p:spPr>
          <a:xfrm>
            <a:off x="1979640" y="3213000"/>
            <a:ext cx="3816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Объект 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адиции и обычаи в семьях учащихся 4 б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Гипотеза исследования: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ществуют ли традиции и обычаи в семьях 4 б кла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ы ли семейные традиции и обыча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е семейных традиций в 4 б класс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2060280"/>
            <a:ext cx="7900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уществуют ли традиции и обычаи в вашей семье? Если да, то,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ужны ли, по-вашему мнению, семейные традиции и обыча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Хотели бы вы, чтоб в вашей семье появились новые обычаи или традиц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ЗАДАЧ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формить собранную информацию в виде брошюры, под наз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Сборник семейных традиций и обычае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Анимационные картинки для презентаций на тему Школа\79966779.gif"/>
          <p:cNvPicPr/>
          <p:nvPr/>
        </p:nvPicPr>
        <p:blipFill>
          <a:blip r:embed="rId1"/>
          <a:stretch/>
        </p:blipFill>
        <p:spPr>
          <a:xfrm>
            <a:off x="1187280" y="2997360"/>
            <a:ext cx="1305000" cy="1238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User\Рабочий стол\Анимационные картинки для презентаций на тему Школа\5.gif"/>
          <p:cNvPicPr/>
          <p:nvPr/>
        </p:nvPicPr>
        <p:blipFill>
          <a:blip r:embed="rId2"/>
          <a:stretch/>
        </p:blipFill>
        <p:spPr>
          <a:xfrm>
            <a:off x="3887640" y="286704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28800" y="214200"/>
          <a:ext cx="7143480" cy="6142320"/>
        </p:xfrm>
        <a:graphic>
          <a:graphicData uri="http://schemas.openxmlformats.org/drawingml/2006/table">
            <a:tbl>
              <a:tblPr/>
              <a:tblGrid>
                <a:gridCol w="3043080"/>
                <a:gridCol w="2751120"/>
                <a:gridCol w="134928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Существуют ли традиции и обычаи в вашей семь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 праздники отмечать в кругу семьи. (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ждое лето ездить куда-нибудь всей семьёй.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Нужны ли, по-вашему мнению, семейные традиции и обыча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Хотели бы вы, чтоб в вашей семье появились новые обычаи или традици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того, как вся информация была собрана, мы оформили ее в виде брошюры, под названием «Семейные традиции и обыча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мейные тра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ть семейные праздники дома (дни рождения членов семьи, Новый Год, Рождество, Пасха и д.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День прочитанной книги. (Раз в неделю, например, в субботу, собираться всей семьёй и обсуждать прочитанную книг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семейной прогулки. (В воскресенье все бросают свои дела и идут вместе в кино, или просто прогуливают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 в месяц устраивать День откровения (в этот день каждый член семьи рассказывает, какой самый тяжёлый день выдался ему в этом месяце, также рассказывает о своих успехах за этот меся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ть плохое настроение за порогом (каждый день заходить в дом с улыбк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5:51:11Z</dcterms:created>
  <dc:creator>Бондарева Ирина</dc:creator>
  <dc:description/>
  <dc:language>en-US</dc:language>
  <cp:lastModifiedBy>111</cp:lastModifiedBy>
  <dcterms:modified xsi:type="dcterms:W3CDTF">2014-05-19T13:35:32Z</dcterms:modified>
  <cp:revision>53</cp:revision>
  <dc:subject/>
  <dc:title>Семейные традиции</dc:title>
</cp:coreProperties>
</file>