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gif" ContentType="image/gif"/>
  <Override PartName="/ppt/media/image7.jpeg" ContentType="image/jpeg"/>
  <Override PartName="/ppt/media/camera.wav" ContentType="audio/x-wav"/>
  <Override PartName="/ppt/media/image10.wmf" ContentType="image/x-wmf"/>
  <Override PartName="/ppt/media/image3.png" ContentType="image/png"/>
  <Override PartName="/ppt/media/image6.jpeg" ContentType="image/jpeg"/>
  <Override PartName="/ppt/media/image8.gif" ContentType="image/gif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5A4C-289B-4CA8-BEE2-068C54CCF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05AC-81A8-4077-94EC-D86EF6739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C21A-4EF7-4C1F-B3AD-CDD27EF27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641B-BE42-423A-BB86-7A117127A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87A5B-3B1D-4395-96E0-5ACF6A64B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287BE-F3E1-49F7-ABA6-C145D288D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AA5F3-3D82-41C3-9D33-05C4F8AD3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8EB62-C733-4F71-868E-7ACCAD675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CB4B5-B660-4943-82FC-81841BBC2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F4F9E-5CB2-471F-B957-8170226DB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94F50-DB06-40CE-8E7A-9D7236C0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9C1C-56C0-48DC-9C33-B18AD76B3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2C4C6-89F9-4ECE-BE39-0F1E761B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0E2F3-FC32-4C21-B38D-58090757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CDDF0-8071-4E31-A33C-7C8D7430E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4748B-56E6-40E3-BD19-58159B43A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85333-F17E-4CE0-BD0F-6840C452C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38B6-F34E-43E5-96F9-1AF33D2E3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3CF5-DE58-47C0-B233-53692CFA2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66CD-EBB2-41F1-B332-292FD85D1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8E43-3DE8-48B8-BB3F-45BB13F28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DE2E-36FC-4473-BE9D-B40ABF20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9F9D-9004-4114-A243-F9FC58C9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1D12-36BF-41E7-84E1-0811734C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3.png"/><Relationship Id="rId10" Type="http://schemas.openxmlformats.org/officeDocument/2006/relationships/image" Target="../media/image4.wmf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DA700-FA5F-4431-8194-E1BBB806A02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0" y="0"/>
            <a:ext cx="9325080" cy="6858000"/>
          </a:xfrm>
          <a:prstGeom prst="rect">
            <a:avLst/>
          </a:prstGeom>
          <a:blipFill rotWithShape="0">
            <a:blip r:embed="rId2">
              <a:alphaModFix amt="85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WordArt 13"/>
          <p:cNvSpPr txBox="1"/>
          <p:nvPr/>
        </p:nvSpPr>
        <p:spPr>
          <a:xfrm>
            <a:off x="1547640" y="1052640"/>
            <a:ext cx="6480360" cy="4825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ffff00">
                      <a:alpha val="50000"/>
                    </a:srgbClr>
                  </a:outerShdw>
                </a:effectLst>
                <a:latin typeface="Arial"/>
              </a:rPr>
              <a:t>сложение </a:t>
            </a:r>
            <a:endParaRPr b="1" lang="en-US" sz="4000" spc="1" strike="noStrike">
              <a:ln w="9360">
                <a:solidFill>
                  <a:srgbClr val="a50021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ffff00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ffff00">
                      <a:alpha val="50000"/>
                    </a:srgbClr>
                  </a:outerShdw>
                </a:effectLst>
                <a:latin typeface="Arial"/>
              </a:rPr>
              <a:t>двузначных чисел </a:t>
            </a:r>
            <a:endParaRPr b="1" lang="en-US" sz="4000" spc="1" strike="noStrike">
              <a:ln w="9360">
                <a:solidFill>
                  <a:srgbClr val="a50021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ffff00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ffff00">
                      <a:alpha val="50000"/>
                    </a:srgbClr>
                  </a:outerShdw>
                </a:effectLst>
                <a:latin typeface="Arial"/>
              </a:rPr>
              <a:t>вычитание</a:t>
            </a:r>
            <a:endParaRPr b="1" lang="en-US" sz="4000" spc="1" strike="noStrike">
              <a:ln w="9360">
                <a:solidFill>
                  <a:srgbClr val="a50021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ffff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5" descr="c 04"/>
          <p:cNvPicPr/>
          <p:nvPr/>
        </p:nvPicPr>
        <p:blipFill>
          <a:blip r:embed="rId9"/>
          <a:stretch/>
        </p:blipFill>
        <p:spPr>
          <a:xfrm>
            <a:off x="1116000" y="260280"/>
            <a:ext cx="1722600" cy="2658960"/>
          </a:xfrm>
          <a:prstGeom prst="rect">
            <a:avLst/>
          </a:prstGeom>
          <a:ln w="0">
            <a:noFill/>
          </a:ln>
        </p:spPr>
      </p:pic>
      <p:sp>
        <p:nvSpPr>
          <p:cNvPr id="9" name="WordArt 16"/>
          <p:cNvSpPr txBox="1"/>
          <p:nvPr/>
        </p:nvSpPr>
        <p:spPr>
          <a:xfrm>
            <a:off x="1547640" y="1125360"/>
            <a:ext cx="6480360" cy="4826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a50021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ffff00">
                      <a:alpha val="50000"/>
                    </a:srgbClr>
                  </a:outerShdw>
                </a:effectLst>
                <a:latin typeface="Arial"/>
              </a:rPr>
              <a:t> </a:t>
            </a:r>
            <a:endParaRPr b="1" lang="en-US" sz="4000" spc="1" strike="noStrike">
              <a:ln w="19080">
                <a:solidFill>
                  <a:srgbClr val="a50021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ffff00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a50021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ffff00">
                      <a:alpha val="50000"/>
                    </a:srgbClr>
                  </a:outerShdw>
                </a:effectLst>
                <a:latin typeface="Arial"/>
              </a:rPr>
              <a:t>двузначных чисел </a:t>
            </a:r>
            <a:endParaRPr b="1" lang="en-US" sz="4000" spc="1" strike="noStrike">
              <a:ln w="19080">
                <a:solidFill>
                  <a:srgbClr val="a50021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ffff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" name="Picture 17" descr="BD05092_[1]"/>
          <p:cNvPicPr/>
          <p:nvPr/>
        </p:nvPicPr>
        <p:blipFill>
          <a:blip r:embed="rId10"/>
          <a:stretch/>
        </p:blipFill>
        <p:spPr>
          <a:xfrm>
            <a:off x="3995640" y="4005360"/>
            <a:ext cx="1511280" cy="136980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8" descr="c 04"/>
          <p:cNvPicPr/>
          <p:nvPr/>
        </p:nvPicPr>
        <p:blipFill>
          <a:blip r:embed="rId11"/>
          <a:stretch/>
        </p:blipFill>
        <p:spPr>
          <a:xfrm>
            <a:off x="6588000" y="260280"/>
            <a:ext cx="1768680" cy="273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568C4-8796-4565-946C-E16F35BD983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7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C:\Documents and Settings\User\Рабочий стол\МОЯ РАБОТА\РАЗНЫЕ РАЗНОСТИ\рамки для фотошопа\Ramochky.narod.ru272.jpg"/>
          <p:cNvPicPr/>
          <p:nvPr/>
        </p:nvPicPr>
        <p:blipFill>
          <a:blip r:embed="rId1"/>
          <a:stretch/>
        </p:blipFill>
        <p:spPr>
          <a:xfrm>
            <a:off x="442800" y="0"/>
            <a:ext cx="830592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3"/>
          <p:cNvSpPr/>
          <p:nvPr/>
        </p:nvSpPr>
        <p:spPr>
          <a:xfrm>
            <a:off x="1064520" y="1778040"/>
            <a:ext cx="590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емейные тради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C:\Documents and Settings\User\Рабочий стол\Анимационные картинки для презентаций на тему Школа\79966779.gif"/>
          <p:cNvPicPr/>
          <p:nvPr/>
        </p:nvPicPr>
        <p:blipFill>
          <a:blip r:embed="rId2"/>
          <a:stretch/>
        </p:blipFill>
        <p:spPr>
          <a:xfrm>
            <a:off x="3365640" y="4365720"/>
            <a:ext cx="130464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Объект 3"/>
          <p:cNvGraphicFramePr/>
          <p:nvPr/>
        </p:nvGraphicFramePr>
        <p:xfrm>
          <a:off x="1763640" y="1182600"/>
          <a:ext cx="9117000" cy="480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182600"/>
                    <a:ext cx="9117000" cy="480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Прямоугольник 4"/>
          <p:cNvSpPr/>
          <p:nvPr/>
        </p:nvSpPr>
        <p:spPr>
          <a:xfrm>
            <a:off x="539640" y="692280"/>
            <a:ext cx="4572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 u="sng">
                <a:solidFill>
                  <a:srgbClr val="c00000"/>
                </a:solidFill>
                <a:uFillTx/>
                <a:latin typeface="Arial"/>
              </a:rPr>
              <a:t>ВЫВОД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нное пособие мы предложили каждой семье нашего класса, после чего каждая семья сможет выбрать те традиции, которые понравятся их семь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мы надеемся, что такие семьи станут крепче и дружне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"/>
          <p:cNvSpPr/>
          <p:nvPr/>
        </p:nvSpPr>
        <p:spPr>
          <a:xfrm>
            <a:off x="1547640" y="476280"/>
            <a:ext cx="6840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полнили: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ченики 4 б класса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уководитель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ондарева Ирина  Александров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Цель проек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599840"/>
            <a:ext cx="8043840" cy="20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работать   сборник семейных традиций, которые можно ввести в каждую сем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C:\Documents and Settings\User\Рабочий стол\Анимационные картинки для презентаций на тему Школа\5.gif"/>
          <p:cNvPicPr/>
          <p:nvPr/>
        </p:nvPicPr>
        <p:blipFill>
          <a:blip r:embed="rId1"/>
          <a:stretch/>
        </p:blipFill>
        <p:spPr>
          <a:xfrm>
            <a:off x="1979640" y="3213000"/>
            <a:ext cx="381636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</a:t>
            </a:r>
            <a:r>
              <a:rPr b="1" lang="ru-RU" sz="36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Объект  исследова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Традиции и обычаи в семьях учащихся 4 б клас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</a:t>
            </a:r>
            <a:r>
              <a:rPr b="1" lang="ru-RU" sz="36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Гипотеза исследования:</a:t>
            </a:r>
            <a:r>
              <a:rPr b="1" i="1" lang="ru-RU" sz="2800" spc="-1" strike="noStrike">
                <a:solidFill>
                  <a:srgbClr val="0000ff"/>
                </a:solidFill>
                <a:latin typeface="Calibri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уществуют ли традиции и обычаи в семьях 4 б класс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Нужны ли семейные традиции и обыча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следование семейных традиций в 4 б класс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8000" y="2060280"/>
            <a:ext cx="79009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Существуют ли традиции и обычаи в вашей семье? Если да, то, как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Нужны ли, по-вашему мнению, семейные традиции и обыча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Хотели бы вы, чтоб в вашей семье появились новые обычаи или традици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ЗАДАЧ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оформить собранную информацию в виде брошюры, под название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«Сборник семейных традиций и обычаев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C:\Documents and Settings\User\Рабочий стол\Анимационные картинки для презентаций на тему Школа\79966779.gif"/>
          <p:cNvPicPr/>
          <p:nvPr/>
        </p:nvPicPr>
        <p:blipFill>
          <a:blip r:embed="rId1"/>
          <a:stretch/>
        </p:blipFill>
        <p:spPr>
          <a:xfrm>
            <a:off x="1187280" y="2997360"/>
            <a:ext cx="1305000" cy="12380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C:\Documents and Settings\User\Рабочий стол\Анимационные картинки для презентаций на тему Школа\5.gif"/>
          <p:cNvPicPr/>
          <p:nvPr/>
        </p:nvPicPr>
        <p:blipFill>
          <a:blip r:embed="rId2"/>
          <a:stretch/>
        </p:blipFill>
        <p:spPr>
          <a:xfrm>
            <a:off x="3887640" y="2867040"/>
            <a:ext cx="38163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928800" y="214200"/>
          <a:ext cx="7143480" cy="6142320"/>
        </p:xfrm>
        <a:graphic>
          <a:graphicData uri="http://schemas.openxmlformats.org/drawingml/2006/table">
            <a:tbl>
              <a:tblPr/>
              <a:tblGrid>
                <a:gridCol w="3043080"/>
                <a:gridCol w="2751120"/>
                <a:gridCol w="1349280"/>
              </a:tblGrid>
              <a:tr h="438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опро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8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 Существуют ли традиции и обычаи в вашей семье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3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акие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се праздники отмечать в кругу семьи. (1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аждое лето ездить куда-нибудь всей семьёй. (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6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. Нужны ли, по-вашему мнению, семейные традиции и обычаи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6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 Хотели бы вы, чтоб в вашей семье появились новые обычаи или традиции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 того, как вся информация была собрана, мы оформили ее в виде брошюры, под названием «Семейные традиции и обыча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емейные тради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тречать семейные праздники дома (дни рождения членов семьи, Новый Год, Рождество, Пасха и д.р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вести День прочитанной книги. (Раз в неделю, например, в субботу, собираться всей семьёй и обсуждать прочитанную книгу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нь семейной прогулки. (В воскресенье все бросают свои дела и идут вместе в кино, или просто прогуливаютс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 в месяц устраивать День откровения (в этот день каждый член семьи рассказывает, какой самый тяжёлый день выдался ему в этом месяце, также рассказывает о своих успехах за этот месяц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…………………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тавлять плохое настроение за порогом (каждый день заходить в дом с улыбкой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6T05:51:11Z</dcterms:created>
  <dc:creator>Бондарева Ирина</dc:creator>
  <dc:description/>
  <dc:language>en-US</dc:language>
  <cp:lastModifiedBy>111</cp:lastModifiedBy>
  <dcterms:modified xsi:type="dcterms:W3CDTF">2014-05-19T13:35:32Z</dcterms:modified>
  <cp:revision>53</cp:revision>
  <dc:subject/>
  <dc:title>Семейные традиции</dc:title>
</cp:coreProperties>
</file>