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gif" ContentType="image/gif"/>
  <Override PartName="/ppt/media/image13.png" ContentType="image/pn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30.gif" ContentType="image/gif"/>
  <Override PartName="/ppt/media/image26.jpeg" ContentType="image/jpeg"/>
  <Override PartName="/ppt/media/image5.jpeg" ContentType="image/jpeg"/>
  <Override PartName="/ppt/media/image9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33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7.jpeg" ContentType="image/jpeg"/>
  <Override PartName="/ppt/media/image28.jpeg" ContentType="image/jpeg"/>
  <Override PartName="/ppt/media/image11.jpeg" ContentType="image/jpeg"/>
  <Override PartName="/ppt/media/image31.gif" ContentType="image/gif"/>
  <Override PartName="/ppt/media/image1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32.gif" ContentType="image/gif"/>
  <Override PartName="/ppt/media/image2.gif" ContentType="image/gif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A575-E4BC-4D4F-ABA9-A53C42FE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4F4-6190-4E82-AE0A-133B9C79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D0C-1227-4209-9090-FC1F1290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F6A-DC33-4AF9-B29A-C1638D7F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CCA2-E775-466B-9799-74F2E1E3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FD70-DE73-4C54-885A-A3970BF0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344E-32B6-4CC1-B2B6-94841B29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7758-0104-4DB6-B307-D662690A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F5CF-5D99-4F98-9F37-7B2B89C1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9BD1-DA9C-40E7-88C2-42516759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65F2-07E0-4086-85A9-6916A9DA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525-9DCB-4494-88F2-DF9F84E9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5D97-1491-43D5-B702-6F0B7280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B5B1-9C8A-4C88-BFBC-543A7D14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8F1D-010B-4EB6-BB32-36EE1D2E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1A1A-EE62-4888-A1E0-D2261654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2239-7FFC-4D3D-B098-7D372A30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2A1C2-D965-494B-972B-5578EEAB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69F12-3021-41F1-8CD8-967974FA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D708C-66C9-4A87-BE09-004DCC9F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39EF4-0545-4108-A1E4-2C6D1965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D9F91-B729-462B-A84F-6FF0177B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BD0-92DD-432C-9D82-1BC9B7BC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440D5-30BA-41C4-903F-7A59F98D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5D5DE-6BBD-4F59-B47E-F5D8DDAF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F924E-1405-4F5E-969F-BFC6E38A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75575-9BB1-43D3-BC0E-5BE1E51E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C8BBC-90B8-4575-B5ED-8FE162AB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2FE03-7967-41BB-A573-E05084AC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A370F-6D05-415F-BADE-1F799E0D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FCC6F-D7DF-4ADE-929A-E78243AF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2F6C8-662F-43F8-AD27-5B6ECE49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57374-B7F0-4706-B0EA-B5BB59CA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283-1F77-4352-AF26-1E5FACC1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5109D-3C54-43FB-85CE-FF01AB71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6734A-FD1F-432E-BECE-5465F221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73E94-D975-48C7-B60D-378B1784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EB173-841B-4F28-AD6B-49950EEC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BBB51-9720-4AE6-8110-C165D2B0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492C0-F943-44F2-9A66-58E896D3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53350-4DB8-47AE-8148-EC0DF584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37E35-6945-4A74-8CC3-0DB37913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4E994-6B2A-4833-B718-7571C986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8C5-0D61-46CC-A486-31391760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9BE-8D48-43B1-B9AD-AC6A9ECA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078-ABA0-4F91-838B-C63BF304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90C-A56D-4889-BB62-10363C63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510-BD6E-4B96-8502-21FFD98F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4185-6787-44C6-BF70-24DEBC4AC42D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176A-4598-4E6A-A2D5-F75CDDE5771C}" type="slidenum">
              <a:rPr b="0" lang="ru-RU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E713-B678-49BA-A403-AB03553CF4B6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5DCF-3945-40F9-9B50-53311D79B212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:\Диск 80 гб\Documents and Settings\User\Рабочий стол\Елена\Рисунки и анимация\анимация GIF\30.gif"/>
          <p:cNvPicPr/>
          <p:nvPr/>
        </p:nvPicPr>
        <p:blipFill>
          <a:blip r:embed="rId1"/>
          <a:stretch/>
        </p:blipFill>
        <p:spPr>
          <a:xfrm>
            <a:off x="730080" y="3757680"/>
            <a:ext cx="2641680" cy="20653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C:\Диск 80 гб\Documents and Settings\User\Рабочий стол\Елена\Рисунки и анимация\анимация GIF\0058.gif"/>
          <p:cNvPicPr/>
          <p:nvPr/>
        </p:nvPicPr>
        <p:blipFill>
          <a:blip r:embed="rId2"/>
          <a:stretch/>
        </p:blipFill>
        <p:spPr>
          <a:xfrm>
            <a:off x="900000" y="876240"/>
            <a:ext cx="2519640" cy="25210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C:\Диск 80 гб\Documents and Settings\User\Рабочий стол\Елена\Рисунки и анимация\анимация GIF\7324520_group_of_bunnies_skipping_lg_nwm.gif"/>
          <p:cNvPicPr/>
          <p:nvPr/>
        </p:nvPicPr>
        <p:blipFill>
          <a:blip r:embed="rId3"/>
          <a:stretch/>
        </p:blipFill>
        <p:spPr>
          <a:xfrm>
            <a:off x="5305320" y="579600"/>
            <a:ext cx="2665440" cy="2665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C:\Диск 80 гб\Documents and Settings\User\Рабочий стол\Елена\Рисунки и анимация\анимация GIF\0057.gif"/>
          <p:cNvPicPr/>
          <p:nvPr/>
        </p:nvPicPr>
        <p:blipFill>
          <a:blip r:embed="rId4"/>
          <a:stretch/>
        </p:blipFill>
        <p:spPr>
          <a:xfrm>
            <a:off x="2522520" y="4005360"/>
            <a:ext cx="57405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0246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onstantia"/>
              </a:rPr>
              <a:t>Вышивальные машин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6" name="Объект 8" descr=""/>
          <p:cNvPicPr/>
          <p:nvPr/>
        </p:nvPicPr>
        <p:blipFill>
          <a:blip r:embed="rId1"/>
          <a:stretch/>
        </p:blipFill>
        <p:spPr>
          <a:xfrm>
            <a:off x="4356000" y="2565360"/>
            <a:ext cx="4608720" cy="3456000"/>
          </a:xfrm>
          <a:prstGeom prst="rect">
            <a:avLst/>
          </a:prstGeom>
          <a:ln w="19080">
            <a:solidFill>
              <a:srgbClr val="94c600"/>
            </a:solidFill>
            <a:miter/>
          </a:ln>
        </p:spPr>
      </p:pic>
      <p:pic>
        <p:nvPicPr>
          <p:cNvPr id="367" name="Объект 7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4078080" cy="3330720"/>
          </a:xfrm>
          <a:prstGeom prst="rect">
            <a:avLst/>
          </a:prstGeom>
          <a:ln w="19080">
            <a:solidFill>
              <a:srgbClr val="94c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onstantia"/>
              </a:rPr>
              <a:t>Правила безопасной работ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1280" y="2349000"/>
            <a:ext cx="3851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еред началом работы на швейной машине волосы убрать под косынку, одежду застегнуть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Убрать от машины посторонние предметы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Во время работы не наклоняться близко к движущимся и вращающимся частям машины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44720" y="2312640"/>
            <a:ext cx="388764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е держать пальцы близко около движущейся иглы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Утолщенные места прошивать на пониженной скорост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ри появлении запаха гари и дыма вынуть вилку из розетки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осле работы выключить машину, опустить иглу и лапку, подложив под них кусочек ткани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1" name="Picture 2" descr="C:\Диск 80 гб\Documents and Settings\User\Рабочий стол\Елена\Рисунки и анимация\анимация GIF\nice[1].gif"/>
          <p:cNvPicPr/>
          <p:nvPr/>
        </p:nvPicPr>
        <p:blipFill>
          <a:blip r:embed="rId1"/>
          <a:stretch/>
        </p:blipFill>
        <p:spPr>
          <a:xfrm rot="20403000">
            <a:off x="326520" y="1628280"/>
            <a:ext cx="1729080" cy="968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C:\Диск 80 гб\Documents and Settings\User\Рабочий стол\Елена\Рисунки и анимация\анимация GIF\nice[1].gif"/>
          <p:cNvPicPr/>
          <p:nvPr/>
        </p:nvPicPr>
        <p:blipFill>
          <a:blip r:embed="rId2"/>
          <a:stretch/>
        </p:blipFill>
        <p:spPr>
          <a:xfrm flipH="1" rot="1166400">
            <a:off x="6778440" y="1735200"/>
            <a:ext cx="1800000" cy="102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02468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Назовите известные вам детали и узлы швейной машины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4" name="Объект 6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184640" cy="3495600"/>
          </a:xfrm>
          <a:prstGeom prst="rect">
            <a:avLst/>
          </a:prstGeom>
          <a:ln w="0">
            <a:noFill/>
          </a:ln>
        </p:spPr>
      </p:pic>
      <p:pic>
        <p:nvPicPr>
          <p:cNvPr id="375" name="Объект 2" descr=""/>
          <p:cNvPicPr/>
          <p:nvPr/>
        </p:nvPicPr>
        <p:blipFill>
          <a:blip r:embed="rId2"/>
          <a:srcRect l="6469" t="10893" r="7726" b="-979"/>
          <a:stretch/>
        </p:blipFill>
        <p:spPr>
          <a:xfrm>
            <a:off x="4427640" y="2924280"/>
            <a:ext cx="42512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4680000" cy="12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Основные детали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и узлы швейной машины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7" name="Объект 8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075280" cy="39924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5003280" y="691920"/>
            <a:ext cx="3816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. Платформа машины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2. Лапка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3. прорези для ниток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4. Регулятор натяжения ниток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5. Нитепритягиватель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6. Устройство для натяжения ниток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7. Штыри для катушек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8. Моталка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9. Маховик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0. Стопорное кольцо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1. Переключатель вида строчек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2. Таблица вида строчек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3. Главный выключатель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4. Клавиша шитья назад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5. Регулятор длины стежка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6. Педаль привода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Подготовка швейной машины к работ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920" y="2060280"/>
            <a:ext cx="4681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амотка нитки на шпульк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1" name="Объект 4" descr=""/>
          <p:cNvPicPr/>
          <p:nvPr/>
        </p:nvPicPr>
        <p:blipFill>
          <a:blip r:embed="rId1"/>
          <a:stretch/>
        </p:blipFill>
        <p:spPr>
          <a:xfrm>
            <a:off x="1116000" y="2997360"/>
            <a:ext cx="684072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Подготовка швейной машины к работ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83" name="Объект 4" descr=""/>
          <p:cNvPicPr/>
          <p:nvPr/>
        </p:nvPicPr>
        <p:blipFill>
          <a:blip r:embed="rId1"/>
          <a:stretch/>
        </p:blipFill>
        <p:spPr>
          <a:xfrm>
            <a:off x="1187280" y="1854360"/>
            <a:ext cx="2737080" cy="43513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Заправка верхней нитки  (обратите внимание  на направление стрелок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Подготовка швейной машины к работ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392904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авка нижней нитки</a:t>
            </a: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7" name="Объект 3" descr=""/>
          <p:cNvPicPr/>
          <p:nvPr/>
        </p:nvPicPr>
        <p:blipFill>
          <a:blip r:embed="rId1"/>
          <a:stretch/>
        </p:blipFill>
        <p:spPr>
          <a:xfrm>
            <a:off x="4572000" y="2924280"/>
            <a:ext cx="3921120" cy="2941560"/>
          </a:xfrm>
          <a:prstGeom prst="rect">
            <a:avLst/>
          </a:prstGeom>
          <a:ln w="0">
            <a:noFill/>
          </a:ln>
        </p:spPr>
      </p:pic>
      <p:pic>
        <p:nvPicPr>
          <p:cNvPr id="388" name="Объект 9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41162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Подготовка швейной машины к работ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1280" y="2315880"/>
            <a:ext cx="6913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дение нижней нитки навер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1" name="Объект 7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6229440" cy="327348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Приемы работы на швейной машин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84000" y="2708280"/>
            <a:ext cx="784836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нь положить под прижимную лапку, повернуть правой рукой маховик на себя, проколоть ткань игл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тить рычаг прижатия лап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жать ногой на педаль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ять ткань так, чтобы намеченная линия строчки находилась под игл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907640" y="2060640"/>
            <a:ext cx="3311640" cy="565200"/>
          </a:xfrm>
          <a:prstGeom prst="rect">
            <a:avLst/>
          </a:prstGeom>
          <a:solidFill>
            <a:srgbClr val="dff7ae"/>
          </a:solidFill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работы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Приемы работы на швейной машин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371304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рот строчк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125960" y="2276280"/>
            <a:ext cx="4333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еред поворот строчки остановить машину (снять ногу с педали),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овернуть рукой маховик на себя и проколоть ткань иглой,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однять рычаг прижатия лапки, повернуть ткань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Снова опустить рычаг прижатия лапк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родолжить строчку в новом направлен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8" name="Объект 6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379728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Повторение по теме «Швейные ручные работы»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0" name="Picture 2" descr="C:\Users\Пользователь\Pictures\81650789_7_Hudlzhnik_Vincente_Romero.jpg"/>
          <p:cNvPicPr/>
          <p:nvPr/>
        </p:nvPicPr>
        <p:blipFill>
          <a:blip r:embed="rId1"/>
          <a:stretch/>
        </p:blipFill>
        <p:spPr>
          <a:xfrm>
            <a:off x="654120" y="1916280"/>
            <a:ext cx="3808440" cy="3890880"/>
          </a:xfrm>
          <a:prstGeom prst="rect">
            <a:avLst/>
          </a:prstGeom>
          <a:ln w="28440">
            <a:solidFill>
              <a:srgbClr val="94c600"/>
            </a:solidFill>
            <a:miter/>
          </a:ln>
        </p:spPr>
      </p:pic>
      <p:sp>
        <p:nvSpPr>
          <p:cNvPr id="341" name=""/>
          <p:cNvSpPr txBox="1"/>
          <p:nvPr/>
        </p:nvSpPr>
        <p:spPr>
          <a:xfrm>
            <a:off x="4645080" y="1557000"/>
            <a:ext cx="3419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ое ниточное соединение двух деталей-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етывани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ое ниточное закрепление подогнутого края-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метывани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хранение  среза детали от осыпания с помощью иглы и нитки-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меты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 стежков, расположенных друг за другом-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чк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ие строчкой слоев материала-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ов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4c600"/>
                </a:solidFill>
                <a:latin typeface="Constantia"/>
              </a:rPr>
              <a:t>Исследование работы регулирующих механизмов швейной машины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4360" y="2315880"/>
            <a:ext cx="3784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ая работа №10, задание 1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041480" y="2975040"/>
            <a:ext cx="341928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страница 126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03280" y="2492280"/>
            <a:ext cx="305604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 швейной машине без нито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645080" y="2975040"/>
            <a:ext cx="341928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качество своей работ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аботы в пара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4" name="Picture 2" descr="C:\Диск 80 гб\Documents and Settings\User\Рабочий стол\Елена\Рисунки и анимация\цифры\4a26a50f4f62366f085593e1d94aa345.gif"/>
          <p:cNvPicPr/>
          <p:nvPr/>
        </p:nvPicPr>
        <p:blipFill>
          <a:blip r:embed="rId1"/>
          <a:stretch/>
        </p:blipFill>
        <p:spPr>
          <a:xfrm>
            <a:off x="2771640" y="4556160"/>
            <a:ext cx="1300320" cy="1106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C:\Диск 80 гб\Documents and Settings\User\Рабочий стол\Елена\Рисунки и анимация\цифры\059dd0ed4e6b5a7fd2920904432c7eb7.gif"/>
          <p:cNvPicPr/>
          <p:nvPr/>
        </p:nvPicPr>
        <p:blipFill>
          <a:blip r:embed="rId2"/>
          <a:stretch/>
        </p:blipFill>
        <p:spPr>
          <a:xfrm>
            <a:off x="971640" y="4478400"/>
            <a:ext cx="1296720" cy="1184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C:\Диск 80 гб\Documents and Settings\User\Рабочий стол\Елена\Рисунки и анимация\цифры\631c6431f3ad3a79a33416ede8365330.gif"/>
          <p:cNvPicPr/>
          <p:nvPr/>
        </p:nvPicPr>
        <p:blipFill>
          <a:blip r:embed="rId3"/>
          <a:stretch/>
        </p:blipFill>
        <p:spPr>
          <a:xfrm>
            <a:off x="4575240" y="4684680"/>
            <a:ext cx="1028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1280" y="10267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4c600"/>
                </a:solidFill>
                <a:latin typeface="Constantia"/>
              </a:rPr>
              <a:t>Исследование работы регулирующих механизмов швейной машины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356868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ая работа №10, задание 2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041480" y="2975040"/>
            <a:ext cx="341928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страница 126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11200" y="2315880"/>
            <a:ext cx="30560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авка швейной машины ниткам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45080" y="2975040"/>
            <a:ext cx="341928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оверь качество своей работ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цените работы в пара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2" name="Picture 2" descr="C:\Диск 80 гб\Documents and Settings\User\Рабочий стол\Елена\Рисунки и анимация\цифры\4a26a50f4f62366f085593e1d94aa345.gif"/>
          <p:cNvPicPr/>
          <p:nvPr/>
        </p:nvPicPr>
        <p:blipFill>
          <a:blip r:embed="rId1"/>
          <a:stretch/>
        </p:blipFill>
        <p:spPr>
          <a:xfrm>
            <a:off x="3203640" y="4797360"/>
            <a:ext cx="1317600" cy="111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C:\Диск 80 гб\Documents and Settings\User\Рабочий стол\Елена\Рисунки и анимация\цифры\059dd0ed4e6b5a7fd2920904432c7eb7.gif"/>
          <p:cNvPicPr/>
          <p:nvPr/>
        </p:nvPicPr>
        <p:blipFill>
          <a:blip r:embed="rId2"/>
          <a:stretch/>
        </p:blipFill>
        <p:spPr>
          <a:xfrm>
            <a:off x="1074600" y="4916520"/>
            <a:ext cx="1121040" cy="1025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C:\Диск 80 гб\Documents and Settings\User\Рабочий стол\Елена\Рисунки и анимация\цифры\631c6431f3ad3a79a33416ede8365330.gif"/>
          <p:cNvPicPr/>
          <p:nvPr/>
        </p:nvPicPr>
        <p:blipFill>
          <a:blip r:embed="rId3"/>
          <a:stretch/>
        </p:blipFill>
        <p:spPr>
          <a:xfrm>
            <a:off x="5076720" y="4956120"/>
            <a:ext cx="8827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" descr="C:\Users\home\Desktop\курсы Армавир\шаблоны для презентаций\Рисунок44.jpg"/>
          <p:cNvPicPr/>
          <p:nvPr/>
        </p:nvPicPr>
        <p:blipFill>
          <a:blip r:embed="rId1"/>
          <a:stretch/>
        </p:blipFill>
        <p:spPr>
          <a:xfrm>
            <a:off x="250920" y="20520"/>
            <a:ext cx="8569080" cy="68551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0246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onstantia"/>
              </a:rPr>
              <a:t>Проверь себ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332000" y="1341360"/>
            <a:ext cx="658800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Выполни задание в рабочей тетради 18-1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а схеме машины расставь цифры, соответствующие её узла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8" name="Picture 6" descr=""/>
          <p:cNvPicPr/>
          <p:nvPr/>
        </p:nvPicPr>
        <p:blipFill>
          <a:blip r:embed="rId2"/>
          <a:srcRect l="31803" t="62138" r="20282" b="8810"/>
          <a:stretch/>
        </p:blipFill>
        <p:spPr>
          <a:xfrm>
            <a:off x="2050920" y="2502000"/>
            <a:ext cx="5443560" cy="4078080"/>
          </a:xfrm>
          <a:prstGeom prst="rect">
            <a:avLst/>
          </a:prstGeom>
          <a:ln w="9360">
            <a:solidFill>
              <a:srgbClr val="3e3d2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42560" y="907560"/>
            <a:ext cx="70246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onstantia"/>
              </a:rPr>
              <a:t>Домашнее зад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9280" y="2313000"/>
            <a:ext cx="39229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3e3d2d"/>
                </a:solidFill>
                <a:uFillTx/>
                <a:latin typeface="Times New Roman"/>
                <a:ea typeface="Times New Roman"/>
              </a:rPr>
              <a:t>Задание для всех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Оформи в портфолио образец , выполненный в ходе лабораторной работы; повтори §19, выполни задание из рабочей тетради 18-4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одготовь швейные инструменты и кусочек хлопчатобумажной ткани для образцов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355640" y="2313000"/>
            <a:ext cx="370836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3e3d2d"/>
                </a:solidFill>
                <a:uFillTx/>
                <a:latin typeface="Times New Roman"/>
                <a:ea typeface="Times New Roman"/>
              </a:rPr>
              <a:t>Задание дополнительное (по желанию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йди информацию и ознакомься с историей швейной машины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дготовь презентацию об истории швейной машины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C:\Диск 80 гб\Documents and Settings\User\Рабочий стол\Елена\Рисунки и анимация\анимация GIF\30.gif"/>
          <p:cNvPicPr/>
          <p:nvPr/>
        </p:nvPicPr>
        <p:blipFill>
          <a:blip r:embed="rId1"/>
          <a:stretch/>
        </p:blipFill>
        <p:spPr>
          <a:xfrm>
            <a:off x="730080" y="3757680"/>
            <a:ext cx="2641680" cy="20653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Диск 80 гб\Documents and Settings\User\Рабочий стол\Елена\Рисунки и анимация\анимация GIF\0058.gif"/>
          <p:cNvPicPr/>
          <p:nvPr/>
        </p:nvPicPr>
        <p:blipFill>
          <a:blip r:embed="rId2"/>
          <a:stretch/>
        </p:blipFill>
        <p:spPr>
          <a:xfrm>
            <a:off x="900000" y="876240"/>
            <a:ext cx="2519640" cy="252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C:\Диск 80 гб\Documents and Settings\User\Рабочий стол\Елена\Рисунки и анимация\анимация GIF\7324520_group_of_bunnies_skipping_lg_nwm.gif"/>
          <p:cNvPicPr/>
          <p:nvPr/>
        </p:nvPicPr>
        <p:blipFill>
          <a:blip r:embed="rId3"/>
          <a:stretch/>
        </p:blipFill>
        <p:spPr>
          <a:xfrm>
            <a:off x="5305320" y="579600"/>
            <a:ext cx="2665440" cy="2665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Диск 80 гб\Documents and Settings\User\Рабочий стол\Елена\Рисунки и анимация\анимация GIF\0057.gif"/>
          <p:cNvPicPr/>
          <p:nvPr/>
        </p:nvPicPr>
        <p:blipFill>
          <a:blip r:embed="rId4"/>
          <a:stretch/>
        </p:blipFill>
        <p:spPr>
          <a:xfrm>
            <a:off x="2522520" y="4005360"/>
            <a:ext cx="5740560" cy="156852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1"/>
          <p:cNvSpPr/>
          <p:nvPr/>
        </p:nvSpPr>
        <p:spPr>
          <a:xfrm>
            <a:off x="539640" y="32446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преодолела все трудност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Прямоугольник 2"/>
          <p:cNvSpPr/>
          <p:nvPr/>
        </p:nvSpPr>
        <p:spPr>
          <a:xfrm>
            <a:off x="5305320" y="308124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меня все получилось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Прямоугольник 6"/>
          <p:cNvSpPr/>
          <p:nvPr/>
        </p:nvSpPr>
        <p:spPr>
          <a:xfrm>
            <a:off x="739800" y="5892840"/>
            <a:ext cx="30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узнала много нового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Прямоугольник 7"/>
          <p:cNvSpPr/>
          <p:nvPr/>
        </p:nvSpPr>
        <p:spPr>
          <a:xfrm>
            <a:off x="5076720" y="5708520"/>
            <a:ext cx="31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не все успела сделать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4c600"/>
                </a:solidFill>
                <a:latin typeface="Constantia"/>
              </a:rPr>
              <a:t>Бытовая швейная машина </a:t>
            </a:r>
            <a:endParaRPr b="0" lang="en-US" sz="43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642920" y="4420800"/>
            <a:ext cx="3673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Каримова Е.Н., Вильман Т.В., МБОУ СОШ №2 им. Адмирала Ушакова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г. Геленджик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32" name="Picture 2" descr="C:\Users\Пользователь\Desktop\уроки 5 класс ФГОС\машина швейная фото\52545_or.jpg"/>
          <p:cNvPicPr/>
          <p:nvPr/>
        </p:nvPicPr>
        <p:blipFill>
          <a:blip r:embed="rId1"/>
          <a:stretch/>
        </p:blipFill>
        <p:spPr>
          <a:xfrm>
            <a:off x="250920" y="836640"/>
            <a:ext cx="3700440" cy="3195720"/>
          </a:xfrm>
          <a:prstGeom prst="rect">
            <a:avLst/>
          </a:prstGeom>
          <a:ln w="28440">
            <a:solidFill>
              <a:srgbClr val="94c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1"/>
          <p:cNvSpPr/>
          <p:nvPr/>
        </p:nvSpPr>
        <p:spPr>
          <a:xfrm>
            <a:off x="900000" y="107460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f9500"/>
                </a:solidFill>
                <a:latin typeface="Constantia"/>
                <a:ea typeface="Times New Roman"/>
              </a:rPr>
              <a:t>Бытовая швейная машина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3" name="Picture 2" descr="C:\Users\Пользователь\Pictures\Slot2_Golden_needle.jpg"/>
          <p:cNvPicPr/>
          <p:nvPr/>
        </p:nvPicPr>
        <p:blipFill>
          <a:blip r:embed="rId1"/>
          <a:stretch/>
        </p:blipFill>
        <p:spPr>
          <a:xfrm>
            <a:off x="179280" y="2421000"/>
            <a:ext cx="4189680" cy="2792520"/>
          </a:xfrm>
          <a:prstGeom prst="rect">
            <a:avLst/>
          </a:prstGeom>
          <a:ln w="0">
            <a:noFill/>
          </a:ln>
        </p:spPr>
      </p:pic>
      <p:pic>
        <p:nvPicPr>
          <p:cNvPr id="344" name="Объект 5" descr=""/>
          <p:cNvPicPr/>
          <p:nvPr/>
        </p:nvPicPr>
        <p:blipFill>
          <a:blip r:embed="rId2"/>
          <a:stretch/>
        </p:blipFill>
        <p:spPr>
          <a:xfrm>
            <a:off x="4368960" y="3284640"/>
            <a:ext cx="44290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4c600"/>
                </a:solidFill>
                <a:latin typeface="Constantia"/>
              </a:rPr>
              <a:t>Первая машина </a:t>
            </a:r>
            <a:br>
              <a:rPr sz="3200"/>
            </a:br>
            <a:r>
              <a:rPr b="1" lang="ru-RU" sz="3200" spc="-1" strike="noStrike">
                <a:solidFill>
                  <a:srgbClr val="94c600"/>
                </a:solidFill>
                <a:latin typeface="Constantia"/>
              </a:rPr>
              <a:t>с челночным механизмом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3848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45 году американец Элиас Хоу получает патент на первую машинку с челночным механизмо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машинка заменяла труд пяти портны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Рисунок 7" descr=""/>
          <p:cNvPicPr/>
          <p:nvPr/>
        </p:nvPicPr>
        <p:blipFill>
          <a:blip r:embed="rId1"/>
          <a:stretch/>
        </p:blipFill>
        <p:spPr>
          <a:xfrm>
            <a:off x="4284720" y="2441520"/>
            <a:ext cx="44733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55640" y="1026720"/>
            <a:ext cx="424836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Найди сходства и различия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9" name="Объект 4" descr=""/>
          <p:cNvPicPr/>
          <p:nvPr/>
        </p:nvPicPr>
        <p:blipFill>
          <a:blip r:embed="rId1"/>
          <a:srcRect l="5402" t="0" r="2577" b="11547"/>
          <a:stretch/>
        </p:blipFill>
        <p:spPr>
          <a:xfrm>
            <a:off x="468360" y="333360"/>
            <a:ext cx="4032360" cy="2906640"/>
          </a:xfrm>
          <a:prstGeom prst="rect">
            <a:avLst/>
          </a:prstGeom>
          <a:ln w="0">
            <a:noFill/>
          </a:ln>
        </p:spPr>
      </p:pic>
      <p:pic>
        <p:nvPicPr>
          <p:cNvPr id="350" name="Объект 4" descr=""/>
          <p:cNvPicPr/>
          <p:nvPr/>
        </p:nvPicPr>
        <p:blipFill>
          <a:blip r:embed="rId2"/>
          <a:srcRect l="21491" t="-1882" r="2823" b="9205"/>
          <a:stretch/>
        </p:blipFill>
        <p:spPr>
          <a:xfrm>
            <a:off x="4500720" y="2349360"/>
            <a:ext cx="4224240" cy="3880080"/>
          </a:xfrm>
          <a:prstGeom prst="rect">
            <a:avLst/>
          </a:prstGeom>
          <a:ln w="0">
            <a:noFill/>
          </a:ln>
        </p:spPr>
      </p:pic>
      <p:pic>
        <p:nvPicPr>
          <p:cNvPr id="351" name="Объект 5" descr=""/>
          <p:cNvPicPr/>
          <p:nvPr/>
        </p:nvPicPr>
        <p:blipFill>
          <a:blip r:embed="rId3"/>
          <a:srcRect l="0" t="4148" r="0" b="6650"/>
          <a:stretch/>
        </p:blipFill>
        <p:spPr>
          <a:xfrm>
            <a:off x="468360" y="3213000"/>
            <a:ext cx="399240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024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onstantia"/>
              </a:rPr>
              <a:t>Виды  приводов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5805360"/>
            <a:ext cx="7632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f16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1f1f16"/>
                </a:solidFill>
                <a:latin typeface="Century Gothic"/>
              </a:rPr>
              <a:t>А) Ручной,               Б) Ножной                 В) Электрический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4" name="Picture 7" descr="сканирование0028"/>
          <p:cNvPicPr/>
          <p:nvPr/>
        </p:nvPicPr>
        <p:blipFill>
          <a:blip r:embed="rId1"/>
          <a:srcRect l="2328" t="6585" r="66644" b="14850"/>
          <a:stretch/>
        </p:blipFill>
        <p:spPr>
          <a:xfrm>
            <a:off x="952560" y="1484280"/>
            <a:ext cx="1911240" cy="3762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сканирование0028"/>
          <p:cNvPicPr/>
          <p:nvPr/>
        </p:nvPicPr>
        <p:blipFill>
          <a:blip r:embed="rId2"/>
          <a:srcRect l="33113" t="4932" r="36796" b="11365"/>
          <a:stretch/>
        </p:blipFill>
        <p:spPr>
          <a:xfrm>
            <a:off x="3419640" y="1557360"/>
            <a:ext cx="1873080" cy="4048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сканирование0028"/>
          <p:cNvPicPr/>
          <p:nvPr/>
        </p:nvPicPr>
        <p:blipFill>
          <a:blip r:embed="rId3"/>
          <a:srcRect l="61210" t="13438" r="7837" b="11732"/>
          <a:stretch/>
        </p:blipFill>
        <p:spPr>
          <a:xfrm>
            <a:off x="5753160" y="1557360"/>
            <a:ext cx="19778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Классификация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швейных  машин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8" name="Объект 5" descr=""/>
          <p:cNvPicPr/>
          <p:nvPr/>
        </p:nvPicPr>
        <p:blipFill>
          <a:blip r:embed="rId1"/>
          <a:stretch/>
        </p:blipFill>
        <p:spPr>
          <a:xfrm>
            <a:off x="1036800" y="2054160"/>
            <a:ext cx="67960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Бытовая универсальная швейная машин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0" name="Объект 6" descr=""/>
          <p:cNvPicPr/>
          <p:nvPr/>
        </p:nvPicPr>
        <p:blipFill>
          <a:blip r:embed="rId1"/>
          <a:srcRect l="2112" t="18398" r="3045" b="16487"/>
          <a:stretch/>
        </p:blipFill>
        <p:spPr>
          <a:xfrm>
            <a:off x="792000" y="2349360"/>
            <a:ext cx="3780000" cy="3243240"/>
          </a:xfrm>
          <a:prstGeom prst="rect">
            <a:avLst/>
          </a:prstGeom>
          <a:ln w="0">
            <a:noFill/>
          </a:ln>
        </p:spPr>
      </p:pic>
      <p:pic>
        <p:nvPicPr>
          <p:cNvPr id="361" name="Объект 7" descr=""/>
          <p:cNvPicPr/>
          <p:nvPr/>
        </p:nvPicPr>
        <p:blipFill>
          <a:blip r:embed="rId2"/>
          <a:srcRect l="13079" t="0" r="11487" b="0"/>
          <a:stretch/>
        </p:blipFill>
        <p:spPr>
          <a:xfrm>
            <a:off x="4716360" y="2637000"/>
            <a:ext cx="34560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Краеобметочная машина оверл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3" name="Объект 4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49640" cy="3510000"/>
          </a:xfrm>
          <a:prstGeom prst="rect">
            <a:avLst/>
          </a:prstGeom>
          <a:ln w="0">
            <a:noFill/>
          </a:ln>
        </p:spPr>
      </p:pic>
      <p:pic>
        <p:nvPicPr>
          <p:cNvPr id="364" name="Объект 5" descr=""/>
          <p:cNvPicPr/>
          <p:nvPr/>
        </p:nvPicPr>
        <p:blipFill>
          <a:blip r:embed="rId2"/>
          <a:stretch/>
        </p:blipFill>
        <p:spPr>
          <a:xfrm>
            <a:off x="4356000" y="3284640"/>
            <a:ext cx="41324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21:02:37Z</dcterms:created>
  <dc:creator>Пользователь</dc:creator>
  <dc:description/>
  <dc:language>en-US</dc:language>
  <cp:lastModifiedBy>home</cp:lastModifiedBy>
  <dcterms:modified xsi:type="dcterms:W3CDTF">2014-03-10T10:48:21Z</dcterms:modified>
  <cp:revision>51</cp:revision>
  <dc:subject/>
  <dc:title>Бытовая швейная машина</dc:title>
</cp:coreProperties>
</file>