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gif" ContentType="image/gif"/>
  <Override PartName="/ppt/media/image13.png" ContentType="image/pn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30.gif" ContentType="image/gif"/>
  <Override PartName="/ppt/media/image26.jpeg" ContentType="image/jpeg"/>
  <Override PartName="/ppt/media/image5.jpeg" ContentType="image/jpeg"/>
  <Override PartName="/ppt/media/image9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7.jpeg" ContentType="image/jpeg"/>
  <Override PartName="/ppt/media/image28.jpeg" ContentType="image/jpeg"/>
  <Override PartName="/ppt/media/image11.jpeg" ContentType="image/jpeg"/>
  <Override PartName="/ppt/media/image31.gif" ContentType="image/gif"/>
  <Override PartName="/ppt/media/image1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32.gif" ContentType="image/gif"/>
  <Override PartName="/ppt/media/image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0A8-28FE-4312-A6B8-9074B09F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557-36D0-4E5E-9044-E4C29E7D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1E9-37B3-4FAC-A5DD-32A4E2AA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FA4-E7F6-4ABD-A01D-3B422A68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3E3F-E140-41B1-B92C-D0512BDF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79D7-3330-4FF2-BEB5-9B371F78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D89D-5F36-4294-B9F8-09123A63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F122-8F2A-43B2-BF64-E64EA019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1184-52BC-4267-8B13-7EF44296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8D8A-5127-43F0-9DC8-1878D295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689E-5694-40C9-AB04-DBED28E6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7B5-89CE-4891-92D0-13D0FCAF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5B7B-2362-499A-B62E-B2B4B3EC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4012-F992-4D60-B24B-F3DC5965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BB6C-6B09-46FA-81E2-5509C087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453B-CA1B-4152-A381-F7012155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77D7-A479-444D-B202-7392A06E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0EE98-3E6C-4355-ABB8-5C449943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A2D54-DF44-43C7-896C-906E77F3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8D3F4-447A-46EF-A68F-A9AEC0A1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4802F-D231-47F8-9680-B6C4DEA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85120-14B1-406D-A061-8F30BD0F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DA3-5800-47C4-A336-EAB911A1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86235-E308-4867-AA99-922E6197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FC696-25D6-4E8B-BAD0-6C0480E7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9579B-A94E-40FB-A296-5687774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AC862-AAEE-4428-91A4-5C2420AC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B3010-CEC3-45C4-A4CC-4BF71F2F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356DB-41C9-4363-A193-6AD7442C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570FB-E3AD-42FC-8F9D-25D26AC6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10C4-4B03-4753-A259-AE7CB670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20DD-05C5-4B0B-ADE8-70801AF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8B37-A7CD-4ECF-BD9C-FA78C43A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A36-29BE-4ABA-A787-C2FB1B34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22D0-8E98-420A-9345-7D9128F3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5FFD-7BCD-45C6-BAFC-95621278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8CC2-B58D-468C-873E-9E4A7B93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976F-2F85-44A3-AC6B-1BBCD810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3813-DF6F-41FA-965E-5E1B3C98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B4E30-F741-4741-BBFA-F340B412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A6BC-44BE-4B38-9E7C-9684CE61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79BB4-6BB3-4C83-9673-C8C4B02C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56291-D606-432E-9A39-B79E5E70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15B-B5E9-491D-A753-E7442CD6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6A8-B001-4AEF-9E57-E69D6F90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6BE-CBB3-476C-8560-BC47906E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75B-A047-4DE4-9278-1520127B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0CE-33AA-45A3-813F-C70FB5A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E8FB-49F3-4C53-B044-B26C6A4A8B30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CA83-1D25-475E-BDFB-7B5FD2E48D76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CA06-AE73-402A-8436-EB5964E95649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753A-5957-4C1C-8821-5992B7E221F8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Диск 80 гб\Documents and Settings\User\Рабочий стол\Елена\Рисунки и анимация\анимация GIF\30.gif"/>
          <p:cNvPicPr/>
          <p:nvPr/>
        </p:nvPicPr>
        <p:blipFill>
          <a:blip r:embed="rId1"/>
          <a:stretch/>
        </p:blipFill>
        <p:spPr>
          <a:xfrm>
            <a:off x="730080" y="3757680"/>
            <a:ext cx="2641680" cy="2065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C:\Диск 80 гб\Documents and Settings\User\Рабочий стол\Елена\Рисунки и анимация\анимация GIF\0058.gif"/>
          <p:cNvPicPr/>
          <p:nvPr/>
        </p:nvPicPr>
        <p:blipFill>
          <a:blip r:embed="rId2"/>
          <a:stretch/>
        </p:blipFill>
        <p:spPr>
          <a:xfrm>
            <a:off x="900000" y="87624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C:\Диск 80 гб\Documents and Settings\User\Рабочий стол\Елена\Рисунки и анимация\анимация GIF\7324520_group_of_bunnies_skipping_lg_nwm.gif"/>
          <p:cNvPicPr/>
          <p:nvPr/>
        </p:nvPicPr>
        <p:blipFill>
          <a:blip r:embed="rId3"/>
          <a:stretch/>
        </p:blipFill>
        <p:spPr>
          <a:xfrm>
            <a:off x="5305320" y="579600"/>
            <a:ext cx="2665440" cy="2665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C:\Диск 80 гб\Documents and Settings\User\Рабочий стол\Елена\Рисунки и анимация\анимация GIF\0057.gif"/>
          <p:cNvPicPr/>
          <p:nvPr/>
        </p:nvPicPr>
        <p:blipFill>
          <a:blip r:embed="rId4"/>
          <a:stretch/>
        </p:blipFill>
        <p:spPr>
          <a:xfrm>
            <a:off x="2522520" y="4005360"/>
            <a:ext cx="5740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0246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Вышивальные машин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6" name="Объект 8" descr=""/>
          <p:cNvPicPr/>
          <p:nvPr/>
        </p:nvPicPr>
        <p:blipFill>
          <a:blip r:embed="rId1"/>
          <a:stretch/>
        </p:blipFill>
        <p:spPr>
          <a:xfrm>
            <a:off x="4356000" y="2565360"/>
            <a:ext cx="4608720" cy="3456000"/>
          </a:xfrm>
          <a:prstGeom prst="rect">
            <a:avLst/>
          </a:prstGeom>
          <a:ln w="19080">
            <a:solidFill>
              <a:srgbClr val="94c600"/>
            </a:solidFill>
            <a:miter/>
          </a:ln>
        </p:spPr>
      </p:pic>
      <p:pic>
        <p:nvPicPr>
          <p:cNvPr id="367" name="Объект 7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078080" cy="3330720"/>
          </a:xfrm>
          <a:prstGeom prst="rect">
            <a:avLst/>
          </a:prstGeom>
          <a:ln w="19080">
            <a:solidFill>
              <a:srgbClr val="94c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Правила безопасной работ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1280" y="2349000"/>
            <a:ext cx="3851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еред началом работы на швейной машине волосы убрать под косынку, одежду застегнуть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Убрать от машины посторонние предметы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о время работы не наклоняться близко к движущимся и вращающимся частям машины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44720" y="2312640"/>
            <a:ext cx="388764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е держать пальцы близко около движущейся иглы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Утолщенные места прошивать на пониженной скор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и появлении запаха гари и дыма вынуть вилку из розетки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сле работы выключить машину, опустить иглу и лапку, подложив под них кусочек ткани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1" name="Picture 2" descr="C:\Диск 80 гб\Documents and Settings\User\Рабочий стол\Елена\Рисунки и анимация\анимация GIF\nice[1].gif"/>
          <p:cNvPicPr/>
          <p:nvPr/>
        </p:nvPicPr>
        <p:blipFill>
          <a:blip r:embed="rId1"/>
          <a:stretch/>
        </p:blipFill>
        <p:spPr>
          <a:xfrm rot="20403000">
            <a:off x="326520" y="1628280"/>
            <a:ext cx="1729080" cy="96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Диск 80 гб\Documents and Settings\User\Рабочий стол\Елена\Рисунки и анимация\анимация GIF\nice[1].gif"/>
          <p:cNvPicPr/>
          <p:nvPr/>
        </p:nvPicPr>
        <p:blipFill>
          <a:blip r:embed="rId2"/>
          <a:stretch/>
        </p:blipFill>
        <p:spPr>
          <a:xfrm flipH="1" rot="1166400">
            <a:off x="6778440" y="1735200"/>
            <a:ext cx="1800000" cy="102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02468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Назовите известные вам детали и узлы швейной машины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4" name="Объект 6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184640" cy="3495600"/>
          </a:xfrm>
          <a:prstGeom prst="rect">
            <a:avLst/>
          </a:prstGeom>
          <a:ln w="0">
            <a:noFill/>
          </a:ln>
        </p:spPr>
      </p:pic>
      <p:pic>
        <p:nvPicPr>
          <p:cNvPr id="375" name="Объект 2" descr=""/>
          <p:cNvPicPr/>
          <p:nvPr/>
        </p:nvPicPr>
        <p:blipFill>
          <a:blip r:embed="rId2"/>
          <a:srcRect l="6469" t="10893" r="7726" b="-979"/>
          <a:stretch/>
        </p:blipFill>
        <p:spPr>
          <a:xfrm>
            <a:off x="4427640" y="2924280"/>
            <a:ext cx="42512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468000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Основные детали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и узлы швейной машины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7" name="Объект 8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075280" cy="3992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5003280" y="691920"/>
            <a:ext cx="38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. Платформа машины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. Лапк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3. прорези для нито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4. Регулятор натяжения нито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5. Нитепритягиватель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6. Устройство для натяжения нито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7. Штыри для катуше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8. Моталк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9. Махови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0. Стопорное кольцо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1. Переключатель вида строче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2. Таблица вида строче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3. Главный выключатель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4. Клавиша шитья назад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5. Регулятор длины стежк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6. Педаль привод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дготовка швейной машины к работ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920" y="2060280"/>
            <a:ext cx="4681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мотка нитки на шпульк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Объект 4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68407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дготовка швейной машины к работ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3" name="Объект 4" descr=""/>
          <p:cNvPicPr/>
          <p:nvPr/>
        </p:nvPicPr>
        <p:blipFill>
          <a:blip r:embed="rId1"/>
          <a:stretch/>
        </p:blipFill>
        <p:spPr>
          <a:xfrm>
            <a:off x="1187280" y="1854360"/>
            <a:ext cx="2737080" cy="4351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Заправка верхней нитки  (обратите внимание  на направление стрелок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дготовка швейной машины к работ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392904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авка нижней нитки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7" name="Объект 3" descr=""/>
          <p:cNvPicPr/>
          <p:nvPr/>
        </p:nvPicPr>
        <p:blipFill>
          <a:blip r:embed="rId1"/>
          <a:stretch/>
        </p:blipFill>
        <p:spPr>
          <a:xfrm>
            <a:off x="4572000" y="2924280"/>
            <a:ext cx="3921120" cy="2941560"/>
          </a:xfrm>
          <a:prstGeom prst="rect">
            <a:avLst/>
          </a:prstGeom>
          <a:ln w="0">
            <a:noFill/>
          </a:ln>
        </p:spPr>
      </p:pic>
      <p:pic>
        <p:nvPicPr>
          <p:cNvPr id="388" name="Объект 9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1162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дготовка швейной машины к работ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1280" y="2315880"/>
            <a:ext cx="6913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дение нижней нитки навер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1" name="Объект 7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6229440" cy="32734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риемы работы на швейной машин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4000" y="2708280"/>
            <a:ext cx="784836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положить под прижимную лапку, повернуть правой рукой маховик на себя, проколоть ткань игл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ть рычаг прижатия лап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жать ногой на педаль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ть ткань так, чтобы намеченная линия строчки находилась под игл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907640" y="2060640"/>
            <a:ext cx="3311640" cy="565200"/>
          </a:xfrm>
          <a:prstGeom prst="rect">
            <a:avLst/>
          </a:prstGeom>
          <a:solidFill>
            <a:srgbClr val="dff7ae"/>
          </a:solidFill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работы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риемы работы на швейной машин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37130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от строчк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125960" y="2276280"/>
            <a:ext cx="4333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еред поворот строчки остановить машину (снять ногу с педали)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вернуть рукой маховик на себя и проколоть ткань иглой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днять рычаг прижатия лапки, повернуть ткань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нова опустить рычаг прижатия лапк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одолжить строчку в новом направлен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8" name="Объект 6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7972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вторение по теме «Швейные ручные работы»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0" name="Picture 2" descr="C:\Users\Пользователь\Pictures\81650789_7_Hudlzhnik_Vincente_Romero.jpg"/>
          <p:cNvPicPr/>
          <p:nvPr/>
        </p:nvPicPr>
        <p:blipFill>
          <a:blip r:embed="rId1"/>
          <a:stretch/>
        </p:blipFill>
        <p:spPr>
          <a:xfrm>
            <a:off x="654120" y="1916280"/>
            <a:ext cx="3808440" cy="3890880"/>
          </a:xfrm>
          <a:prstGeom prst="rect">
            <a:avLst/>
          </a:prstGeom>
          <a:ln w="28440">
            <a:solidFill>
              <a:srgbClr val="94c600"/>
            </a:solidFill>
            <a:miter/>
          </a:ln>
        </p:spPr>
      </p:pic>
      <p:sp>
        <p:nvSpPr>
          <p:cNvPr id="341" name=""/>
          <p:cNvSpPr txBox="1"/>
          <p:nvPr/>
        </p:nvSpPr>
        <p:spPr>
          <a:xfrm>
            <a:off x="4645080" y="1557000"/>
            <a:ext cx="3419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ниточное соединение двух деталей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тывани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ниточное закрепление подогнутого края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тывани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хранение  среза детали от осыпания с помощью иглы и нитки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меты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стежков, расположенных друг за другом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чк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е строчкой слоев материала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ов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4c600"/>
                </a:solidFill>
                <a:latin typeface="Constantia"/>
              </a:rPr>
              <a:t>Исследование работы регулирующих механизмов швейной машины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4360" y="2315880"/>
            <a:ext cx="3784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ая работа №10, задание 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041480" y="2975040"/>
            <a:ext cx="3419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страница 12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3280" y="2492280"/>
            <a:ext cx="30560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 швейной машине без нито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45080" y="2975040"/>
            <a:ext cx="3419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качество своей рабо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аботы в пара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4" name="Picture 2" descr="C:\Диск 80 гб\Documents and Settings\User\Рабочий стол\Елена\Рисунки и анимация\цифры\4a26a50f4f62366f085593e1d94aa345.gif"/>
          <p:cNvPicPr/>
          <p:nvPr/>
        </p:nvPicPr>
        <p:blipFill>
          <a:blip r:embed="rId1"/>
          <a:stretch/>
        </p:blipFill>
        <p:spPr>
          <a:xfrm>
            <a:off x="2771640" y="4556160"/>
            <a:ext cx="1300320" cy="1106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Диск 80 гб\Documents and Settings\User\Рабочий стол\Елена\Рисунки и анимация\цифры\059dd0ed4e6b5a7fd2920904432c7eb7.gif"/>
          <p:cNvPicPr/>
          <p:nvPr/>
        </p:nvPicPr>
        <p:blipFill>
          <a:blip r:embed="rId2"/>
          <a:stretch/>
        </p:blipFill>
        <p:spPr>
          <a:xfrm>
            <a:off x="971640" y="4478400"/>
            <a:ext cx="1296720" cy="1184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C:\Диск 80 гб\Documents and Settings\User\Рабочий стол\Елена\Рисунки и анимация\цифры\631c6431f3ad3a79a33416ede8365330.gif"/>
          <p:cNvPicPr/>
          <p:nvPr/>
        </p:nvPicPr>
        <p:blipFill>
          <a:blip r:embed="rId3"/>
          <a:stretch/>
        </p:blipFill>
        <p:spPr>
          <a:xfrm>
            <a:off x="4575240" y="4684680"/>
            <a:ext cx="1028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1280" y="10267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4c600"/>
                </a:solidFill>
                <a:latin typeface="Constantia"/>
              </a:rPr>
              <a:t>Исследование работы регулирующих механизмов швейной машины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356868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ая работа №10, задание 2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41480" y="2975040"/>
            <a:ext cx="3419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страница 12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11200" y="2315880"/>
            <a:ext cx="30560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авка швейной машины ниткам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45080" y="2975040"/>
            <a:ext cx="3419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оверь качество своей рабо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цените работы в пара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2" name="Picture 2" descr="C:\Диск 80 гб\Documents and Settings\User\Рабочий стол\Елена\Рисунки и анимация\цифры\4a26a50f4f62366f085593e1d94aa345.gif"/>
          <p:cNvPicPr/>
          <p:nvPr/>
        </p:nvPicPr>
        <p:blipFill>
          <a:blip r:embed="rId1"/>
          <a:stretch/>
        </p:blipFill>
        <p:spPr>
          <a:xfrm>
            <a:off x="3203640" y="4797360"/>
            <a:ext cx="1317600" cy="111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Диск 80 гб\Documents and Settings\User\Рабочий стол\Елена\Рисунки и анимация\цифры\059dd0ed4e6b5a7fd2920904432c7eb7.gif"/>
          <p:cNvPicPr/>
          <p:nvPr/>
        </p:nvPicPr>
        <p:blipFill>
          <a:blip r:embed="rId2"/>
          <a:stretch/>
        </p:blipFill>
        <p:spPr>
          <a:xfrm>
            <a:off x="1074600" y="4916520"/>
            <a:ext cx="1121040" cy="1025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Диск 80 гб\Documents and Settings\User\Рабочий стол\Елена\Рисунки и анимация\цифры\631c6431f3ad3a79a33416ede8365330.gif"/>
          <p:cNvPicPr/>
          <p:nvPr/>
        </p:nvPicPr>
        <p:blipFill>
          <a:blip r:embed="rId3"/>
          <a:stretch/>
        </p:blipFill>
        <p:spPr>
          <a:xfrm>
            <a:off x="5076720" y="4956120"/>
            <a:ext cx="882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C:\Users\home\Desktop\курсы Армавир\шаблоны для презентаций\Рисунок44.jpg"/>
          <p:cNvPicPr/>
          <p:nvPr/>
        </p:nvPicPr>
        <p:blipFill>
          <a:blip r:embed="rId1"/>
          <a:stretch/>
        </p:blipFill>
        <p:spPr>
          <a:xfrm>
            <a:off x="250920" y="20520"/>
            <a:ext cx="8569080" cy="68551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Проверь себ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332000" y="1341360"/>
            <a:ext cx="65880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ыполни задание в рабочей тетради 18-1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 схеме машины расставь цифры, соответствующие её узла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2"/>
          <a:srcRect l="31803" t="62138" r="20282" b="8810"/>
          <a:stretch/>
        </p:blipFill>
        <p:spPr>
          <a:xfrm>
            <a:off x="2050920" y="2502000"/>
            <a:ext cx="5443560" cy="4078080"/>
          </a:xfrm>
          <a:prstGeom prst="rect">
            <a:avLst/>
          </a:prstGeom>
          <a:ln w="9360">
            <a:solidFill>
              <a:srgbClr val="3e3d2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90756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Домашнее зад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9280" y="2313000"/>
            <a:ext cx="39229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Задание для всех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форми в портфолио образец , выполненный в ходе лабораторной работы; повтори §19, выполни задание из рабочей тетради 18-4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дготовь швейные инструменты и кусочек хлопчатобумажной ткани для образцов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355640" y="2313000"/>
            <a:ext cx="370836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Задание дополнительное (по желанию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йди информацию и ознакомься с историей швейной машины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готовь презентацию об истории швейной машины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C:\Диск 80 гб\Documents and Settings\User\Рабочий стол\Елена\Рисунки и анимация\анимация GIF\30.gif"/>
          <p:cNvPicPr/>
          <p:nvPr/>
        </p:nvPicPr>
        <p:blipFill>
          <a:blip r:embed="rId1"/>
          <a:stretch/>
        </p:blipFill>
        <p:spPr>
          <a:xfrm>
            <a:off x="730080" y="3757680"/>
            <a:ext cx="2641680" cy="2065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Диск 80 гб\Documents and Settings\User\Рабочий стол\Елена\Рисунки и анимация\анимация GIF\0058.gif"/>
          <p:cNvPicPr/>
          <p:nvPr/>
        </p:nvPicPr>
        <p:blipFill>
          <a:blip r:embed="rId2"/>
          <a:stretch/>
        </p:blipFill>
        <p:spPr>
          <a:xfrm>
            <a:off x="900000" y="87624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Диск 80 гб\Documents and Settings\User\Рабочий стол\Елена\Рисунки и анимация\анимация GIF\7324520_group_of_bunnies_skipping_lg_nwm.gif"/>
          <p:cNvPicPr/>
          <p:nvPr/>
        </p:nvPicPr>
        <p:blipFill>
          <a:blip r:embed="rId3"/>
          <a:stretch/>
        </p:blipFill>
        <p:spPr>
          <a:xfrm>
            <a:off x="5305320" y="579600"/>
            <a:ext cx="2665440" cy="2665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Диск 80 гб\Documents and Settings\User\Рабочий стол\Елена\Рисунки и анимация\анимация GIF\0057.gif"/>
          <p:cNvPicPr/>
          <p:nvPr/>
        </p:nvPicPr>
        <p:blipFill>
          <a:blip r:embed="rId4"/>
          <a:stretch/>
        </p:blipFill>
        <p:spPr>
          <a:xfrm>
            <a:off x="2522520" y="4005360"/>
            <a:ext cx="5740560" cy="15685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1"/>
          <p:cNvSpPr/>
          <p:nvPr/>
        </p:nvSpPr>
        <p:spPr>
          <a:xfrm>
            <a:off x="539640" y="32446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преодолела все труднос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5305320" y="308124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меня все получилос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Прямоугольник 6"/>
          <p:cNvSpPr/>
          <p:nvPr/>
        </p:nvSpPr>
        <p:spPr>
          <a:xfrm>
            <a:off x="739800" y="589284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узнала много новог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Прямоугольник 7"/>
          <p:cNvSpPr/>
          <p:nvPr/>
        </p:nvSpPr>
        <p:spPr>
          <a:xfrm>
            <a:off x="5076720" y="5708520"/>
            <a:ext cx="31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е все успела сделат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4c600"/>
                </a:solidFill>
                <a:latin typeface="Constantia"/>
              </a:rPr>
              <a:t>Бытовая швейная машина 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642920" y="4420800"/>
            <a:ext cx="367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Каримова Е.Н., Вильман Т.В., МБОУ СОШ №2 им. Адмирала Ушакова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г. Геленджик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32" name="Picture 2" descr="C:\Users\Пользователь\Desktop\уроки 5 класс ФГОС\машина швейная фото\52545_or.jpg"/>
          <p:cNvPicPr/>
          <p:nvPr/>
        </p:nvPicPr>
        <p:blipFill>
          <a:blip r:embed="rId1"/>
          <a:stretch/>
        </p:blipFill>
        <p:spPr>
          <a:xfrm>
            <a:off x="250920" y="836640"/>
            <a:ext cx="3700440" cy="3195720"/>
          </a:xfrm>
          <a:prstGeom prst="rect">
            <a:avLst/>
          </a:prstGeom>
          <a:ln w="28440">
            <a:solidFill>
              <a:srgbClr val="94c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900000" y="107460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f9500"/>
                </a:solidFill>
                <a:latin typeface="Constantia"/>
                <a:ea typeface="Times New Roman"/>
              </a:rPr>
              <a:t>Бытовая швейная машина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3" name="Picture 2" descr="C:\Users\Пользователь\Pictures\Slot2_Golden_needle.jpg"/>
          <p:cNvPicPr/>
          <p:nvPr/>
        </p:nvPicPr>
        <p:blipFill>
          <a:blip r:embed="rId1"/>
          <a:stretch/>
        </p:blipFill>
        <p:spPr>
          <a:xfrm>
            <a:off x="179280" y="2421000"/>
            <a:ext cx="4189680" cy="2792520"/>
          </a:xfrm>
          <a:prstGeom prst="rect">
            <a:avLst/>
          </a:prstGeom>
          <a:ln w="0">
            <a:noFill/>
          </a:ln>
        </p:spPr>
      </p:pic>
      <p:pic>
        <p:nvPicPr>
          <p:cNvPr id="344" name="Объект 5" descr=""/>
          <p:cNvPicPr/>
          <p:nvPr/>
        </p:nvPicPr>
        <p:blipFill>
          <a:blip r:embed="rId2"/>
          <a:stretch/>
        </p:blipFill>
        <p:spPr>
          <a:xfrm>
            <a:off x="4368960" y="3284640"/>
            <a:ext cx="4429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4c600"/>
                </a:solidFill>
                <a:latin typeface="Constantia"/>
              </a:rPr>
              <a:t>Первая машина </a:t>
            </a:r>
            <a:br>
              <a:rPr sz="3200"/>
            </a:br>
            <a:r>
              <a:rPr b="1" lang="ru-RU" sz="3200" spc="-1" strike="noStrike">
                <a:solidFill>
                  <a:srgbClr val="94c600"/>
                </a:solidFill>
                <a:latin typeface="Constantia"/>
              </a:rPr>
              <a:t>с челночным механизмом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3848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45 году американец Элиас Хоу получает патент на первую машинку с челночным механизмо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машинка заменяла труд пяти портны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Рисунок 7" descr=""/>
          <p:cNvPicPr/>
          <p:nvPr/>
        </p:nvPicPr>
        <p:blipFill>
          <a:blip r:embed="rId1"/>
          <a:stretch/>
        </p:blipFill>
        <p:spPr>
          <a:xfrm>
            <a:off x="4284720" y="2441520"/>
            <a:ext cx="44733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55640" y="1026720"/>
            <a:ext cx="424836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Найди сходства и различия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9" name="Объект 4" descr=""/>
          <p:cNvPicPr/>
          <p:nvPr/>
        </p:nvPicPr>
        <p:blipFill>
          <a:blip r:embed="rId1"/>
          <a:srcRect l="5402" t="0" r="2577" b="11547"/>
          <a:stretch/>
        </p:blipFill>
        <p:spPr>
          <a:xfrm>
            <a:off x="468360" y="333360"/>
            <a:ext cx="4032360" cy="2906640"/>
          </a:xfrm>
          <a:prstGeom prst="rect">
            <a:avLst/>
          </a:prstGeom>
          <a:ln w="0">
            <a:noFill/>
          </a:ln>
        </p:spPr>
      </p:pic>
      <p:pic>
        <p:nvPicPr>
          <p:cNvPr id="350" name="Объект 4" descr=""/>
          <p:cNvPicPr/>
          <p:nvPr/>
        </p:nvPicPr>
        <p:blipFill>
          <a:blip r:embed="rId2"/>
          <a:srcRect l="21491" t="-1882" r="2823" b="9205"/>
          <a:stretch/>
        </p:blipFill>
        <p:spPr>
          <a:xfrm>
            <a:off x="4500720" y="2349360"/>
            <a:ext cx="4224240" cy="3880080"/>
          </a:xfrm>
          <a:prstGeom prst="rect">
            <a:avLst/>
          </a:prstGeom>
          <a:ln w="0">
            <a:noFill/>
          </a:ln>
        </p:spPr>
      </p:pic>
      <p:pic>
        <p:nvPicPr>
          <p:cNvPr id="351" name="Объект 5" descr=""/>
          <p:cNvPicPr/>
          <p:nvPr/>
        </p:nvPicPr>
        <p:blipFill>
          <a:blip r:embed="rId3"/>
          <a:srcRect l="0" t="4148" r="0" b="6650"/>
          <a:stretch/>
        </p:blipFill>
        <p:spPr>
          <a:xfrm>
            <a:off x="468360" y="3213000"/>
            <a:ext cx="39924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onstantia"/>
              </a:rPr>
              <a:t>Виды  приводов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580536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16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1f1f16"/>
                </a:solidFill>
                <a:latin typeface="Century Gothic"/>
              </a:rPr>
              <a:t>А) Ручной,               Б) Ножной                 В) Электрический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4" name="Picture 7" descr="сканирование0028"/>
          <p:cNvPicPr/>
          <p:nvPr/>
        </p:nvPicPr>
        <p:blipFill>
          <a:blip r:embed="rId1"/>
          <a:srcRect l="2328" t="6585" r="66644" b="14850"/>
          <a:stretch/>
        </p:blipFill>
        <p:spPr>
          <a:xfrm>
            <a:off x="952560" y="1484280"/>
            <a:ext cx="1911240" cy="3762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сканирование0028"/>
          <p:cNvPicPr/>
          <p:nvPr/>
        </p:nvPicPr>
        <p:blipFill>
          <a:blip r:embed="rId2"/>
          <a:srcRect l="33113" t="4932" r="36796" b="11365"/>
          <a:stretch/>
        </p:blipFill>
        <p:spPr>
          <a:xfrm>
            <a:off x="3419640" y="1557360"/>
            <a:ext cx="1873080" cy="4048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сканирование0028"/>
          <p:cNvPicPr/>
          <p:nvPr/>
        </p:nvPicPr>
        <p:blipFill>
          <a:blip r:embed="rId3"/>
          <a:srcRect l="61210" t="13438" r="7837" b="11732"/>
          <a:stretch/>
        </p:blipFill>
        <p:spPr>
          <a:xfrm>
            <a:off x="5753160" y="1557360"/>
            <a:ext cx="19778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Классификация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швейных  маши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8" name="Объект 5" descr=""/>
          <p:cNvPicPr/>
          <p:nvPr/>
        </p:nvPicPr>
        <p:blipFill>
          <a:blip r:embed="rId1"/>
          <a:stretch/>
        </p:blipFill>
        <p:spPr>
          <a:xfrm>
            <a:off x="1036800" y="2054160"/>
            <a:ext cx="6796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Бытовая универсальная швейная машин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0" name="Объект 6" descr=""/>
          <p:cNvPicPr/>
          <p:nvPr/>
        </p:nvPicPr>
        <p:blipFill>
          <a:blip r:embed="rId1"/>
          <a:srcRect l="2112" t="18398" r="3045" b="16487"/>
          <a:stretch/>
        </p:blipFill>
        <p:spPr>
          <a:xfrm>
            <a:off x="792000" y="2349360"/>
            <a:ext cx="3780000" cy="3243240"/>
          </a:xfrm>
          <a:prstGeom prst="rect">
            <a:avLst/>
          </a:prstGeom>
          <a:ln w="0">
            <a:noFill/>
          </a:ln>
        </p:spPr>
      </p:pic>
      <p:pic>
        <p:nvPicPr>
          <p:cNvPr id="361" name="Объект 7" descr=""/>
          <p:cNvPicPr/>
          <p:nvPr/>
        </p:nvPicPr>
        <p:blipFill>
          <a:blip r:embed="rId2"/>
          <a:srcRect l="13079" t="0" r="11487" b="0"/>
          <a:stretch/>
        </p:blipFill>
        <p:spPr>
          <a:xfrm>
            <a:off x="4716360" y="2637000"/>
            <a:ext cx="3456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Краеобметочная машина оверл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3" name="Объект 4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49640" cy="3510000"/>
          </a:xfrm>
          <a:prstGeom prst="rect">
            <a:avLst/>
          </a:prstGeom>
          <a:ln w="0">
            <a:noFill/>
          </a:ln>
        </p:spPr>
      </p:pic>
      <p:pic>
        <p:nvPicPr>
          <p:cNvPr id="364" name="Объект 5" descr=""/>
          <p:cNvPicPr/>
          <p:nvPr/>
        </p:nvPicPr>
        <p:blipFill>
          <a:blip r:embed="rId2"/>
          <a:stretch/>
        </p:blipFill>
        <p:spPr>
          <a:xfrm>
            <a:off x="4356000" y="3284640"/>
            <a:ext cx="41324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21:02:37Z</dcterms:created>
  <dc:creator>Пользователь</dc:creator>
  <dc:description/>
  <dc:language>en-US</dc:language>
  <cp:lastModifiedBy>home</cp:lastModifiedBy>
  <dcterms:modified xsi:type="dcterms:W3CDTF">2014-03-10T10:48:21Z</dcterms:modified>
  <cp:revision>51</cp:revision>
  <dc:subject/>
  <dc:title>Бытовая швейная машина</dc:title>
</cp:coreProperties>
</file>