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9B1-DD6A-4134-A267-774CE21C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F19-7FB5-44CD-B719-C9DBA47C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CF5-B4A9-4D99-9397-A80A1A18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9BA-40AC-4D2D-ABA7-BD45479F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3ED6-249E-487A-AAD6-C97EA70A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FC01-288A-4F0C-84A4-5E64879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5884-F0FD-416D-B71E-94183580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7052-4C2F-43F2-AF65-D1E6DF91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24D0-8F42-4E10-B5F7-5CEA4E36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5B8-2B8E-4D68-8EE8-07F8318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A4E-6CAF-4C0E-9F68-95C21B30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B64-C2FE-49CF-9A42-8B52F4E8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4CB-6DBD-45DB-B7AF-35BB1648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A2C-26C1-49CC-AD4A-840CBC61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8D8A-E563-4B0E-8B9B-526B24A4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AC2-E9DD-4031-A51F-9864B84D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5A4C-F697-469B-9100-570E9013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8C8-E856-422B-A2EA-B877A8AB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754-0829-4119-90F0-7F8C20C6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350-5348-4046-8908-1D90ACF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2BA-390B-40B8-BD06-A1B06C49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1F3-9B7F-44EC-AF0A-5658BB4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E00-CA16-4010-95FF-1AE95DA5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D57-48B7-4D6D-BFAF-41E622F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E580-0D28-4AF6-A569-5C8D44810E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F476-D075-4A0B-8656-DAB3ADEF6B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4608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и неделимы и ц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рней  и приставок в них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льзя отыскать в них морфем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в этом их главный сек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Рисунок1"/>
          <p:cNvPicPr/>
          <p:nvPr/>
        </p:nvPicPr>
        <p:blipFill>
          <a:blip r:embed="rId1"/>
          <a:stretch/>
        </p:blipFill>
        <p:spPr>
          <a:xfrm>
            <a:off x="5181480" y="2637000"/>
            <a:ext cx="3711600" cy="3886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50920" y="476280"/>
            <a:ext cx="871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Каким частям речи посвящается ур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50920" y="571680"/>
            <a:ext cx="88930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  …ночи пробира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лег Иван собра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 … улице ид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 картошку …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ля достиг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… боки подпир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кочкой … п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м входит … балаг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 – прежнему стоя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й …  … быва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 – горб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вертелся но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Слова для спра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У, к, вот, на, с, и, по, лишь, словно, но, в, и, не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SO01063_"/>
          <p:cNvPicPr/>
          <p:nvPr/>
        </p:nvPicPr>
        <p:blipFill>
          <a:blip r:embed="rId1"/>
          <a:stretch/>
        </p:blipFill>
        <p:spPr>
          <a:xfrm>
            <a:off x="5796000" y="47628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79280" y="404640"/>
            <a:ext cx="6048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короткий рассказ по теме нашего урока, использ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юзы:</a:t>
            </a:r>
            <a:r>
              <a:rPr b="0" lang="ru-RU" sz="1800" spc="-1" strike="noStrike">
                <a:solidFill>
                  <a:srgbClr val="3e03b5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и, но, потому что, если, то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едлоги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ля, без, от, п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стицы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а как, ну вот, ли, даже, 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2F2"/>
          <p:cNvPicPr/>
          <p:nvPr/>
        </p:nvPicPr>
        <p:blipFill>
          <a:blip r:embed="rId1"/>
          <a:stretch/>
        </p:blipFill>
        <p:spPr>
          <a:xfrm>
            <a:off x="6588000" y="692280"/>
            <a:ext cx="2232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3"/>
          <p:cNvSpPr txBox="1"/>
          <p:nvPr/>
        </p:nvSpPr>
        <p:spPr>
          <a:xfrm>
            <a:off x="380880" y="990720"/>
            <a:ext cx="80773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 за  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0" name="Picture 4" descr="69"/>
          <p:cNvPicPr/>
          <p:nvPr/>
        </p:nvPicPr>
        <p:blipFill>
          <a:blip r:embed="rId1"/>
          <a:stretch/>
        </p:blipFill>
        <p:spPr>
          <a:xfrm>
            <a:off x="5715000" y="403848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J0199609"/>
          <p:cNvPicPr/>
          <p:nvPr/>
        </p:nvPicPr>
        <p:blipFill>
          <a:blip r:embed="rId1"/>
          <a:stretch/>
        </p:blipFill>
        <p:spPr>
          <a:xfrm>
            <a:off x="826920" y="476280"/>
            <a:ext cx="1818000" cy="1555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J0200279"/>
          <p:cNvPicPr/>
          <p:nvPr/>
        </p:nvPicPr>
        <p:blipFill>
          <a:blip r:embed="rId2"/>
          <a:stretch/>
        </p:blipFill>
        <p:spPr>
          <a:xfrm>
            <a:off x="7093080" y="4437000"/>
            <a:ext cx="163512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6" descr=""/>
          <p:cNvPicPr/>
          <p:nvPr/>
        </p:nvPicPr>
        <p:blipFill>
          <a:blip r:embed="rId3"/>
          <a:stretch/>
        </p:blipFill>
        <p:spPr>
          <a:xfrm>
            <a:off x="0" y="2071800"/>
            <a:ext cx="835812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6676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280" y="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Arial"/>
              </a:rPr>
              <a:t>Загад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9280" y="15652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предложении на служ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падежом всегда он в дружб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него показыв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слова все связы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3563640" y="57315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AG00030_"/>
          <p:cNvPicPr/>
          <p:nvPr/>
        </p:nvPicPr>
        <p:blipFill>
          <a:blip r:embed="rId1"/>
          <a:stretch/>
        </p:blipFill>
        <p:spPr>
          <a:xfrm>
            <a:off x="7093080" y="2276640"/>
            <a:ext cx="1979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19120" y="657360"/>
            <a:ext cx="7940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единять и связывать стараю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равных и неравных в нужный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я совсем не повторяю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повторяюсь мног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10800000">
            <a:off x="5919840" y="6109200"/>
            <a:ext cx="29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AG00317_"/>
          <p:cNvPicPr/>
          <p:nvPr/>
        </p:nvPicPr>
        <p:blipFill>
          <a:blip r:embed="rId1"/>
          <a:stretch/>
        </p:blipFill>
        <p:spPr>
          <a:xfrm>
            <a:off x="6910560" y="571680"/>
            <a:ext cx="22334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anm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оттенки придавать значенья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усилить их без напряж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помочь я форм образовань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гда Глагол на службу призовё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гу вообще подвергнуть отрица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ё то, что кто-нибудь произнес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то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6495840" y="5964840"/>
            <a:ext cx="22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D00019_"/>
          <p:cNvPicPr/>
          <p:nvPr/>
        </p:nvPicPr>
        <p:blipFill>
          <a:blip r:embed="rId1"/>
          <a:stretch/>
        </p:blipFill>
        <p:spPr>
          <a:xfrm>
            <a:off x="0" y="1557360"/>
            <a:ext cx="3419640" cy="3719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3780000" y="1125360"/>
            <a:ext cx="511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самостоятель-ные части речи вам известн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5280" y="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равы ли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31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47840" y="836640"/>
            <a:ext cx="830088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амостоятельные части ре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е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076720" y="1413000"/>
            <a:ext cx="865440" cy="4895640"/>
          </a:xfrm>
          <a:custGeom>
            <a:avLst/>
            <a:gdLst>
              <a:gd name="textAreaLeft" fmla="*/ 0 w 865440"/>
              <a:gd name="textAreaRight" fmla="*/ 312480 w 865440"/>
              <a:gd name="textAreaTop" fmla="*/ 127440 h 4895640"/>
              <a:gd name="textAreaBottom" fmla="*/ 4768200 h 48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796000" y="1557360"/>
            <a:ext cx="334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се они являются членами предложе -  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4071960" y="0"/>
            <a:ext cx="4714920" cy="271476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самостоятельные и 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000080" y="2828880"/>
            <a:ext cx="66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не русская речь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от как музыка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у! Слово звучит, поёт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нем дышит душою русскою         Создатель его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народ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_980c_38665306_L"/>
          <p:cNvPicPr/>
          <p:nvPr/>
        </p:nvPicPr>
        <p:blipFill>
          <a:blip r:embed="rId1"/>
          <a:stretch/>
        </p:blipFill>
        <p:spPr>
          <a:xfrm>
            <a:off x="-571680" y="-928800"/>
            <a:ext cx="18154800" cy="1368432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8"/>
          <p:cNvSpPr/>
          <p:nvPr/>
        </p:nvSpPr>
        <p:spPr>
          <a:xfrm>
            <a:off x="1176480" y="0"/>
            <a:ext cx="7967520" cy="6837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 rot="20333400">
            <a:off x="3718440" y="25999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49236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 rot="20025600">
            <a:off x="3734280" y="5295960"/>
            <a:ext cx="14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 flipV="1" rot="10239000">
            <a:off x="4916160" y="53762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66"/>
                </a:solidFill>
                <a:latin typeface="Arial"/>
              </a:rPr>
              <a:t>пред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 flipH="1" rot="16776600">
            <a:off x="6180840" y="4982760"/>
            <a:ext cx="7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 flipV="1" rot="11269200">
            <a:off x="4787640" y="126684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 rot="1755000">
            <a:off x="1931400" y="2916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мя 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 rot="19874400">
            <a:off x="1789560" y="230796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002200" y="404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flipH="1" rot="17770800">
            <a:off x="7388640" y="1455840"/>
            <a:ext cx="17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епричас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 rot="18084000">
            <a:off x="6991920" y="368676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тегория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 flipH="1" rot="14265600">
            <a:off x="1575720" y="4187880"/>
            <a:ext cx="15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Междометие и звукоподраж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25"/>
          <p:cNvSpPr txBox="1"/>
          <p:nvPr/>
        </p:nvSpPr>
        <p:spPr>
          <a:xfrm>
            <a:off x="1979640" y="5891040"/>
            <a:ext cx="471492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fcb1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лев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fcb1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30"/>
          <p:cNvSpPr txBox="1"/>
          <p:nvPr/>
        </p:nvSpPr>
        <p:spPr>
          <a:xfrm rot="5400000">
            <a:off x="-2506680" y="3019320"/>
            <a:ext cx="65246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орфолог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2:06:08Z</dcterms:created>
  <dc:creator>1</dc:creator>
  <dc:description/>
  <dc:language>en-US</dc:language>
  <cp:lastModifiedBy>JUK</cp:lastModifiedBy>
  <dcterms:modified xsi:type="dcterms:W3CDTF">2016-01-21T19:24:35Z</dcterms:modified>
  <cp:revision>29</cp:revision>
  <dc:subject/>
  <dc:title>Слайд 1</dc:title>
</cp:coreProperties>
</file>