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4.png" ContentType="image/png"/>
  <Override PartName="/ppt/media/image5.gif" ContentType="image/gif"/>
  <Override PartName="/ppt/media/image8.wmf" ContentType="image/x-wm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7A22-5DBE-4E12-985F-47FA810BB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86F2-1B88-4F59-8055-7D1FD827F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495F-2F89-4F7F-B467-07ECAE441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304E-2237-405F-A30B-77796FD04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B650F-220B-45A9-8537-ECCE5E382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068E4-D371-4AE8-9121-7A2F007CD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883DD-C168-448E-ABED-CA1620083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A27D5-F04A-43D2-9833-67AB70ECF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98F39-0D2B-40E7-8373-C20C07F8F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7E2FF-781A-4661-BCAB-C0C1553A9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73D6B-8956-4DAD-9E3D-C85CB37A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53A6-717C-4338-A936-FBB4B4A82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7EEBD-C9FB-4211-8BEB-639C6F57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C2C92-398D-4696-A090-B475E397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03D93-6132-44F3-AA7E-9A1CE9502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B3B1E-12DB-4179-9F7C-EB9771B58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32DDF-7476-4DA1-AB61-EC397BCCB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6004-CD69-4861-A803-10C348140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A6B2-48CA-4377-949C-8D602629B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F01B-641D-4A7A-A222-4016E36AD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042C-D4FE-4A32-91A4-2F17A7288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6D0C-1AEB-4E2F-99F7-0B563F91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593E-AF0E-44A4-A518-DCD5ECB5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4BE9-8675-4302-8BE5-28BA7883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4D47C-F379-4C04-B6F8-D55EA85F62A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B3B78-9241-4EAA-8371-44BE316DA22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1628280"/>
            <a:ext cx="4608720" cy="496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ни неделимы и цел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орней  и приставок в них 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ельзя отыскать в них морфемы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 в этом их главный секр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Рисунок1"/>
          <p:cNvPicPr/>
          <p:nvPr/>
        </p:nvPicPr>
        <p:blipFill>
          <a:blip r:embed="rId1"/>
          <a:stretch/>
        </p:blipFill>
        <p:spPr>
          <a:xfrm>
            <a:off x="5181480" y="2637000"/>
            <a:ext cx="3711600" cy="38862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250920" y="476280"/>
            <a:ext cx="87138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cc00"/>
                </a:solidFill>
                <a:latin typeface="Arial"/>
              </a:rPr>
              <a:t>Каким частям речи посвящается урок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4"/>
          <p:cNvSpPr/>
          <p:nvPr/>
        </p:nvSpPr>
        <p:spPr>
          <a:xfrm>
            <a:off x="250920" y="571680"/>
            <a:ext cx="889308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чер  …ночи пробирал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члег Иван собрал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доль … улице ид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 картошку … по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поля достига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и … боки подпира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 …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кочкой … па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ком входит … балага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по – прежнему стоял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ей …  … бывал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ушка – горбун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 вертелся ног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Слова для справо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У, к, вот, на, с, и, по, лишь, словно, но, в, и, не, к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SO01063_"/>
          <p:cNvPicPr/>
          <p:nvPr/>
        </p:nvPicPr>
        <p:blipFill>
          <a:blip r:embed="rId1"/>
          <a:stretch/>
        </p:blipFill>
        <p:spPr>
          <a:xfrm>
            <a:off x="5796000" y="476280"/>
            <a:ext cx="360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179280" y="404640"/>
            <a:ext cx="604836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ставьте короткий рассказ по теме нашего урока, использу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оюзы:</a:t>
            </a:r>
            <a:r>
              <a:rPr b="0" lang="ru-RU" sz="1800" spc="-1" strike="noStrike">
                <a:solidFill>
                  <a:srgbClr val="3e03b5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3e03b5"/>
                </a:solidFill>
                <a:latin typeface="Arial"/>
              </a:rPr>
              <a:t>и, но, потому что, если, тож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редлоги:</a:t>
            </a:r>
            <a:r>
              <a:rPr b="1" lang="ru-RU" sz="4000" spc="-1" strike="noStrike">
                <a:solidFill>
                  <a:srgbClr val="3e03b5"/>
                </a:solidFill>
                <a:latin typeface="Arial"/>
              </a:rPr>
              <a:t> для, без, от, пр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Частицы:</a:t>
            </a:r>
            <a:r>
              <a:rPr b="1" lang="ru-RU" sz="4000" spc="-1" strike="noStrike">
                <a:solidFill>
                  <a:srgbClr val="3e03b5"/>
                </a:solidFill>
                <a:latin typeface="Arial"/>
              </a:rPr>
              <a:t> да как, ну вот, ли, даже, н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2F2"/>
          <p:cNvPicPr/>
          <p:nvPr/>
        </p:nvPicPr>
        <p:blipFill>
          <a:blip r:embed="rId1"/>
          <a:stretch/>
        </p:blipFill>
        <p:spPr>
          <a:xfrm>
            <a:off x="6588000" y="692280"/>
            <a:ext cx="2232000" cy="54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3"/>
          <p:cNvSpPr txBox="1"/>
          <p:nvPr/>
        </p:nvSpPr>
        <p:spPr>
          <a:xfrm>
            <a:off x="380880" y="990720"/>
            <a:ext cx="807732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3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асибо   за   работу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50" name="Picture 4" descr="69"/>
          <p:cNvPicPr/>
          <p:nvPr/>
        </p:nvPicPr>
        <p:blipFill>
          <a:blip r:embed="rId1"/>
          <a:stretch/>
        </p:blipFill>
        <p:spPr>
          <a:xfrm>
            <a:off x="5715000" y="4038480"/>
            <a:ext cx="28195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4"/>
          <p:cNvSpPr/>
          <p:nvPr/>
        </p:nvSpPr>
        <p:spPr>
          <a:xfrm>
            <a:off x="108000" y="115920"/>
            <a:ext cx="0" cy="662616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9144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6"/>
          <p:cNvSpPr/>
          <p:nvPr/>
        </p:nvSpPr>
        <p:spPr>
          <a:xfrm>
            <a:off x="9036000" y="115920"/>
            <a:ext cx="0" cy="662616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7"/>
          <p:cNvSpPr/>
          <p:nvPr/>
        </p:nvSpPr>
        <p:spPr>
          <a:xfrm>
            <a:off x="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108000" y="189000"/>
            <a:ext cx="8928000" cy="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108000" y="6669000"/>
            <a:ext cx="8928000" cy="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0" descr="J0199609"/>
          <p:cNvPicPr/>
          <p:nvPr/>
        </p:nvPicPr>
        <p:blipFill>
          <a:blip r:embed="rId1"/>
          <a:stretch/>
        </p:blipFill>
        <p:spPr>
          <a:xfrm>
            <a:off x="826920" y="476280"/>
            <a:ext cx="1818000" cy="1555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J0200279"/>
          <p:cNvPicPr/>
          <p:nvPr/>
        </p:nvPicPr>
        <p:blipFill>
          <a:blip r:embed="rId2"/>
          <a:stretch/>
        </p:blipFill>
        <p:spPr>
          <a:xfrm>
            <a:off x="7093080" y="4437000"/>
            <a:ext cx="1635120" cy="1847880"/>
          </a:xfrm>
          <a:prstGeom prst="rect">
            <a:avLst/>
          </a:prstGeom>
          <a:ln w="0">
            <a:noFill/>
          </a:ln>
        </p:spPr>
      </p:pic>
      <p:pic>
        <p:nvPicPr>
          <p:cNvPr id="107" name="WordArt 6" descr=""/>
          <p:cNvPicPr/>
          <p:nvPr/>
        </p:nvPicPr>
        <p:blipFill>
          <a:blip r:embed="rId3"/>
          <a:stretch/>
        </p:blipFill>
        <p:spPr>
          <a:xfrm>
            <a:off x="0" y="2071800"/>
            <a:ext cx="8358120" cy="210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1166760" y="712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95280" y="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99"/>
                </a:solidFill>
                <a:latin typeface="Arial"/>
              </a:rPr>
              <a:t>Загадки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179280" y="1565280"/>
            <a:ext cx="89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В предложении на служб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С падежом всегда он в дружбе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На него показыва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И слова все связывает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Это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 rot="10800000">
            <a:off x="3563640" y="573156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редл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1" descr="AG00030_"/>
          <p:cNvPicPr/>
          <p:nvPr/>
        </p:nvPicPr>
        <p:blipFill>
          <a:blip r:embed="rId1"/>
          <a:stretch/>
        </p:blipFill>
        <p:spPr>
          <a:xfrm>
            <a:off x="7093080" y="2276640"/>
            <a:ext cx="19796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519120" y="657360"/>
            <a:ext cx="79405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бъединять и связывать стараюс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Я равных и неравных в нужный ча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рою я совсем не повторяюсь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рою повторяюсь много ра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Это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 rot="10800000">
            <a:off x="5919840" y="6109200"/>
            <a:ext cx="29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ою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AG00317_"/>
          <p:cNvPicPr/>
          <p:nvPr/>
        </p:nvPicPr>
        <p:blipFill>
          <a:blip r:embed="rId1"/>
          <a:stretch/>
        </p:blipFill>
        <p:spPr>
          <a:xfrm>
            <a:off x="6910560" y="571680"/>
            <a:ext cx="2233440" cy="35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8" descr="anm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4"/>
          <p:cNvSpPr/>
          <p:nvPr/>
        </p:nvSpPr>
        <p:spPr>
          <a:xfrm>
            <a:off x="0" y="0"/>
            <a:ext cx="914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Могу оттенки придавать значеньям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Могу усилить их без напряжень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Могу помочь я форм образованью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огда Глагол на службу призовёт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Могу вообще подвергнуть отрицань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сё то, что кто-нибудь произнесё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Это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 rot="10800000">
            <a:off x="6495840" y="5964840"/>
            <a:ext cx="22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част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9ed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ED00019_"/>
          <p:cNvPicPr/>
          <p:nvPr/>
        </p:nvPicPr>
        <p:blipFill>
          <a:blip r:embed="rId1"/>
          <a:stretch/>
        </p:blipFill>
        <p:spPr>
          <a:xfrm>
            <a:off x="0" y="1557360"/>
            <a:ext cx="3419640" cy="37195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7"/>
          <p:cNvSpPr/>
          <p:nvPr/>
        </p:nvSpPr>
        <p:spPr>
          <a:xfrm>
            <a:off x="3780000" y="1125360"/>
            <a:ext cx="511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Какие самостоятель-ные части речи вам известны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59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395280" y="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Arial"/>
              </a:rPr>
              <a:t>Правы ли вы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231840" y="1504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447840" y="836640"/>
            <a:ext cx="8300880" cy="55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Самостоятельные части реч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мя существитель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мя прилагатель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мя числитель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стоим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ла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час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епричас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реч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тегория состоя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8"/>
          <p:cNvSpPr/>
          <p:nvPr/>
        </p:nvSpPr>
        <p:spPr>
          <a:xfrm>
            <a:off x="5076720" y="1413000"/>
            <a:ext cx="865440" cy="4895640"/>
          </a:xfrm>
          <a:custGeom>
            <a:avLst/>
            <a:gdLst>
              <a:gd name="textAreaLeft" fmla="*/ 0 w 865440"/>
              <a:gd name="textAreaRight" fmla="*/ 312480 w 865440"/>
              <a:gd name="textAreaTop" fmla="*/ 127440 h 4895640"/>
              <a:gd name="textAreaBottom" fmla="*/ 4768200 h 48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796000" y="1557360"/>
            <a:ext cx="3348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Все они являются членами предложе -  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4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5"/>
          <p:cNvSpPr/>
          <p:nvPr/>
        </p:nvSpPr>
        <p:spPr>
          <a:xfrm>
            <a:off x="4071960" y="0"/>
            <a:ext cx="4714920" cy="2714760"/>
          </a:xfrm>
          <a:prstGeom prst="wedgeEllipseCallout">
            <a:avLst>
              <a:gd name="adj1" fmla="val -51018"/>
              <a:gd name="adj2" fmla="val 7793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йдите самостоятельные и служебные части ре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3"/>
          <p:cNvSpPr/>
          <p:nvPr/>
        </p:nvSpPr>
        <p:spPr>
          <a:xfrm>
            <a:off x="1000080" y="2828880"/>
            <a:ext cx="6643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Мне русская речь </a:t>
            </a:r>
            <a:r>
              <a:rPr b="1" lang="ru-RU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–</a:t>
            </a:r>
            <a:r>
              <a:rPr b="1" lang="ru-RU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вот как музыка.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Чу! Слово звучит, поёт.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 нем дышит душою русскою         Создатель его </a:t>
            </a:r>
            <a:r>
              <a:rPr b="1" lang="ru-RU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–</a:t>
            </a:r>
            <a:r>
              <a:rPr b="1" lang="ru-RU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народ</a:t>
            </a:r>
            <a:r>
              <a:rPr b="1" lang="ru-RU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…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8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0_980c_38665306_L"/>
          <p:cNvPicPr/>
          <p:nvPr/>
        </p:nvPicPr>
        <p:blipFill>
          <a:blip r:embed="rId1"/>
          <a:stretch/>
        </p:blipFill>
        <p:spPr>
          <a:xfrm>
            <a:off x="-571680" y="-928800"/>
            <a:ext cx="18154800" cy="13684320"/>
          </a:xfrm>
          <a:prstGeom prst="rect">
            <a:avLst/>
          </a:prstGeom>
          <a:ln w="0">
            <a:noFill/>
          </a:ln>
        </p:spPr>
      </p:pic>
      <p:sp>
        <p:nvSpPr>
          <p:cNvPr id="130" name="Freeform 8"/>
          <p:cNvSpPr/>
          <p:nvPr/>
        </p:nvSpPr>
        <p:spPr>
          <a:xfrm>
            <a:off x="1176480" y="0"/>
            <a:ext cx="7967520" cy="68374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0"/>
          <p:cNvSpPr/>
          <p:nvPr/>
        </p:nvSpPr>
        <p:spPr>
          <a:xfrm rot="20333400">
            <a:off x="3718440" y="2599920"/>
            <a:ext cx="307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Имя существи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3492360" y="429264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ffff"/>
                </a:solidFill>
                <a:latin typeface="Arial"/>
              </a:rPr>
              <a:t>гла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2"/>
          <p:cNvSpPr/>
          <p:nvPr/>
        </p:nvSpPr>
        <p:spPr>
          <a:xfrm rot="20025600">
            <a:off x="3734280" y="5295960"/>
            <a:ext cx="14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части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3"/>
          <p:cNvSpPr/>
          <p:nvPr/>
        </p:nvSpPr>
        <p:spPr>
          <a:xfrm flipV="1" rot="10239000">
            <a:off x="4916160" y="537624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0066"/>
                </a:solidFill>
                <a:latin typeface="Arial"/>
              </a:rPr>
              <a:t>пред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4"/>
          <p:cNvSpPr/>
          <p:nvPr/>
        </p:nvSpPr>
        <p:spPr>
          <a:xfrm flipH="1" rot="16776600">
            <a:off x="6180840" y="4982760"/>
            <a:ext cx="75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ю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5"/>
          <p:cNvSpPr/>
          <p:nvPr/>
        </p:nvSpPr>
        <p:spPr>
          <a:xfrm flipV="1" rot="11269200">
            <a:off x="4787640" y="1266840"/>
            <a:ext cx="338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Имя прилага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6"/>
          <p:cNvSpPr/>
          <p:nvPr/>
        </p:nvSpPr>
        <p:spPr>
          <a:xfrm rot="1755000">
            <a:off x="1931400" y="291600"/>
            <a:ext cx="237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Имя  числи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8"/>
          <p:cNvSpPr/>
          <p:nvPr/>
        </p:nvSpPr>
        <p:spPr>
          <a:xfrm rot="19874400">
            <a:off x="1789560" y="2307960"/>
            <a:ext cx="13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нареч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9"/>
          <p:cNvSpPr/>
          <p:nvPr/>
        </p:nvSpPr>
        <p:spPr>
          <a:xfrm>
            <a:off x="5002200" y="40464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Arial"/>
              </a:rPr>
              <a:t>причас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0"/>
          <p:cNvSpPr/>
          <p:nvPr/>
        </p:nvSpPr>
        <p:spPr>
          <a:xfrm flipH="1" rot="17770800">
            <a:off x="7388640" y="1455840"/>
            <a:ext cx="173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деепричаст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1"/>
          <p:cNvSpPr/>
          <p:nvPr/>
        </p:nvSpPr>
        <p:spPr>
          <a:xfrm rot="18084000">
            <a:off x="6991920" y="3686760"/>
            <a:ext cx="16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Категория состоя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3"/>
          <p:cNvSpPr/>
          <p:nvPr/>
        </p:nvSpPr>
        <p:spPr>
          <a:xfrm flipH="1" rot="14265600">
            <a:off x="1575720" y="4187880"/>
            <a:ext cx="1517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Arial"/>
              </a:rPr>
              <a:t>Междометие и звукоподражан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WordArt 25"/>
          <p:cNvSpPr txBox="1"/>
          <p:nvPr/>
        </p:nvSpPr>
        <p:spPr>
          <a:xfrm>
            <a:off x="1979640" y="5891040"/>
            <a:ext cx="4714920" cy="9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2fcb1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ролевств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2fcb1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" name="WordArt 30"/>
          <p:cNvSpPr txBox="1"/>
          <p:nvPr/>
        </p:nvSpPr>
        <p:spPr>
          <a:xfrm rot="5400000">
            <a:off x="-2506680" y="3019320"/>
            <a:ext cx="6524640" cy="1152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морфология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8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77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5" dur="77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7" dur="77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9" dur="77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77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6" dur="770" fill="hold"/>
                                        <p:tgtEl>
                                          <p:spTgt spid="1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8" dur="77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0" dur="77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8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8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77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9" dur="77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1" dur="77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3" dur="77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1T12:06:08Z</dcterms:created>
  <dc:creator>1</dc:creator>
  <dc:description/>
  <dc:language>en-US</dc:language>
  <cp:lastModifiedBy>JUK</cp:lastModifiedBy>
  <dcterms:modified xsi:type="dcterms:W3CDTF">2016-01-21T19:24:35Z</dcterms:modified>
  <cp:revision>29</cp:revision>
  <dc:subject/>
  <dc:title>Слайд 1</dc:title>
</cp:coreProperties>
</file>