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B1BE-BCBA-448C-AC50-74CBA93A2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CD48-9AC7-4AE2-96F0-D63092FC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5E9E-6E78-439A-8BC5-76AFCA82C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39A8-93CB-4B6A-AAFB-A8C111BB9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8287-277A-4EA4-A8C2-72B43FB509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CD66-9146-43B9-BD68-C1F965AF1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5FD6-811C-47E4-AFF0-660B27386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F9E9-C14B-4AD2-AEDB-CFD895FAE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CE32-7A48-464A-8CE9-78577C93D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4D17-D64C-404E-8C26-EA6463DD3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2449-7D90-4046-B144-0965C6248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A2D6-485D-44DC-B9BF-48ADBFA0C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76D2-BFA8-43CC-8C38-541E3DC6B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255A-BEA4-4AD5-92E5-9F7AC6F65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B13F-C12A-43A9-93D2-1B8F12E81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45A0-D977-4CD9-9666-8669A986DF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ACFD-6D06-481F-BDD9-E4AA1386E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C323-D2DF-4AAA-AC2F-5328CA37B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239D-7611-49C0-9A45-39B7F5873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EB0C-E80C-47F9-840D-9C864AB42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8197-AEE6-45EC-BDD1-1BD58EC43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0355-818E-458C-A079-FD460437C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9549-02DD-4D39-B7C4-D2E39FAE4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6210-7767-4A00-969E-5F2F6F585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65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200" cy="6854400"/>
            <a:chOff x="0" y="0"/>
            <a:chExt cx="9142200" cy="6854400"/>
          </a:xfrm>
        </p:grpSpPr>
        <p:sp>
          <p:nvSpPr>
            <p:cNvPr id="1" name="AutoShape 2"/>
            <p:cNvSpPr/>
            <p:nvPr/>
          </p:nvSpPr>
          <p:spPr>
            <a:xfrm>
              <a:off x="0" y="18720"/>
              <a:ext cx="9139320" cy="519444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5194440"/>
                <a:gd name="textAreaBottom" fmla="*/ 5194800 h 519444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76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236160" y="0"/>
              <a:ext cx="8902800" cy="5146920"/>
            </a:xfrm>
            <a:custGeom>
              <a:avLst/>
              <a:gdLst>
                <a:gd name="textAreaLeft" fmla="*/ 0 w 8902800"/>
                <a:gd name="textAreaRight" fmla="*/ 8903160 w 8902800"/>
                <a:gd name="textAreaTop" fmla="*/ 0 h 5146920"/>
                <a:gd name="textAreaBottom" fmla="*/ 5147280 h 514692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0" y="5448600"/>
              <a:ext cx="6409080" cy="302760"/>
            </a:xfrm>
            <a:custGeom>
              <a:avLst/>
              <a:gdLst>
                <a:gd name="textAreaLeft" fmla="*/ 0 w 6409080"/>
                <a:gd name="textAreaRight" fmla="*/ 6409440 w 6409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07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409080" y="5676840"/>
              <a:ext cx="2729880" cy="102600"/>
            </a:xfrm>
            <a:custGeom>
              <a:avLst/>
              <a:gdLst>
                <a:gd name="textAreaLeft" fmla="*/ 0 w 2729880"/>
                <a:gd name="textAreaRight" fmla="*/ 2730240 w 2729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0" y="5913360"/>
              <a:ext cx="7593120" cy="521640"/>
            </a:xfrm>
            <a:custGeom>
              <a:avLst/>
              <a:gdLst>
                <a:gd name="textAreaLeft" fmla="*/ 0 w 7593120"/>
                <a:gd name="textAreaRight" fmla="*/ 7593480 w 7593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7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593120" y="58752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744160" y="6054480"/>
              <a:ext cx="3394800" cy="313920"/>
            </a:xfrm>
            <a:custGeom>
              <a:avLst/>
              <a:gdLst>
                <a:gd name="textAreaLeft" fmla="*/ 0 w 3394800"/>
                <a:gd name="textAreaRight" fmla="*/ 3395160 w 3394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6302160"/>
              <a:ext cx="5744160" cy="552240"/>
            </a:xfrm>
            <a:custGeom>
              <a:avLst/>
              <a:gdLst>
                <a:gd name="textAreaLeft" fmla="*/ 0 w 5744160"/>
                <a:gd name="textAreaRight" fmla="*/ 5744520 w 57441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328200" y="6416640"/>
              <a:ext cx="3990240" cy="4377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910560" y="61401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e9c08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7983720" y="500076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2358360"/>
              <a:ext cx="7983720" cy="2651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2651760"/>
                <a:gd name="textAreaBottom" fmla="*/ 2652120 h 26517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983720" y="4838760"/>
              <a:ext cx="1155240" cy="5047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1453320"/>
              <a:ext cx="7983720" cy="3470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3470760"/>
                <a:gd name="textAreaBottom" fmla="*/ 3471120 h 347076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641040" y="0"/>
              <a:ext cx="5013720" cy="4324320"/>
            </a:xfrm>
            <a:custGeom>
              <a:avLst/>
              <a:gdLst>
                <a:gd name="textAreaLeft" fmla="*/ 0 w 5013720"/>
                <a:gd name="textAreaRight" fmla="*/ 5014080 w 5013720"/>
                <a:gd name="textAreaTop" fmla="*/ 0 h 4324320"/>
                <a:gd name="textAreaBottom" fmla="*/ 4324320 h 432432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e6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626680" y="428796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f9f0f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8693280" y="4107240"/>
              <a:ext cx="445680" cy="53172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94840" y="0"/>
              <a:ext cx="4950360" cy="4249800"/>
            </a:xfrm>
            <a:custGeom>
              <a:avLst/>
              <a:gdLst>
                <a:gd name="textAreaLeft" fmla="*/ 0 w 4950360"/>
                <a:gd name="textAreaRight" fmla="*/ 4950720 w 4950360"/>
                <a:gd name="textAreaTop" fmla="*/ 0 h 4249800"/>
                <a:gd name="textAreaBottom" fmla="*/ 4250160 h 424980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8929800" y="402156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939200" y="0"/>
              <a:ext cx="3990240" cy="40215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021560"/>
                <a:gd name="textAreaBottom" fmla="*/ 4021920 h 402156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94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5536080" y="0"/>
              <a:ext cx="3488760" cy="3935880"/>
            </a:xfrm>
            <a:custGeom>
              <a:avLst/>
              <a:gdLst>
                <a:gd name="textAreaLeft" fmla="*/ 0 w 3488760"/>
                <a:gd name="textAreaRight" fmla="*/ 3489120 w 3488760"/>
                <a:gd name="textAreaTop" fmla="*/ 0 h 3935880"/>
                <a:gd name="textAreaBottom" fmla="*/ 3936240 h 393588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9006120" y="392652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d1a217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893440" y="1348920"/>
              <a:ext cx="245520" cy="819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105760" y="0"/>
              <a:ext cx="909360" cy="16534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480"/>
                <a:gd name="textAreaBottom" fmla="*/ 1653840 h 165348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588520" y="0"/>
              <a:ext cx="541080" cy="1263240"/>
            </a:xfrm>
            <a:custGeom>
              <a:avLst/>
              <a:gdLst>
                <a:gd name="textAreaLeft" fmla="*/ 0 w 541080"/>
                <a:gd name="textAreaRight" fmla="*/ 54108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9044280" y="1036440"/>
              <a:ext cx="94680" cy="4932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2880" y="2540880"/>
              <a:ext cx="9129960" cy="295812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958120"/>
                <a:gd name="textAreaBottom" fmla="*/ 2958480 h 295812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9133200" y="5527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2880" y="3415320"/>
              <a:ext cx="9129960" cy="21218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121840"/>
                <a:gd name="textAreaBottom" fmla="*/ 2122200 h 212184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2880" y="5042160"/>
              <a:ext cx="9129960" cy="6566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656640"/>
                <a:gd name="textAreaBottom" fmla="*/ 656640 h 65664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058480" y="0"/>
              <a:ext cx="7074360" cy="5042160"/>
            </a:xfrm>
            <a:custGeom>
              <a:avLst/>
              <a:gdLst>
                <a:gd name="textAreaLeft" fmla="*/ 0 w 7074360"/>
                <a:gd name="textAreaRight" fmla="*/ 7074720 w 707436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34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5271120" y="0"/>
              <a:ext cx="3861720" cy="414828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6269400" y="0"/>
              <a:ext cx="2863440" cy="391068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0680"/>
                <a:gd name="textAreaBottom" fmla="*/ 3911040 h 391068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7172640" y="0"/>
              <a:ext cx="1960200" cy="329148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1480"/>
                <a:gd name="textAreaBottom" fmla="*/ 3291840 h 329148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6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7450200" y="0"/>
              <a:ext cx="1682640" cy="30722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072240"/>
                <a:gd name="textAreaBottom" fmla="*/ 3072600 h 307224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7905960" y="0"/>
              <a:ext cx="1226880" cy="235980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59800"/>
                <a:gd name="textAreaBottom" fmla="*/ 2360160 h 235980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1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8"/>
            <p:cNvGrpSpPr/>
            <p:nvPr/>
          </p:nvGrpSpPr>
          <p:grpSpPr>
            <a:xfrm>
              <a:off x="0" y="2590200"/>
              <a:ext cx="9137520" cy="2946600"/>
              <a:chOff x="0" y="2590200"/>
              <a:chExt cx="9137520" cy="2946600"/>
            </a:xfrm>
          </p:grpSpPr>
          <p:sp>
            <p:nvSpPr>
              <p:cNvPr id="38" name="AutoShape 39"/>
              <p:cNvSpPr/>
              <p:nvPr/>
            </p:nvSpPr>
            <p:spPr>
              <a:xfrm>
                <a:off x="0" y="2590200"/>
                <a:ext cx="5824080" cy="2082600"/>
              </a:xfrm>
              <a:custGeom>
                <a:avLst/>
                <a:gdLst>
                  <a:gd name="textAreaLeft" fmla="*/ 0 w 5824080"/>
                  <a:gd name="textAreaRight" fmla="*/ 5824440 w 5824080"/>
                  <a:gd name="textAreaTop" fmla="*/ 0 h 2082600"/>
                  <a:gd name="textAreaBottom" fmla="*/ 2082960 h 20826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46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40"/>
              <p:cNvSpPr/>
              <p:nvPr/>
            </p:nvSpPr>
            <p:spPr>
              <a:xfrm>
                <a:off x="5785920" y="4434480"/>
                <a:ext cx="3351600" cy="1102320"/>
              </a:xfrm>
              <a:custGeom>
                <a:avLst/>
                <a:gdLst>
                  <a:gd name="textAreaLeft" fmla="*/ 0 w 3351600"/>
                  <a:gd name="textAreaRight" fmla="*/ 3351960 w 335160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217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Text Box 43"/>
          <p:cNvSpPr/>
          <p:nvPr/>
        </p:nvSpPr>
        <p:spPr>
          <a:xfrm>
            <a:off x="457200" y="6180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4"/>
          <p:cNvSpPr/>
          <p:nvPr/>
        </p:nvSpPr>
        <p:spPr>
          <a:xfrm>
            <a:off x="3124080" y="6184800"/>
            <a:ext cx="28958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552720" y="6180120"/>
            <a:ext cx="2132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C17E3-DC2E-4FD1-9890-0B58A092F5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65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0"/>
            <a:ext cx="9142200" cy="6854400"/>
            <a:chOff x="0" y="0"/>
            <a:chExt cx="9142200" cy="6854400"/>
          </a:xfrm>
        </p:grpSpPr>
        <p:sp>
          <p:nvSpPr>
            <p:cNvPr id="82" name="AutoShape 2"/>
            <p:cNvSpPr/>
            <p:nvPr/>
          </p:nvSpPr>
          <p:spPr>
            <a:xfrm>
              <a:off x="0" y="18720"/>
              <a:ext cx="9139320" cy="519444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5194440"/>
                <a:gd name="textAreaBottom" fmla="*/ 5194800 h 519444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76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3"/>
            <p:cNvSpPr/>
            <p:nvPr/>
          </p:nvSpPr>
          <p:spPr>
            <a:xfrm>
              <a:off x="236160" y="0"/>
              <a:ext cx="8902800" cy="5146920"/>
            </a:xfrm>
            <a:custGeom>
              <a:avLst/>
              <a:gdLst>
                <a:gd name="textAreaLeft" fmla="*/ 0 w 8902800"/>
                <a:gd name="textAreaRight" fmla="*/ 8903160 w 8902800"/>
                <a:gd name="textAreaTop" fmla="*/ 0 h 5146920"/>
                <a:gd name="textAreaBottom" fmla="*/ 5147280 h 514692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0" y="5448600"/>
              <a:ext cx="6409080" cy="302760"/>
            </a:xfrm>
            <a:custGeom>
              <a:avLst/>
              <a:gdLst>
                <a:gd name="textAreaLeft" fmla="*/ 0 w 6409080"/>
                <a:gd name="textAreaRight" fmla="*/ 6409440 w 6409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07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5"/>
            <p:cNvSpPr/>
            <p:nvPr/>
          </p:nvSpPr>
          <p:spPr>
            <a:xfrm>
              <a:off x="6409080" y="5676840"/>
              <a:ext cx="2729880" cy="102600"/>
            </a:xfrm>
            <a:custGeom>
              <a:avLst/>
              <a:gdLst>
                <a:gd name="textAreaLeft" fmla="*/ 0 w 2729880"/>
                <a:gd name="textAreaRight" fmla="*/ 2730240 w 2729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6"/>
            <p:cNvSpPr/>
            <p:nvPr/>
          </p:nvSpPr>
          <p:spPr>
            <a:xfrm>
              <a:off x="0" y="5913360"/>
              <a:ext cx="7593120" cy="521640"/>
            </a:xfrm>
            <a:custGeom>
              <a:avLst/>
              <a:gdLst>
                <a:gd name="textAreaLeft" fmla="*/ 0 w 7593120"/>
                <a:gd name="textAreaRight" fmla="*/ 7593480 w 7593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7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>
              <a:off x="7593120" y="58752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8"/>
            <p:cNvSpPr/>
            <p:nvPr/>
          </p:nvSpPr>
          <p:spPr>
            <a:xfrm>
              <a:off x="5744160" y="6054480"/>
              <a:ext cx="3394800" cy="313920"/>
            </a:xfrm>
            <a:custGeom>
              <a:avLst/>
              <a:gdLst>
                <a:gd name="textAreaLeft" fmla="*/ 0 w 3394800"/>
                <a:gd name="textAreaRight" fmla="*/ 3395160 w 3394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0" y="6302160"/>
              <a:ext cx="5744160" cy="552240"/>
            </a:xfrm>
            <a:custGeom>
              <a:avLst/>
              <a:gdLst>
                <a:gd name="textAreaLeft" fmla="*/ 0 w 5744160"/>
                <a:gd name="textAreaRight" fmla="*/ 5744520 w 57441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10"/>
            <p:cNvSpPr/>
            <p:nvPr/>
          </p:nvSpPr>
          <p:spPr>
            <a:xfrm>
              <a:off x="3328200" y="6416640"/>
              <a:ext cx="3990240" cy="4377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11"/>
            <p:cNvSpPr/>
            <p:nvPr/>
          </p:nvSpPr>
          <p:spPr>
            <a:xfrm>
              <a:off x="6910560" y="61401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e9c08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12"/>
            <p:cNvSpPr/>
            <p:nvPr/>
          </p:nvSpPr>
          <p:spPr>
            <a:xfrm>
              <a:off x="7983720" y="500076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13"/>
            <p:cNvSpPr/>
            <p:nvPr/>
          </p:nvSpPr>
          <p:spPr>
            <a:xfrm>
              <a:off x="0" y="2358360"/>
              <a:ext cx="7983720" cy="2651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2651760"/>
                <a:gd name="textAreaBottom" fmla="*/ 2652120 h 26517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7983720" y="4838760"/>
              <a:ext cx="1155240" cy="5047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0" y="1453320"/>
              <a:ext cx="7983720" cy="3470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3470760"/>
                <a:gd name="textAreaBottom" fmla="*/ 3471120 h 347076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>
              <a:off x="3641040" y="0"/>
              <a:ext cx="5013720" cy="4324320"/>
            </a:xfrm>
            <a:custGeom>
              <a:avLst/>
              <a:gdLst>
                <a:gd name="textAreaLeft" fmla="*/ 0 w 5013720"/>
                <a:gd name="textAreaRight" fmla="*/ 5014080 w 5013720"/>
                <a:gd name="textAreaTop" fmla="*/ 0 h 4324320"/>
                <a:gd name="textAreaBottom" fmla="*/ 4324320 h 432432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e6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8626680" y="428796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f9f0f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8693280" y="4107240"/>
              <a:ext cx="445680" cy="53172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9"/>
            <p:cNvSpPr/>
            <p:nvPr/>
          </p:nvSpPr>
          <p:spPr>
            <a:xfrm>
              <a:off x="3894840" y="0"/>
              <a:ext cx="4950360" cy="4249800"/>
            </a:xfrm>
            <a:custGeom>
              <a:avLst/>
              <a:gdLst>
                <a:gd name="textAreaLeft" fmla="*/ 0 w 4950360"/>
                <a:gd name="textAreaRight" fmla="*/ 4950720 w 4950360"/>
                <a:gd name="textAreaTop" fmla="*/ 0 h 4249800"/>
                <a:gd name="textAreaBottom" fmla="*/ 4250160 h 424980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>
              <a:off x="8929800" y="402156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21"/>
            <p:cNvSpPr/>
            <p:nvPr/>
          </p:nvSpPr>
          <p:spPr>
            <a:xfrm>
              <a:off x="4939200" y="0"/>
              <a:ext cx="3990240" cy="40215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021560"/>
                <a:gd name="textAreaBottom" fmla="*/ 4021920 h 402156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94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5536080" y="0"/>
              <a:ext cx="3488760" cy="3935880"/>
            </a:xfrm>
            <a:custGeom>
              <a:avLst/>
              <a:gdLst>
                <a:gd name="textAreaLeft" fmla="*/ 0 w 3488760"/>
                <a:gd name="textAreaRight" fmla="*/ 3489120 w 3488760"/>
                <a:gd name="textAreaTop" fmla="*/ 0 h 3935880"/>
                <a:gd name="textAreaBottom" fmla="*/ 3936240 h 393588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23"/>
            <p:cNvSpPr/>
            <p:nvPr/>
          </p:nvSpPr>
          <p:spPr>
            <a:xfrm>
              <a:off x="9006120" y="392652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d1a217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>
              <a:off x="8893440" y="1348920"/>
              <a:ext cx="245520" cy="819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25"/>
            <p:cNvSpPr/>
            <p:nvPr/>
          </p:nvSpPr>
          <p:spPr>
            <a:xfrm>
              <a:off x="8105760" y="0"/>
              <a:ext cx="909360" cy="16534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480"/>
                <a:gd name="textAreaBottom" fmla="*/ 1653840 h 165348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>
              <a:off x="8588520" y="0"/>
              <a:ext cx="541080" cy="1263240"/>
            </a:xfrm>
            <a:custGeom>
              <a:avLst/>
              <a:gdLst>
                <a:gd name="textAreaLeft" fmla="*/ 0 w 541080"/>
                <a:gd name="textAreaRight" fmla="*/ 54108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>
              <a:off x="9044280" y="1036440"/>
              <a:ext cx="94680" cy="4932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28"/>
            <p:cNvSpPr/>
            <p:nvPr/>
          </p:nvSpPr>
          <p:spPr>
            <a:xfrm>
              <a:off x="2880" y="2540880"/>
              <a:ext cx="9129960" cy="295812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958120"/>
                <a:gd name="textAreaBottom" fmla="*/ 2958480 h 295812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29"/>
            <p:cNvSpPr/>
            <p:nvPr/>
          </p:nvSpPr>
          <p:spPr>
            <a:xfrm>
              <a:off x="9133200" y="5527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30"/>
            <p:cNvSpPr/>
            <p:nvPr/>
          </p:nvSpPr>
          <p:spPr>
            <a:xfrm>
              <a:off x="2880" y="3415320"/>
              <a:ext cx="9129960" cy="21218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121840"/>
                <a:gd name="textAreaBottom" fmla="*/ 2122200 h 212184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>
              <a:off x="2880" y="5042160"/>
              <a:ext cx="9129960" cy="6566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656640"/>
                <a:gd name="textAreaBottom" fmla="*/ 656640 h 65664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32"/>
            <p:cNvSpPr/>
            <p:nvPr/>
          </p:nvSpPr>
          <p:spPr>
            <a:xfrm>
              <a:off x="2058480" y="0"/>
              <a:ext cx="7074360" cy="5042160"/>
            </a:xfrm>
            <a:custGeom>
              <a:avLst/>
              <a:gdLst>
                <a:gd name="textAreaLeft" fmla="*/ 0 w 7074360"/>
                <a:gd name="textAreaRight" fmla="*/ 7074720 w 707436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34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33"/>
            <p:cNvSpPr/>
            <p:nvPr/>
          </p:nvSpPr>
          <p:spPr>
            <a:xfrm>
              <a:off x="5271120" y="0"/>
              <a:ext cx="3861720" cy="414828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269400" y="0"/>
              <a:ext cx="2863440" cy="391068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0680"/>
                <a:gd name="textAreaBottom" fmla="*/ 3911040 h 391068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35"/>
            <p:cNvSpPr/>
            <p:nvPr/>
          </p:nvSpPr>
          <p:spPr>
            <a:xfrm>
              <a:off x="7172640" y="0"/>
              <a:ext cx="1960200" cy="329148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1480"/>
                <a:gd name="textAreaBottom" fmla="*/ 3291840 h 329148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6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36"/>
            <p:cNvSpPr/>
            <p:nvPr/>
          </p:nvSpPr>
          <p:spPr>
            <a:xfrm>
              <a:off x="7450200" y="0"/>
              <a:ext cx="1682640" cy="30722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072240"/>
                <a:gd name="textAreaBottom" fmla="*/ 3072600 h 307224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7905960" y="0"/>
              <a:ext cx="1226880" cy="235980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59800"/>
                <a:gd name="textAreaBottom" fmla="*/ 2360160 h 235980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1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8"/>
            <p:cNvGrpSpPr/>
            <p:nvPr/>
          </p:nvGrpSpPr>
          <p:grpSpPr>
            <a:xfrm>
              <a:off x="0" y="2590200"/>
              <a:ext cx="9137520" cy="2946600"/>
              <a:chOff x="0" y="2590200"/>
              <a:chExt cx="9137520" cy="2946600"/>
            </a:xfrm>
          </p:grpSpPr>
          <p:sp>
            <p:nvSpPr>
              <p:cNvPr id="119" name="AutoShape 39"/>
              <p:cNvSpPr/>
              <p:nvPr/>
            </p:nvSpPr>
            <p:spPr>
              <a:xfrm>
                <a:off x="0" y="2590200"/>
                <a:ext cx="5824080" cy="2082600"/>
              </a:xfrm>
              <a:custGeom>
                <a:avLst/>
                <a:gdLst>
                  <a:gd name="textAreaLeft" fmla="*/ 0 w 5824080"/>
                  <a:gd name="textAreaRight" fmla="*/ 5824440 w 5824080"/>
                  <a:gd name="textAreaTop" fmla="*/ 0 h 2082600"/>
                  <a:gd name="textAreaBottom" fmla="*/ 2082960 h 20826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46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AutoShape 40"/>
              <p:cNvSpPr/>
              <p:nvPr/>
            </p:nvSpPr>
            <p:spPr>
              <a:xfrm>
                <a:off x="5785920" y="4434480"/>
                <a:ext cx="3351600" cy="1102320"/>
              </a:xfrm>
              <a:custGeom>
                <a:avLst/>
                <a:gdLst>
                  <a:gd name="textAreaLeft" fmla="*/ 0 w 3351600"/>
                  <a:gd name="textAreaRight" fmla="*/ 3351960 w 335160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217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3DCA1F-1E5B-43CB-98BC-C7C13E65F9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514600" y="472428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Шашина Н.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оспитатель ОР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ГКУСО ВО ГСРЦН «Семь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685800" y="457200"/>
            <a:ext cx="705492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е слово лечит,</a:t>
            </a:r>
            <a:endParaRPr b="0" lang="en-US" sz="2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худое калечит.</a:t>
            </a:r>
            <a:endParaRPr b="0" lang="en-US" sz="2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533520" y="3657600"/>
            <a:ext cx="180324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А в результа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143000"/>
            <a:ext cx="8715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Мы узнал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аким надо бы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А каким бы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не над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428760" y="3533760"/>
            <a:ext cx="3000240" cy="30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ebd40"/>
                </a:solidFill>
                <a:latin typeface="Trebuchet MS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Шипицына Л.М.Азбука общения(Основы коммуникации):Программа развития личности ребёнка.СПб.:ЛОИУУ,199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Шалаева Г.П.Школа этикета для маленьких рыцарей.М.:СЛОВО, Эксмо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стер Г.Вредные советы. М.: Росмен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85840" y="35712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Нужно   ли  бы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вежливым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6402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Мы хотим узнат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28760" y="17146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ого считают вежлив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акие бывают поступ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Бывают ли слова «дорогими» и «волшебными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Есть ли секрет у «волшебных» с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53352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мотрите на картинку и скаж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тупаете ли вы так же, как этот Кот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ожно ли назвать Кота вежливым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>
            <a:lum contrast="20000"/>
          </a:blip>
          <a:srcRect l="0" t="0" r="2036" b="0"/>
          <a:stretch/>
        </p:blipFill>
        <p:spPr>
          <a:xfrm>
            <a:off x="2643120" y="3002040"/>
            <a:ext cx="496908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1778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Случай в лесной шк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500120" y="5429160"/>
            <a:ext cx="8572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В  лесной школе не все ученики вежлив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Объясните, что плохого в поведении Волчо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Что чувствует Ёжик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Можно ли смеяться над другом в очка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5"/>
          <a:srcRect l="5402" t="0" r="3552" b="6592"/>
          <a:stretch/>
        </p:blipFill>
        <p:spPr>
          <a:xfrm>
            <a:off x="2143080" y="857160"/>
            <a:ext cx="4870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Бывают ли слова «дороги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аша знала слов нема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о одно из них проп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 оно-то, как на гре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оворится чаще все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слово ходит сле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подарком, за обе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слово говоря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сли вас благодар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о молчит она, как ры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Вместо каждого …( спасибо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 слово-то како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ЧЕНЬ ДОРОГО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98360" y="2133720"/>
            <a:ext cx="2319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457200" y="-460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bd40"/>
                </a:solidFill>
                <a:latin typeface="Trebuchet MS"/>
              </a:rPr>
              <a:t>Подарим Маше волшебные шар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Oval 3"/>
          <p:cNvGrpSpPr/>
          <p:nvPr/>
        </p:nvGrpSpPr>
        <p:grpSpPr>
          <a:xfrm>
            <a:off x="5479920" y="1279440"/>
            <a:ext cx="2109960" cy="2092320"/>
            <a:chOff x="5479920" y="1279440"/>
            <a:chExt cx="2109960" cy="2092320"/>
          </a:xfrm>
        </p:grpSpPr>
        <p:pic>
          <p:nvPicPr>
            <p:cNvPr id="179" name="Oval 3" descr=""/>
            <p:cNvPicPr/>
            <p:nvPr/>
          </p:nvPicPr>
          <p:blipFill>
            <a:blip r:embed="rId1"/>
            <a:stretch/>
          </p:blipFill>
          <p:spPr>
            <a:xfrm>
              <a:off x="5479920" y="1279440"/>
              <a:ext cx="2109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rot="19960200">
              <a:off x="5791320" y="1598760"/>
              <a:ext cx="14842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пожалуй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4"/>
          <p:cNvGrpSpPr/>
          <p:nvPr/>
        </p:nvGrpSpPr>
        <p:grpSpPr>
          <a:xfrm>
            <a:off x="3346560" y="1285920"/>
            <a:ext cx="1542960" cy="2079720"/>
            <a:chOff x="3346560" y="1285920"/>
            <a:chExt cx="1542960" cy="2079720"/>
          </a:xfrm>
        </p:grpSpPr>
        <p:pic>
          <p:nvPicPr>
            <p:cNvPr id="182" name="Oval 4" descr=""/>
            <p:cNvPicPr/>
            <p:nvPr/>
          </p:nvPicPr>
          <p:blipFill>
            <a:blip r:embed="rId2"/>
            <a:stretch/>
          </p:blipFill>
          <p:spPr>
            <a:xfrm>
              <a:off x="3346560" y="1285920"/>
              <a:ext cx="154296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6600" y="1596960"/>
              <a:ext cx="10764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извинит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5"/>
          <p:cNvGrpSpPr/>
          <p:nvPr/>
        </p:nvGrpSpPr>
        <p:grpSpPr>
          <a:xfrm>
            <a:off x="6918480" y="3303720"/>
            <a:ext cx="1635120" cy="2011320"/>
            <a:chOff x="6918480" y="3303720"/>
            <a:chExt cx="1635120" cy="2011320"/>
          </a:xfrm>
        </p:grpSpPr>
        <p:pic>
          <p:nvPicPr>
            <p:cNvPr id="185" name="Oval 5" descr=""/>
            <p:cNvPicPr/>
            <p:nvPr/>
          </p:nvPicPr>
          <p:blipFill>
            <a:blip r:embed="rId3"/>
            <a:stretch/>
          </p:blipFill>
          <p:spPr>
            <a:xfrm>
              <a:off x="6918480" y="3303720"/>
              <a:ext cx="16351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1320000">
              <a:off x="7197480" y="3584160"/>
              <a:ext cx="1076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спасиб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Oval 6"/>
          <p:cNvSpPr/>
          <p:nvPr/>
        </p:nvSpPr>
        <p:spPr>
          <a:xfrm rot="2340000">
            <a:off x="837720" y="1142640"/>
            <a:ext cx="1981440" cy="213372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306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лагодар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 rot="3180000">
            <a:off x="402840" y="3985920"/>
            <a:ext cx="2171880" cy="155556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endCxn id="188" idx="7"/>
          </p:cNvCxnSpPr>
          <p:nvPr/>
        </p:nvCxnSpPr>
        <p:spPr>
          <a:xfrm rot="10800000">
            <a:off x="2390040" y="5046120"/>
            <a:ext cx="1753200" cy="5259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0" name="AutoShape 9"/>
          <p:cNvCxnSpPr>
            <a:stCxn id="187" idx="5"/>
          </p:cNvCxnSpPr>
          <p:nvPr/>
        </p:nvCxnSpPr>
        <p:spPr>
          <a:xfrm flipH="1" rot="16200000">
            <a:off x="1852560" y="3281400"/>
            <a:ext cx="2335680" cy="22453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1" name="AutoShape 10"/>
          <p:cNvCxnSpPr/>
          <p:nvPr/>
        </p:nvCxnSpPr>
        <p:spPr>
          <a:xfrm>
            <a:off x="4343400" y="365760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2" name="AutoShape 11"/>
          <p:cNvCxnSpPr/>
          <p:nvPr/>
        </p:nvCxnSpPr>
        <p:spPr>
          <a:xfrm>
            <a:off x="4113720" y="3352320"/>
            <a:ext cx="29160" cy="2148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3" name="AutoShape 12"/>
          <p:cNvCxnSpPr/>
          <p:nvPr/>
        </p:nvCxnSpPr>
        <p:spPr>
          <a:xfrm rot="5400000">
            <a:off x="4044960" y="3408840"/>
            <a:ext cx="2261160" cy="2066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4" name="AutoShape 13"/>
          <p:cNvCxnSpPr/>
          <p:nvPr/>
        </p:nvCxnSpPr>
        <p:spPr>
          <a:xfrm flipV="1" rot="10800000">
            <a:off x="4214160" y="4024800"/>
            <a:ext cx="2815200" cy="15469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9360">
            <a:solidFill>
              <a:srgbClr val="ffffff"/>
            </a:solidFill>
            <a:miter/>
          </a:ln>
        </p:spPr>
      </p:cxn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3505320" y="3657600"/>
            <a:ext cx="1674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Секрет волшебных сл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62120" y="3276720"/>
            <a:ext cx="304776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Здравствуй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34120" y="1447920"/>
            <a:ext cx="3352680" cy="8380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5410080" y="2514600"/>
            <a:ext cx="3276720" cy="9144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тству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5486400" y="365760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5562720" y="4952880"/>
            <a:ext cx="3200400" cy="9907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ы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AutoShape 7"/>
          <p:cNvCxnSpPr>
            <a:stCxn id="197" idx="3"/>
            <a:endCxn id="198" idx="1"/>
          </p:cNvCxnSpPr>
          <p:nvPr/>
        </p:nvCxnSpPr>
        <p:spPr>
          <a:xfrm flipV="1">
            <a:off x="3809880" y="1866600"/>
            <a:ext cx="1524960" cy="1905840"/>
          </a:xfrm>
          <a:prstGeom prst="curvedConnector5">
            <a:avLst>
              <a:gd name="adj1" fmla="val 49988"/>
              <a:gd name="adj2" fmla="val 49990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AutoShape 8"/>
          <p:cNvCxnSpPr>
            <a:stCxn id="197" idx="3"/>
            <a:endCxn id="199" idx="1"/>
          </p:cNvCxnSpPr>
          <p:nvPr/>
        </p:nvCxnSpPr>
        <p:spPr>
          <a:xfrm flipV="1">
            <a:off x="3809520" y="2971080"/>
            <a:ext cx="160092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AutoShape 9"/>
          <p:cNvCxnSpPr>
            <a:stCxn id="197" idx="3"/>
            <a:endCxn id="200" idx="1"/>
          </p:cNvCxnSpPr>
          <p:nvPr/>
        </p:nvCxnSpPr>
        <p:spPr>
          <a:xfrm>
            <a:off x="3809520" y="3772080"/>
            <a:ext cx="167724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AutoShape 10"/>
          <p:cNvCxnSpPr>
            <a:stCxn id="197" idx="3"/>
            <a:endCxn id="201" idx="1"/>
          </p:cNvCxnSpPr>
          <p:nvPr/>
        </p:nvCxnSpPr>
        <p:spPr>
          <a:xfrm>
            <a:off x="3809520" y="3772080"/>
            <a:ext cx="1753560" cy="167688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785960" y="21420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Эти слова всем известны дав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идишь, они и просты, и но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о я ещё повторю всё рав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е люди, будьте здоров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е слова не 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овторять нам кажды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428920" y="2500200"/>
            <a:ext cx="404964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20T18:37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