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5EB-8804-433E-ABF6-C9EC58BC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0A4-BA87-4F98-A721-2E670C0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7FB-9452-4C7F-95EB-7FE5170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9A6-0A6F-4BFB-93B6-9FCD8E81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9C8-79A0-4172-A677-EAF22DA6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007-55FF-4A18-85C7-5935855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DA7-A294-4499-92F3-1BD571F7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D1B-D8C9-485B-B01E-3375732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70D-D9F0-4CAB-AB42-620B58F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FDB-3445-4767-A2A5-C9F600F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BBC-822A-41E3-AFBF-F5D8E0D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422-268F-4A31-AE63-45C09EB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2721-E51C-484A-A1F2-4193F24A6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2"/>
          <a:stretch/>
        </p:blipFill>
        <p:spPr>
          <a:xfrm>
            <a:off x="-1042920" y="1116000"/>
            <a:ext cx="9480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547640" y="1125360"/>
            <a:ext cx="6120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WordArt 4" descr=""/>
          <p:cNvPicPr/>
          <p:nvPr/>
        </p:nvPicPr>
        <p:blipFill>
          <a:blip r:embed="rId2"/>
          <a:stretch/>
        </p:blipFill>
        <p:spPr>
          <a:xfrm>
            <a:off x="195120" y="1395360"/>
            <a:ext cx="882036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Слайд в Фрагмент 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9" descr="Слайд в Фрагмент (5)"/>
          <p:cNvPicPr/>
          <p:nvPr/>
        </p:nvPicPr>
        <p:blipFill>
          <a:blip r:embed="rId1"/>
          <a:stretch/>
        </p:blipFill>
        <p:spPr>
          <a:xfrm>
            <a:off x="97164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2"/>
          <p:cNvSpPr/>
          <p:nvPr/>
        </p:nvSpPr>
        <p:spPr>
          <a:xfrm flipV="1">
            <a:off x="2771640" y="6211440"/>
            <a:ext cx="712800" cy="25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0"/>
          <p:cNvSpPr/>
          <p:nvPr/>
        </p:nvSpPr>
        <p:spPr>
          <a:xfrm>
            <a:off x="1488960" y="2664000"/>
            <a:ext cx="0" cy="48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47960" y="2125800"/>
            <a:ext cx="571680" cy="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488960" y="4060800"/>
            <a:ext cx="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2486160" y="5013360"/>
            <a:ext cx="1006200" cy="25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92640" y="812880"/>
            <a:ext cx="5500440" cy="4554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ые этапы метода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29000" y="1357200"/>
            <a:ext cx="5408640" cy="1214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33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едагог помогает ребенку выбрать наиболее актуальную и посильную задачу на определенный отрезок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500280" y="2643120"/>
            <a:ext cx="5408640" cy="2220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лан деятельности по достижению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 кому обратиться за помощью (взрослому, педагог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каких источниках можно найти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кие предметы использовать (оборудование, принадлежност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 какими предметами научиться работать для достижения ц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3500280" y="4929120"/>
            <a:ext cx="5400720" cy="797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492360" y="5889600"/>
            <a:ext cx="5400720" cy="779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пределение задач для новы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108000" y="1569960"/>
            <a:ext cx="2778120" cy="1211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Целеполаг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50920" y="2924280"/>
            <a:ext cx="2562120" cy="1224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79280" y="4292640"/>
            <a:ext cx="2595600" cy="1224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50920" y="5661000"/>
            <a:ext cx="2520720" cy="11206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1052640"/>
            <a:ext cx="12600" cy="534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2847960" y="3576600"/>
            <a:ext cx="614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488960" y="1052640"/>
            <a:ext cx="1903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5516640"/>
            <a:ext cx="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4"/>
          <p:cNvSpPr txBox="1"/>
          <p:nvPr/>
        </p:nvSpPr>
        <p:spPr>
          <a:xfrm>
            <a:off x="250920" y="136440"/>
            <a:ext cx="8642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хема поэтапной практической деятельност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292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Цель: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Создать систему работы по внедрению в образовательный процесс ДОУ новой технологии — “метод проектов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Arial"/>
              </a:rPr>
              <a:t>Задач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1.Разработать систему мероприятий из семинаров, консультаций, методических рекомендаций, тренингов  по освоению педагогами  метода проекта в дошкольном образов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2.Направить деятельность педагогов на просветительскую работу с родителями с целью привлечения их к активному участию в проект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3.Содействовать созданию предметно -пространственной  среды, соответствующей требованиям проектного мето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8"/>
          <p:cNvSpPr/>
          <p:nvPr/>
        </p:nvSpPr>
        <p:spPr>
          <a:xfrm>
            <a:off x="3143160" y="2214720"/>
            <a:ext cx="2737080" cy="2296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cap="rnd" w="6984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 rot="19439400">
            <a:off x="5815080" y="3768480"/>
            <a:ext cx="2493720" cy="18763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4860000"/>
          </a:gradFill>
          <a:ln cap="rnd" w="60480">
            <a:solidFill>
              <a:srgbClr val="ce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 rot="2033400">
            <a:off x="688680" y="4025880"/>
            <a:ext cx="2476440" cy="19432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666000"/>
          </a:gradFill>
          <a:ln cap="rnd" w="6660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>
            <a:hlinkClick r:id="rId1" action="ppaction://hlinksldjump"/>
          </p:cNvPr>
          <p:cNvSpPr/>
          <p:nvPr/>
        </p:nvSpPr>
        <p:spPr>
          <a:xfrm rot="18859800">
            <a:off x="515880" y="1252080"/>
            <a:ext cx="2506680" cy="19004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42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 rot="2221200">
            <a:off x="6100920" y="1262160"/>
            <a:ext cx="2442960" cy="18604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480000"/>
          </a:gradFill>
          <a:ln cap="rnd" w="76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3286080" y="2928960"/>
            <a:ext cx="2367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ДОУ №37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WordArt 14" descr=""/>
          <p:cNvPicPr/>
          <p:nvPr/>
        </p:nvPicPr>
        <p:blipFill>
          <a:blip r:embed="rId2"/>
          <a:stretch/>
        </p:blipFill>
        <p:spPr>
          <a:xfrm>
            <a:off x="420840" y="853920"/>
            <a:ext cx="2766960" cy="2737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656748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6"/>
          <p:cNvSpPr txBox="1"/>
          <p:nvPr/>
        </p:nvSpPr>
        <p:spPr>
          <a:xfrm rot="2901600">
            <a:off x="6258240" y="1702440"/>
            <a:ext cx="2071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КТ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МЯ МОЁ ЗНАЧИТ?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714384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927840" y="517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9"/>
          <p:cNvSpPr txBox="1"/>
          <p:nvPr/>
        </p:nvSpPr>
        <p:spPr>
          <a:xfrm rot="19062600">
            <a:off x="6004080" y="4132080"/>
            <a:ext cx="2087280" cy="11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-частица семьи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63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857160" y="471492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4-конечная звезда 20"/>
          <p:cNvSpPr/>
          <p:nvPr/>
        </p:nvSpPr>
        <p:spPr>
          <a:xfrm rot="18817200">
            <a:off x="2680200" y="3756240"/>
            <a:ext cx="576360" cy="612720"/>
          </a:xfrm>
          <a:custGeom>
            <a:avLst/>
            <a:gdLst>
              <a:gd name="textAreaLeft" fmla="*/ 237600 w 576360"/>
              <a:gd name="textAreaRight" fmla="*/ 338760 w 576360"/>
              <a:gd name="textAreaTop" fmla="*/ 252360 h 612720"/>
              <a:gd name="textAreaBottom" fmla="*/ 360360 h 6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84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-конечная звезда 21"/>
          <p:cNvSpPr/>
          <p:nvPr/>
        </p:nvSpPr>
        <p:spPr>
          <a:xfrm rot="2004000">
            <a:off x="2633400" y="2525760"/>
            <a:ext cx="547560" cy="650880"/>
          </a:xfrm>
          <a:custGeom>
            <a:avLst/>
            <a:gdLst>
              <a:gd name="textAreaLeft" fmla="*/ 225720 w 547560"/>
              <a:gd name="textAreaRight" fmla="*/ 321840 w 547560"/>
              <a:gd name="textAreaTop" fmla="*/ 268200 h 650880"/>
              <a:gd name="textAreaBottom" fmla="*/ 38268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3396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-конечная звезда 22"/>
          <p:cNvSpPr/>
          <p:nvPr/>
        </p:nvSpPr>
        <p:spPr>
          <a:xfrm rot="2231400">
            <a:off x="5713200" y="3743280"/>
            <a:ext cx="515880" cy="542880"/>
          </a:xfrm>
          <a:custGeom>
            <a:avLst/>
            <a:gdLst>
              <a:gd name="textAreaLeft" fmla="*/ 207360 w 515880"/>
              <a:gd name="textAreaRight" fmla="*/ 308520 w 515880"/>
              <a:gd name="textAreaTop" fmla="*/ 218160 h 542880"/>
              <a:gd name="textAreaBottom" fmla="*/ 324720 h 54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82" y="8682"/>
                </a:lnTo>
                <a:lnTo>
                  <a:pt x="10800" y="0"/>
                </a:lnTo>
                <a:lnTo>
                  <a:pt x="12918" y="8682"/>
                </a:lnTo>
                <a:lnTo>
                  <a:pt x="21600" y="10800"/>
                </a:lnTo>
                <a:lnTo>
                  <a:pt x="12918" y="12918"/>
                </a:lnTo>
                <a:lnTo>
                  <a:pt x="10800" y="21600"/>
                </a:lnTo>
                <a:lnTo>
                  <a:pt x="8682" y="129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3168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-конечная звезда 23"/>
          <p:cNvSpPr/>
          <p:nvPr/>
        </p:nvSpPr>
        <p:spPr>
          <a:xfrm rot="19748400">
            <a:off x="5825880" y="2622240"/>
            <a:ext cx="533160" cy="577800"/>
          </a:xfrm>
          <a:custGeom>
            <a:avLst/>
            <a:gdLst>
              <a:gd name="textAreaLeft" fmla="*/ 219600 w 533160"/>
              <a:gd name="textAreaRight" fmla="*/ 313560 w 533160"/>
              <a:gd name="textAreaTop" fmla="*/ 237960 h 577800"/>
              <a:gd name="textAreaBottom" fmla="*/ 339840 h 57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7254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3132000" y="0"/>
            <a:ext cx="2643480" cy="19890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cap="rnd" w="7632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214800" y="4857840"/>
            <a:ext cx="2714400" cy="18572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cap="rnd" w="76320">
            <a:solidFill>
              <a:srgbClr val="66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1"/>
          <p:cNvSpPr txBox="1"/>
          <p:nvPr/>
        </p:nvSpPr>
        <p:spPr>
          <a:xfrm>
            <a:off x="3059280" y="189000"/>
            <a:ext cx="316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ирование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л патриотизма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ознакомление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риродой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ного края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WordArt 21"/>
          <p:cNvSpPr txBox="1"/>
          <p:nvPr/>
        </p:nvSpPr>
        <p:spPr>
          <a:xfrm>
            <a:off x="3357720" y="5214960"/>
            <a:ext cx="235728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е ребенка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гармонии с природой Кузбасса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21"/>
          <p:cNvSpPr txBox="1"/>
          <p:nvPr/>
        </p:nvSpPr>
        <p:spPr>
          <a:xfrm rot="2710200">
            <a:off x="842400" y="4287960"/>
            <a:ext cx="21351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ЛОЙ  И ДОБРЫЙ ОГОНЬ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4-конечная звезда 29"/>
          <p:cNvSpPr/>
          <p:nvPr/>
        </p:nvSpPr>
        <p:spPr>
          <a:xfrm rot="16200000">
            <a:off x="4317120" y="4469400"/>
            <a:ext cx="438120" cy="500040"/>
          </a:xfrm>
          <a:custGeom>
            <a:avLst/>
            <a:gdLst>
              <a:gd name="textAreaLeft" fmla="*/ 180360 w 438120"/>
              <a:gd name="textAreaRight" fmla="*/ 257760 w 438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08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-конечная звезда 30"/>
          <p:cNvSpPr/>
          <p:nvPr/>
        </p:nvSpPr>
        <p:spPr>
          <a:xfrm>
            <a:off x="4286160" y="178596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8684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опыт показывает, чт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ами проектирования могут ста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. Программа Развития Д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. Концеп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3. Проект модели управления ДО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4. Образовательная программа ДО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5. Перспективное планиров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6. Индивидуальная программа развития ребё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7. Парциаль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4:31:07Z</dcterms:created>
  <dc:creator>vasil</dc:creator>
  <dc:description/>
  <dc:language>en-US</dc:language>
  <cp:lastModifiedBy>Татьяна</cp:lastModifiedBy>
  <dcterms:modified xsi:type="dcterms:W3CDTF">2017-08-20T03:18:31Z</dcterms:modified>
  <cp:revision>208</cp:revision>
  <dc:subject/>
  <dc:title>Слайд 1</dc:title>
</cp:coreProperties>
</file>