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D8F4F-3E28-4632-9F6E-08DD7B64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0DC2C-EB48-4421-834E-EB4F1858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73551-DA0C-4D45-B28E-C3FE664F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8B62-42D7-4597-ACFA-1A532B77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1B6E-3B27-450B-B2AD-F9C59E70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D3C6-022F-49C0-9D95-7AEBE679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FFDB-0031-4855-A2E7-534F5A5A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0099-EBD6-4D58-87A6-51322271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257B-A971-4136-82E8-F5420BF4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92E2-D9CF-46FB-8AE0-991C8C03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4A26-A752-4460-976D-C406276E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4F24-8841-4FAD-BC9F-418C03E3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5CEF-CCFD-455D-8E83-899E711C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CA48-2D6A-4018-9D55-7B7A8E89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B2F0-6FAA-4CB3-A067-4D6E2CAF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3AA0-27CF-4BC4-82C4-1240D417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2230-A843-46D3-9E5A-C9AF9D35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66BB5-C562-48A0-9B1F-2D52D801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69A5-E046-4B97-8068-4AF79137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FD9F4-4028-4F2B-B8D9-2BC98861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888A2-E50A-491F-AED5-E16F54BF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A6168-8B7E-4C16-A9DF-71743B96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E7689-EF85-4B35-85BE-95EA67A1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8A16-7D0E-4ED7-85C6-25FE53E4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5DB3-6356-40C5-932B-CEDAB00F1C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1C04-B599-4A83-A50A-913ED407AD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l-mikheeva.ru/wp-content/uploads/2012/06/Risunok13.j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4400" spc="-1" strike="noStrike">
                <a:solidFill>
                  <a:srgbClr val="ff9900"/>
                </a:solidFill>
                <a:latin typeface="Garamond"/>
              </a:rPr>
              <a:t>Мини-поход</a:t>
            </a:r>
            <a:r>
              <a:rPr b="0" lang="ru-RU" sz="44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Garamond"/>
              </a:rPr>
              <a:t>-</a:t>
            </a: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одна из форм организации физкультурно-оздоровительной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работы</a:t>
            </a:r>
            <a:br>
              <a:rPr sz="44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зработали воспитатели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БДОУ «Детский сад №10 «Созвездие» ЗМР Р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воспитатели Ханнанова Л.А., Кузягина Н.М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15920"/>
            <a:ext cx="3205080" cy="2427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turisti"/>
          <p:cNvPicPr/>
          <p:nvPr/>
        </p:nvPicPr>
        <p:blipFill>
          <a:blip r:embed="rId3"/>
          <a:stretch/>
        </p:blipFill>
        <p:spPr>
          <a:xfrm>
            <a:off x="5219640" y="115920"/>
            <a:ext cx="328932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Предварительная работа по художественно-творческой деятельно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2052360"/>
            <a:ext cx="80755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лушивание записей детских походных песен, звуков природ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учивание песен о путешествиях, дружб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исование знаков правильного и безопасного поведения в природ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ение художественной литературы (загадки, стихи, рассказы, пословицы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матривание иллюстраций, журналов, открыток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мотр слайдов «Отправляемся в поход», «Правила поведения на дорогах города», «Правила поведения в лесу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Предварительная работа по физической культур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работать с детьми навык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хождения полосы препятств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менты эстаф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мнастика юных турис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рмы практической  деятельно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ери рюкзак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одготовка к поход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еда с родителями о маршруте и длительности похода, об одежде и обуви ребёнк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еда с детьми о правилах поведения в природ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суждение маршрута с администрацией (схема пути, местонахождение остановок, малых и больших привалов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готовка аптечки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Правила экипировки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участника похода (для родителей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Личное снаряжение: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aramond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юкзак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должен плотно прилегать к спине всей задней поверхностью, а не свисать ниже пояса (правильная подгонка лямок);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увь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желательно с рифлёной подошвой, на размер больше, чтобы можно было вложить дополнительную стельку, надеть две пары носков (одна пара —  шерстяные); совершенно недопустимо надевать новую обувь, сандалии, босоножки;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дежд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зимой – свитер с высоким воротом, тренировочный костюм, не стесняющий движений; непромокаемая куртка, шерстяная спортивная шапка; - летом – тренировочный костюм, в прохладную погоду – свите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Общественное снаряжение: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ffc000"/>
                </a:solidFill>
                <a:latin typeface="Garamond"/>
              </a:rPr>
              <a:t>-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о ведро, котелок для чая, половник; тросик  для подвешивания над костром котелка с помощью крючка; рукавица для снятия посуды с огня; кусок клеёнки, заменяющий стол;</a:t>
            </a:r>
            <a:br>
              <a:rPr sz="2400"/>
            </a:br>
            <a:r>
              <a:rPr b="1" i="1" lang="ru-RU" sz="2400" spc="-1" strike="noStrike">
                <a:solidFill>
                  <a:srgbClr val="ffc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птечка – бинты (широкий и узкий), бактерицидный пластырь, йод, борная кислота, марганцовка, нашатырный спирт, резиновый жгут, валериановые капли, спирт или одеколон (все лекарства должны быть с этикетками), всё в прочном чехле;</a:t>
            </a:r>
            <a:br>
              <a:rPr sz="2400"/>
            </a:br>
            <a:r>
              <a:rPr b="1" i="1" lang="ru-RU" sz="2400" spc="-1" strike="noStrike">
                <a:solidFill>
                  <a:srgbClr val="ffc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ща для малого привала – на каждого человека: горстка сухофруктов, орехов или один-два кусочка сахара, одна-две конфетки (кислые леденцы), яблоко; на малых привалах пить не рекомендуется, но бывают исключения, очень хорошо утоляет жажду чай, отвар шиповника, несладкий компот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Правила поведения во время похода для детей: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ого подчиняться взрослы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рвать растения, не собирать грибы и ягод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оставлять товарища в беде, всегда приходить на помощь, поддерживать слабого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людать правила поведения в природ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влять место отдыха всегда чисты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i?id=827527455d892d25358c45a17f4a4a2d-34-144&amp;n=21"/>
          <p:cNvPicPr/>
          <p:nvPr/>
        </p:nvPicPr>
        <p:blipFill>
          <a:blip r:embed="rId1"/>
          <a:stretch/>
        </p:blipFill>
        <p:spPr>
          <a:xfrm>
            <a:off x="5580000" y="480528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i?id=6d596af5badc1d6a6f174db819d20718-109-144&amp;n=21"/>
          <p:cNvPicPr/>
          <p:nvPr/>
        </p:nvPicPr>
        <p:blipFill>
          <a:blip r:embed="rId2"/>
          <a:stretch/>
        </p:blipFill>
        <p:spPr>
          <a:xfrm>
            <a:off x="900000" y="4749840"/>
            <a:ext cx="27352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Этапы проведения мини-походов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Первый этап-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дготовительны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ветствие друг друг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оминание о правилах безопасности в походе, поведении в природ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единение в две коман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дение игры на внима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Туризм: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ссов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едоступ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ическая актив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5" descr="Экологический туризм Адыгея Горная Адыгея"/>
          <p:cNvPicPr/>
          <p:nvPr/>
        </p:nvPicPr>
        <p:blipFill>
          <a:blip r:embed="rId1"/>
          <a:stretch/>
        </p:blipFill>
        <p:spPr>
          <a:xfrm>
            <a:off x="4427640" y="3284640"/>
            <a:ext cx="4537080" cy="34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гра на вним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ой команде предлагается выбрать, необходимые для похода предметы.(Та команда, которая выполнила задание и не ошиблась, получает один флажок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торой этап-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лоса препятстви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оса препятств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мин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права Полоса препятств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мин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пра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олоса препятствий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той спуск к ручью по узкой тропинк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ыжки с кочки на кочк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права через ручей (ширина ручья меньше 1 метра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той подъём по узкой тропинке (дети перешагивают через корни деревьев, кустарников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5" descr="http://im0-tub-ru.yandex.net/i?id=82f183f865e51834211ba786ab695313-34-144&amp;n=21"/>
          <p:cNvPicPr/>
          <p:nvPr/>
        </p:nvPicPr>
        <p:blipFill>
          <a:blip r:embed="rId1"/>
          <a:stretch/>
        </p:blipFill>
        <p:spPr>
          <a:xfrm>
            <a:off x="6972480" y="4552920"/>
            <a:ext cx="21715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Разминка (ОРУ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туристы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оправим рюкзаки»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пределим погоду»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авяжем кеды»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оберем ветки для костр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рыгаем через кочк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2" descr="Поход с детьми Арт-мастерская GINDA"/>
          <p:cNvPicPr/>
          <p:nvPr/>
        </p:nvPicPr>
        <p:blipFill>
          <a:blip r:embed="rId1"/>
          <a:stretch/>
        </p:blipFill>
        <p:spPr>
          <a:xfrm>
            <a:off x="5076720" y="1773360"/>
            <a:ext cx="370836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ерепра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права через «ручей» по брев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права через «болото» по кочка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18" descr="Дети. Необходимый минимум денег. И внимание простой блог ада…"/>
          <p:cNvPicPr/>
          <p:nvPr/>
        </p:nvPicPr>
        <p:blipFill>
          <a:blip r:embed="rId1"/>
          <a:stretch/>
        </p:blipFill>
        <p:spPr>
          <a:xfrm>
            <a:off x="1908000" y="3141720"/>
            <a:ext cx="507852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Третий этап-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«Беседка знаний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Garamond"/>
              </a:rPr>
              <a:t>Загадк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виды туризма вы знает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овите части све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ите по компасу, где находится сев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вы знаете съедобные грибы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Четвертый этап –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эстафета-соревнован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занье по «скалам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енгуру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верята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трелки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опади в цель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10" descr="Команда победителей - Академия праздника в Самаре"/>
          <p:cNvPicPr/>
          <p:nvPr/>
        </p:nvPicPr>
        <p:blipFill>
          <a:blip r:embed="rId1"/>
          <a:stretch/>
        </p:blipFill>
        <p:spPr>
          <a:xfrm>
            <a:off x="4500720" y="2205000"/>
            <a:ext cx="4174920" cy="27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Пятый этап- </a:t>
            </a:r>
            <a:br>
              <a:rPr sz="4400"/>
            </a:b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большой прива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9" name="Picture 6" descr="i?id=36a5e21228cca5edbbd61c0bf1291d48-40-144&amp;n=21"/>
          <p:cNvPicPr/>
          <p:nvPr/>
        </p:nvPicPr>
        <p:blipFill>
          <a:blip r:embed="rId1"/>
          <a:stretch/>
        </p:blipFill>
        <p:spPr>
          <a:xfrm>
            <a:off x="324000" y="4076640"/>
            <a:ext cx="3527280" cy="2644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i?id=dcaad3ae2df54050a8502e60187a106f-60-144&amp;n=21"/>
          <p:cNvPicPr/>
          <p:nvPr/>
        </p:nvPicPr>
        <p:blipFill>
          <a:blip r:embed="rId2"/>
          <a:stretch/>
        </p:blipFill>
        <p:spPr>
          <a:xfrm>
            <a:off x="2987640" y="1557360"/>
            <a:ext cx="3335400" cy="2502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Познавательный поход по калужским лесам &quot; Православный детский социально-реабилитационный центр ПОКРОВ"/>
          <p:cNvPicPr/>
          <p:nvPr/>
        </p:nvPicPr>
        <p:blipFill>
          <a:blip r:embed="rId3"/>
          <a:stretch/>
        </p:blipFill>
        <p:spPr>
          <a:xfrm>
            <a:off x="5292720" y="407664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Результат 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ть у детей устойчивую мотивацию и потребность в сохранении своего здоровья и здоровья окружающи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величить двигательную активность детей на свежем воздух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ь применять на практике все умения и навыки, которые дошкольники получили в процессе образовательной деятельности по физической культур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иболее благоприятного периода для формирования здорового образа жизни чем, детство, трудно представить. Поэтому необходимо активно развивать физкультурно-оздоровительное направление работы в ДОУ, привлекая семьи воспитанников и внедряя опыт работы дошкольный учреждений РФ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Цели: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олидация родительской и образовательной общественности в вопросах культивирования здорового образа жизни.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964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3300"/>
                </a:solidFill>
                <a:latin typeface="Arial"/>
              </a:rPr>
              <a:t>Спасибо за внимание!</a:t>
            </a:r>
            <a:br>
              <a:rPr sz="8800"/>
            </a:b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Задачи: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452600"/>
            <a:ext cx="8218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здоровить организм детей во время пешеходной прогулк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крепить знания о правилах поведения во время прогулок на природ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здать атмосферу доброжелательности у детей и взрослых в период поход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Оздоровительные задач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рана и укрепление физического и психического здоровья детей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ршенствование функций организма, повышение его защитных свойств и устойчивости к заболеваниям средствами движени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Образовательные задач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ирование жизненно необходимых двигательных умений и навыков ребенка в соответствии с его индивидуальными особенностя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ие условий для реализации потребности детей в двигательной актив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явление интересов, склонностей и способностей детей в двигательной деятельности и реализация их через спортивно – оздоровительную активно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Garamond"/>
              </a:rPr>
              <a:t>Воспитательные задачи: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потребности в здоровом образе жиз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ребность в физических упражнениях и игра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ширение кругозора, уточнение представлений об окружающем мире, воспитание физических качеств, необходимых для полноценного развития лич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6600" spc="-1" strike="noStrike">
                <a:solidFill>
                  <a:srgbClr val="ff3300"/>
                </a:solidFill>
                <a:latin typeface="Garamond"/>
              </a:rPr>
              <a:t>Предварительная работа</a:t>
            </a:r>
            <a:br>
              <a:rPr sz="6600"/>
            </a:br>
            <a:r>
              <a:rPr b="1" lang="ru-RU" sz="6600" spc="-1" strike="noStrike">
                <a:solidFill>
                  <a:srgbClr val="ff3300"/>
                </a:solidFill>
                <a:latin typeface="Garamond"/>
              </a:rPr>
              <a:t> с воспитанниками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Беседы: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видах туризма. «Кто такие туристы?», «Что такое туризм?», «Что такое план, его значение, отличие от рисунк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 особенностях жизни в поход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езные и вредные растения ле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а поведения в лес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такое компас и зачем он нужен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12:17:51Z</dcterms:created>
  <dc:creator>Рино</dc:creator>
  <dc:description/>
  <dc:language>en-US</dc:language>
  <cp:lastModifiedBy>Ильдар</cp:lastModifiedBy>
  <dcterms:modified xsi:type="dcterms:W3CDTF">2017-08-20T10:08:05Z</dcterms:modified>
  <cp:revision>29</cp:revision>
  <dc:subject/>
  <dc:title>Организация и проведение мини-походов</dc:title>
</cp:coreProperties>
</file>