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png" ContentType="image/png"/>
  <Override PartName="/ppt/media/image12.jpeg" ContentType="image/jpeg"/>
  <Override PartName="/ppt/media/image1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F83DA-4ABA-4C1D-BED1-9AAF6C75E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9bb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34CD6-5CF2-4B78-AFF0-F79C7BBE0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9b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8F2B4-5C2D-4EAF-A8B5-ABC00C607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9b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1D3F5-85D3-4512-9B6C-3F4E32931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67303-A0FA-4B56-A3C6-B425DC472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9b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4A6A1-7069-4598-821D-4964A3BCD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9bb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3D16F-0CB3-4A26-A738-96379AFAF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9bb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FEA91-B2AB-46D3-A62D-544162F0E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9b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01A13-E685-4E13-A6A9-FF8124727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6120D-CAD9-47C7-970D-A0142A03F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9bb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66C9E-3B32-4C56-B9E7-D68308DC9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9bb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35815-2288-4ACD-8CCB-7F48CD9CD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9bb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01D60-5F9F-4512-B121-4A273966E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9bb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C9FAF-17D7-46AD-ACCB-079043898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9b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B615E-A254-4558-BCFD-3217C6A6B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9b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9E30E-BDFB-4E40-8DB5-277544821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9b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0BC21-98D4-43CC-B6AE-892B15A90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9b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86317-53AF-4E75-93CC-368CC28B2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9bb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A8FBF-8028-4F60-B277-DA9EF049F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9b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17DDB-82F2-4E58-93D8-BBE1540CF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516F2-D786-4ED0-A48B-B7FF2879D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9b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9C736-4C49-4E29-920C-3E4EDD193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9bb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4AB8C-6AC7-4923-9B95-6C6DFF9FB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9bb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CBF43-2698-4EBB-9AC6-21743555D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c1f00"/>
            </a:gs>
            <a:gs pos="100000">
              <a:srgbClr val="9900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5c1f00"/>
                </a:gs>
                <a:gs pos="100000">
                  <a:srgbClr val="99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5c1f00"/>
                </a:gs>
                <a:gs pos="100000">
                  <a:srgbClr val="99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5c1f00"/>
                </a:gs>
                <a:gs pos="100000">
                  <a:srgbClr val="99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5c1f00"/>
                </a:gs>
                <a:gs pos="50000">
                  <a:srgbClr val="79472e"/>
                </a:gs>
                <a:gs pos="100000">
                  <a:srgbClr val="5c1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5c1f00"/>
                </a:gs>
                <a:gs pos="100000">
                  <a:srgbClr val="99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5c1f00"/>
                </a:gs>
                <a:gs pos="100000">
                  <a:srgbClr val="99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5c1f00"/>
                </a:gs>
                <a:gs pos="100000">
                  <a:srgbClr val="99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5c1f00"/>
                </a:gs>
                <a:gs pos="100000">
                  <a:srgbClr val="99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5c1f00"/>
                </a:gs>
                <a:gs pos="100000">
                  <a:srgbClr val="99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5c1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c1f00"/>
                  </a:gs>
                  <a:gs pos="100000">
                    <a:srgbClr val="9900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5c1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c1f00"/>
                  </a:gs>
                  <a:gs pos="100000">
                    <a:srgbClr val="9900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c1f00"/>
                  </a:gs>
                  <a:gs pos="100000">
                    <a:srgbClr val="9900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c1f00"/>
                  </a:gs>
                  <a:gs pos="100000">
                    <a:srgbClr val="9900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c1f00"/>
                  </a:gs>
                  <a:gs pos="100000">
                    <a:srgbClr val="9900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c1f00"/>
                  </a:gs>
                  <a:gs pos="100000">
                    <a:srgbClr val="9900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c1f00"/>
                  </a:gs>
                  <a:gs pos="100000">
                    <a:srgbClr val="9900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c1f00"/>
                  </a:gs>
                  <a:gs pos="100000">
                    <a:srgbClr val="9900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c1f00"/>
                  </a:gs>
                  <a:gs pos="100000">
                    <a:srgbClr val="9900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c1f00"/>
                  </a:gs>
                  <a:gs pos="100000">
                    <a:srgbClr val="9900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c1f00"/>
                  </a:gs>
                  <a:gs pos="100000">
                    <a:srgbClr val="9900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c1f00"/>
                  </a:gs>
                  <a:gs pos="100000">
                    <a:srgbClr val="9900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c1f00"/>
                  </a:gs>
                  <a:gs pos="100000">
                    <a:srgbClr val="9900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c1f00"/>
                  </a:gs>
                  <a:gs pos="100000">
                    <a:srgbClr val="9900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c1f00"/>
                  </a:gs>
                  <a:gs pos="100000">
                    <a:srgbClr val="9900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c1f00"/>
                  </a:gs>
                  <a:gs pos="100000">
                    <a:srgbClr val="9900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c1f00"/>
                  </a:gs>
                  <a:gs pos="100000">
                    <a:srgbClr val="9900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c1f00"/>
                  </a:gs>
                  <a:gs pos="100000">
                    <a:srgbClr val="9900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5c1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5c1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5c1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c1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5c1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9b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9b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6723C-DBA4-4649-958B-89AAA7E6DE0C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c1f00"/>
            </a:gs>
            <a:gs pos="100000">
              <a:srgbClr val="9900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5c1f00"/>
                </a:gs>
                <a:gs pos="100000">
                  <a:srgbClr val="99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5c1f00"/>
                </a:gs>
                <a:gs pos="100000">
                  <a:srgbClr val="99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5c1f00"/>
                </a:gs>
                <a:gs pos="100000">
                  <a:srgbClr val="99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5c1f00"/>
                </a:gs>
                <a:gs pos="50000">
                  <a:srgbClr val="79472e"/>
                </a:gs>
                <a:gs pos="100000">
                  <a:srgbClr val="5c1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5c1f00"/>
                </a:gs>
                <a:gs pos="100000">
                  <a:srgbClr val="99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5c1f00"/>
                </a:gs>
                <a:gs pos="100000">
                  <a:srgbClr val="99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5c1f00"/>
                </a:gs>
                <a:gs pos="100000">
                  <a:srgbClr val="99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5c1f00"/>
                </a:gs>
                <a:gs pos="100000">
                  <a:srgbClr val="99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5c1f00"/>
                </a:gs>
                <a:gs pos="100000">
                  <a:srgbClr val="99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5c1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c1f00"/>
                  </a:gs>
                  <a:gs pos="100000">
                    <a:srgbClr val="9900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5c1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c1f00"/>
                  </a:gs>
                  <a:gs pos="100000">
                    <a:srgbClr val="9900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c1f00"/>
                  </a:gs>
                  <a:gs pos="100000">
                    <a:srgbClr val="9900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c1f00"/>
                  </a:gs>
                  <a:gs pos="100000">
                    <a:srgbClr val="9900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c1f00"/>
                  </a:gs>
                  <a:gs pos="100000">
                    <a:srgbClr val="9900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c1f00"/>
                  </a:gs>
                  <a:gs pos="100000">
                    <a:srgbClr val="9900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c1f00"/>
                  </a:gs>
                  <a:gs pos="100000">
                    <a:srgbClr val="9900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c1f00"/>
                  </a:gs>
                  <a:gs pos="100000">
                    <a:srgbClr val="9900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c1f00"/>
                  </a:gs>
                  <a:gs pos="100000">
                    <a:srgbClr val="9900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c1f00"/>
                  </a:gs>
                  <a:gs pos="100000">
                    <a:srgbClr val="9900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c1f00"/>
                  </a:gs>
                  <a:gs pos="100000">
                    <a:srgbClr val="9900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c1f00"/>
                  </a:gs>
                  <a:gs pos="100000">
                    <a:srgbClr val="9900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c1f00"/>
                  </a:gs>
                  <a:gs pos="100000">
                    <a:srgbClr val="9900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c1f00"/>
                  </a:gs>
                  <a:gs pos="100000">
                    <a:srgbClr val="9900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c1f00"/>
                  </a:gs>
                  <a:gs pos="100000">
                    <a:srgbClr val="9900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c1f00"/>
                  </a:gs>
                  <a:gs pos="100000">
                    <a:srgbClr val="9900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c1f00"/>
                  </a:gs>
                  <a:gs pos="100000">
                    <a:srgbClr val="9900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c1f00"/>
                  </a:gs>
                  <a:gs pos="100000">
                    <a:srgbClr val="9900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5c1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5c1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5c1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c1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5c1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9b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9bb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EC0D5-9CD8-48B2-9D4F-8B8C72B0240E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ема: «Олимпийские игры в древности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5класс, 2015-2016 учебный год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читель истории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русникина Юлия Викторовн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4" descr="j0299125"/>
          <p:cNvPicPr/>
          <p:nvPr/>
        </p:nvPicPr>
        <p:blipFill>
          <a:blip r:embed="rId1"/>
          <a:stretch/>
        </p:blipFill>
        <p:spPr>
          <a:xfrm>
            <a:off x="324000" y="115920"/>
            <a:ext cx="2369880" cy="3887640"/>
          </a:xfrm>
          <a:prstGeom prst="rect">
            <a:avLst/>
          </a:prstGeom>
          <a:ln w="0">
            <a:noFill/>
          </a:ln>
        </p:spPr>
      </p:pic>
      <p:sp>
        <p:nvSpPr>
          <p:cNvPr id="182" name="Rectangle 6"/>
          <p:cNvSpPr/>
          <p:nvPr/>
        </p:nvSpPr>
        <p:spPr>
          <a:xfrm>
            <a:off x="4830840" y="907920"/>
            <a:ext cx="3274920" cy="71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99"/>
                </a:solidFill>
                <a:latin typeface="Arial"/>
              </a:rPr>
              <a:t>Домашнее задание:</a:t>
            </a: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п.33, Вопросы с.16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*Задание в рабочей тетрад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*Составить кроссворд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9bb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AutoShape 7"/>
          <p:cNvSpPr/>
          <p:nvPr/>
        </p:nvSpPr>
        <p:spPr>
          <a:xfrm>
            <a:off x="3780000" y="249228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AutoShape 8"/>
          <p:cNvSpPr/>
          <p:nvPr/>
        </p:nvSpPr>
        <p:spPr>
          <a:xfrm>
            <a:off x="3708360" y="378936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Picture 10" descr="j0299125"/>
          <p:cNvPicPr/>
          <p:nvPr/>
        </p:nvPicPr>
        <p:blipFill>
          <a:blip r:embed="rId2"/>
          <a:stretch/>
        </p:blipFill>
        <p:spPr>
          <a:xfrm>
            <a:off x="324000" y="0"/>
            <a:ext cx="2369880" cy="3887640"/>
          </a:xfrm>
          <a:prstGeom prst="rect">
            <a:avLst/>
          </a:prstGeom>
          <a:ln w="0">
            <a:noFill/>
          </a:ln>
        </p:spPr>
      </p:pic>
      <p:sp>
        <p:nvSpPr>
          <p:cNvPr id="186" name="AutoShape 11"/>
          <p:cNvSpPr/>
          <p:nvPr/>
        </p:nvSpPr>
        <p:spPr>
          <a:xfrm>
            <a:off x="3780000" y="479736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WordArt 4"/>
          <p:cNvSpPr txBox="1"/>
          <p:nvPr/>
        </p:nvSpPr>
        <p:spPr>
          <a:xfrm>
            <a:off x="457200" y="765000"/>
            <a:ext cx="8229600" cy="453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Times New Roman"/>
              </a:rPr>
              <a:t>Всем спасибо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Times New Roman"/>
              </a:rPr>
              <a:t>за внимание!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push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4"/>
          <p:cNvSpPr/>
          <p:nvPr/>
        </p:nvSpPr>
        <p:spPr>
          <a:xfrm>
            <a:off x="826920" y="907920"/>
            <a:ext cx="7345440" cy="4359960"/>
          </a:xfrm>
          <a:prstGeom prst="rect">
            <a:avLst/>
          </a:prstGeom>
          <a:gradFill rotWithShape="0">
            <a:gsLst>
              <a:gs pos="0">
                <a:srgbClr val="ff9933"/>
              </a:gs>
              <a:gs pos="100000">
                <a:srgbClr val="76471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«Я стал свидетелем потрясающего события. Люди со всех концов страны, кто пешком, кто на повозках, кто на кораблях – все радостно спешили на юг, на Пелопоннес, чтобы насладиться пятью незабываемыми днями. Атлеты будут демонстрировать свою силу и ловкость и выяснять, кто же из них величайший спортсмен Греции? В четвёртый год объявляется священный мир………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Text Box 5"/>
          <p:cNvSpPr/>
          <p:nvPr/>
        </p:nvSpPr>
        <p:spPr>
          <a:xfrm>
            <a:off x="2103480" y="2318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33360" y="-360"/>
            <a:ext cx="8353440" cy="2421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0" lang="ru-RU" sz="5400" spc="-1" strike="noStrike">
                <a:solidFill>
                  <a:srgbClr val="001b1a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fff9bb"/>
                </a:solidFill>
                <a:latin typeface="Arial"/>
              </a:rPr>
              <a:t>Тема урока:</a:t>
            </a:r>
            <a:r>
              <a:rPr b="0" lang="ru-RU" sz="5400" spc="-1" strike="noStrike">
                <a:solidFill>
                  <a:srgbClr val="001b1a"/>
                </a:solidFill>
                <a:latin typeface="Arial"/>
              </a:rPr>
              <a:t> </a:t>
            </a:r>
            <a:br>
              <a:rPr sz="5400"/>
            </a:br>
            <a:r>
              <a:rPr b="0" lang="ru-RU" sz="5400" spc="-1" strike="noStrike">
                <a:solidFill>
                  <a:srgbClr val="001b1a"/>
                </a:solidFill>
                <a:latin typeface="Arial"/>
              </a:rPr>
              <a:t>ОЛИМПИЙСКИЕ ИГРЫ </a:t>
            </a:r>
            <a:br>
              <a:rPr sz="5400"/>
            </a:br>
            <a:r>
              <a:rPr b="0" lang="ru-RU" sz="5400" spc="-1" strike="noStrike">
                <a:solidFill>
                  <a:srgbClr val="001b1a"/>
                </a:solidFill>
                <a:latin typeface="Arial"/>
              </a:rPr>
              <a:t>       В </a:t>
            </a:r>
            <a:r>
              <a:rPr b="0" lang="ru-RU" sz="5400" spc="-1" strike="noStrike">
                <a:solidFill>
                  <a:srgbClr val="fff9bb"/>
                </a:solidFill>
                <a:latin typeface="Arial"/>
              </a:rPr>
              <a:t>  </a:t>
            </a:r>
            <a:r>
              <a:rPr b="0" lang="ru-RU" sz="5400" spc="-1" strike="noStrike">
                <a:solidFill>
                  <a:srgbClr val="001b1a"/>
                </a:solidFill>
                <a:latin typeface="Arial"/>
              </a:rPr>
              <a:t>ДРЕВНОСТИ</a:t>
            </a:r>
            <a:endParaRPr b="0" lang="en-US" sz="5400" spc="-1" strike="noStrike">
              <a:solidFill>
                <a:srgbClr val="fff9bb"/>
              </a:solidFill>
              <a:latin typeface="Arial"/>
            </a:endParaRPr>
          </a:p>
        </p:txBody>
      </p:sp>
      <p:pic>
        <p:nvPicPr>
          <p:cNvPr id="164" name="Picture 7" descr="0001-001-Proekt-po-fizicheskoj-kulture"/>
          <p:cNvPicPr/>
          <p:nvPr/>
        </p:nvPicPr>
        <p:blipFill>
          <a:blip r:embed="rId1"/>
          <a:stretch/>
        </p:blipFill>
        <p:spPr>
          <a:xfrm rot="556800">
            <a:off x="4932000" y="3068280"/>
            <a:ext cx="3768840" cy="29955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3f203d34621855cfb001362930c655da"/>
          <p:cNvPicPr/>
          <p:nvPr/>
        </p:nvPicPr>
        <p:blipFill>
          <a:blip r:embed="rId2"/>
          <a:stretch/>
        </p:blipFill>
        <p:spPr>
          <a:xfrm rot="21051000">
            <a:off x="573120" y="3150720"/>
            <a:ext cx="3585960" cy="3299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4" descr="3-с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175248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1b1a"/>
                </a:solidFill>
                <a:latin typeface="Arial"/>
              </a:rPr>
              <a:t>Вы узнаете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1b1a"/>
                </a:solidFill>
                <a:latin typeface="Arial"/>
              </a:rPr>
              <a:t>когда и где зародились  Олимпийские игр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1b1a"/>
                </a:solidFill>
                <a:latin typeface="Arial"/>
              </a:rPr>
              <a:t>Кто участвовал в этих игра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1b1a"/>
                </a:solidFill>
                <a:latin typeface="Arial"/>
              </a:rPr>
              <a:t>Как проходили Олимпийские игр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AutoShape 5"/>
          <p:cNvSpPr/>
          <p:nvPr/>
        </p:nvSpPr>
        <p:spPr>
          <a:xfrm>
            <a:off x="1474920" y="260280"/>
            <a:ext cx="7669080" cy="129564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1b1a"/>
                </a:solidFill>
                <a:latin typeface="comic"/>
              </a:rPr>
              <a:t>Сегодня на урок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Действительно ли Олимпийские игры играли огромную роль в жизни греков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2"/>
          <p:cNvSpPr/>
          <p:nvPr/>
        </p:nvSpPr>
        <p:spPr>
          <a:xfrm>
            <a:off x="611280" y="1276560"/>
            <a:ext cx="7777080" cy="4483080"/>
          </a:xfrm>
          <a:prstGeom prst="rect">
            <a:avLst/>
          </a:prstGeom>
          <a:gradFill rotWithShape="0">
            <a:gsLst>
              <a:gs pos="0">
                <a:srgbClr val="764718"/>
              </a:gs>
              <a:gs pos="50000">
                <a:srgbClr val="ff9933"/>
              </a:gs>
              <a:gs pos="100000">
                <a:srgbClr val="76471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1b1a"/>
                </a:solidFill>
                <a:latin typeface="Arial"/>
              </a:rPr>
              <a:t>    </a:t>
            </a:r>
            <a:r>
              <a:rPr b="1" i="1" lang="ru-RU" sz="2400" spc="-1" strike="noStrike">
                <a:solidFill>
                  <a:srgbClr val="001b1a"/>
                </a:solidFill>
                <a:latin typeface="Arial"/>
              </a:rPr>
              <a:t>Раз в четыре года из Олимпии во все стороны света отправлялись «священные посланники» Зевса. Они шли из города в город, извещая греков о радостном событии и приглашая всех посетить Олимпийские игры: «Все в Олимпию! Священный мир объявлен, дороги безопасны! Да победят сильнейшие!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Вопрос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1b1a"/>
                </a:solidFill>
                <a:latin typeface="Arial"/>
              </a:rPr>
              <a:t>Что нового об Олимпиаде мы можем узнать из этого призыва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fff9bb"/>
              </a:solidFill>
              <a:latin typeface="Arial"/>
            </a:endParaRPr>
          </a:p>
        </p:txBody>
      </p:sp>
      <p:pic>
        <p:nvPicPr>
          <p:cNvPr id="172" name="Picture 4" descr="0 - 0060-1"/>
          <p:cNvPicPr/>
          <p:nvPr/>
        </p:nvPicPr>
        <p:blipFill>
          <a:blip r:embed="rId1"/>
          <a:stretch/>
        </p:blipFill>
        <p:spPr>
          <a:xfrm>
            <a:off x="324000" y="2997360"/>
            <a:ext cx="2187360" cy="309564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5" descr="knf9184458fac467147a43197b3db7baf4a_800"/>
          <p:cNvPicPr/>
          <p:nvPr/>
        </p:nvPicPr>
        <p:blipFill>
          <a:blip r:embed="rId2"/>
          <a:stretch/>
        </p:blipFill>
        <p:spPr>
          <a:xfrm>
            <a:off x="395280" y="115920"/>
            <a:ext cx="2297160" cy="259236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6" descr="f6bda_2031"/>
          <p:cNvPicPr/>
          <p:nvPr/>
        </p:nvPicPr>
        <p:blipFill>
          <a:blip r:embed="rId3"/>
          <a:stretch/>
        </p:blipFill>
        <p:spPr>
          <a:xfrm>
            <a:off x="3059280" y="3357720"/>
            <a:ext cx="2736720" cy="316692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7" descr="discobolus"/>
          <p:cNvPicPr/>
          <p:nvPr/>
        </p:nvPicPr>
        <p:blipFill>
          <a:blip r:embed="rId4"/>
          <a:stretch/>
        </p:blipFill>
        <p:spPr>
          <a:xfrm>
            <a:off x="6372360" y="260280"/>
            <a:ext cx="2519280" cy="468000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8" descr="jMC00ZWU0"/>
          <p:cNvPicPr/>
          <p:nvPr/>
        </p:nvPicPr>
        <p:blipFill>
          <a:blip r:embed="rId5"/>
          <a:stretch/>
        </p:blipFill>
        <p:spPr>
          <a:xfrm>
            <a:off x="3348000" y="260280"/>
            <a:ext cx="2394000" cy="2664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0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898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468000" y="475920"/>
            <a:ext cx="777564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990000"/>
                </a:solidFill>
                <a:latin typeface="Arial"/>
              </a:rPr>
              <a:t>ЗАДАНИЕ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1b1a"/>
                </a:solidFill>
                <a:latin typeface="Arial"/>
              </a:rPr>
              <a:t>Прочитайте приведенный ниже текст, в котором пропущен ряд слов. Обратите внимание, что в списке слов больше чем вам потребуется для заполнения.</a:t>
            </a:r>
            <a:r>
              <a:rPr b="1" lang="ru-RU" sz="2800" spc="-1" strike="noStrike">
                <a:solidFill>
                  <a:srgbClr val="001b1a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лова: Боги, Статуей Геракла, Статуей бога Зевса, подкупать судей, нарушать правила, обычай, гражданин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AutoShape 4"/>
          <p:cNvSpPr/>
          <p:nvPr/>
        </p:nvSpPr>
        <p:spPr>
          <a:xfrm>
            <a:off x="900000" y="2637000"/>
            <a:ext cx="7344000" cy="1942920"/>
          </a:xfrm>
          <a:prstGeom prst="wedgeEllipseCallout">
            <a:avLst>
              <a:gd name="adj1" fmla="val -53027"/>
              <a:gd name="adj2" fmla="val 60212"/>
            </a:avLst>
          </a:prstGeom>
          <a:solidFill>
            <a:srgbClr val="ff99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51"/>
              </a:spcBef>
              <a:buClr>
                <a:srgbClr val="ff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2929"/>
                </a:solidFill>
                <a:latin typeface="Arial"/>
              </a:rPr>
              <a:t>«Я, гражданин полиса Афины, подтверждаю перед ………….. , что тренировался, как требуют древние …………… великого праздника. Торжественно клянусь в том, что для достижения победы не буду ……………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32400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Действительно ли Олимпийские игры играли огромную роль в жизни греков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0" name="Picture 3" descr="j0299125"/>
          <p:cNvPicPr/>
          <p:nvPr/>
        </p:nvPicPr>
        <p:blipFill>
          <a:blip r:embed="rId2"/>
          <a:stretch/>
        </p:blipFill>
        <p:spPr>
          <a:xfrm>
            <a:off x="611280" y="476280"/>
            <a:ext cx="175896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5T13:20:05Z</dcterms:created>
  <dc:creator>марина</dc:creator>
  <dc:description/>
  <dc:language>en-US</dc:language>
  <cp:lastModifiedBy>mayson</cp:lastModifiedBy>
  <dcterms:modified xsi:type="dcterms:W3CDTF">2016-04-17T14:01:20Z</dcterms:modified>
  <cp:revision>39</cp:revision>
  <dc:subject/>
  <dc:title>Заголовок слайда</dc:title>
</cp:coreProperties>
</file>