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010-1110-4EAE-AE43-2CFCB6BF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3AC-69FF-48C1-A9C1-E857368C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49B-6183-4936-820D-25BD32C1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12E-318B-4527-83B9-6C8B6B76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D71C-C354-4AEC-AF9F-B818D5A4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1791-578E-49B9-ACB8-0E7C89C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FF82-9990-4319-981B-03E4C0F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E02A-F40B-455C-9F1E-D5710AB6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5F04-0C06-4284-B00D-E0C1B06F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2C53-C052-472A-8105-9D0753D6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B191-05F8-4583-BBB2-E3CEF0D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85E-22AA-4C7B-A7F4-B164B38B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469A-2770-4CC3-A2D0-17DBF46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ED36-B2E9-4621-B380-7E0BA78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A07F-AF3D-4BDE-9DE4-FD385351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BDD4-7158-4861-865D-4FFCBE94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7F2D-C2AC-4867-9433-039D8789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9B2-60CF-42FD-95CF-CE93EEA3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B61-573E-40B3-A589-46A84B6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C69-E416-451B-9FD7-F316FC8A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020-F22C-408B-81B3-92562A26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469-09E6-49FC-84D5-4421970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C7A-09C8-452D-B248-551E8A6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7DC-8CC7-48B3-9608-E19DF80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100000">
              <a:srgbClr val="99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9472e"/>
                </a:gs>
                <a:gs pos="100000">
                  <a:srgbClr val="5c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E847-FE44-428C-B680-1915F03BBB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100000">
              <a:srgbClr val="99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9472e"/>
                </a:gs>
                <a:gs pos="100000">
                  <a:srgbClr val="5c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861-911A-456D-9B15-CB30572CD0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 «Олимпийские игры в древност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класс, 2015-2016 учебный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сто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усникина Юлия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j0299125"/>
          <p:cNvPicPr/>
          <p:nvPr/>
        </p:nvPicPr>
        <p:blipFill>
          <a:blip r:embed="rId1"/>
          <a:stretch/>
        </p:blipFill>
        <p:spPr>
          <a:xfrm>
            <a:off x="324000" y="115920"/>
            <a:ext cx="2369880" cy="3887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4830840" y="907920"/>
            <a:ext cx="327492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омашнее задание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.33, Вопросы с.1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*Задание в рабочей тет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*Составить кроссвор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9b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3780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708360" y="378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0" descr="j0299125"/>
          <p:cNvPicPr/>
          <p:nvPr/>
        </p:nvPicPr>
        <p:blipFill>
          <a:blip r:embed="rId2"/>
          <a:stretch/>
        </p:blipFill>
        <p:spPr>
          <a:xfrm>
            <a:off x="324000" y="0"/>
            <a:ext cx="2369880" cy="38876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1"/>
          <p:cNvSpPr/>
          <p:nvPr/>
        </p:nvSpPr>
        <p:spPr>
          <a:xfrm>
            <a:off x="3780000" y="4797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457200" y="765000"/>
            <a:ext cx="82296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сем спасибо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826920" y="907920"/>
            <a:ext cx="7345440" cy="43599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Я стал свидетелем потрясающего события. Люди со всех концов страны, кто пешком, кто на повозках, кто на кораблях – все радостно спешили на юг, на Пелопоннес, чтобы насладиться пятью незабываемыми днями. Атлеты будут демонстрировать свою силу и ловкость и выяснять, кто же из них величайший спортсмен Греции? В четвёртый год объявляется священный мир……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03480" y="231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35344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9bb"/>
                </a:solidFill>
                <a:latin typeface="Arial"/>
              </a:rPr>
              <a:t>Тема урока:</a:t>
            </a: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ОЛИМПИЙСКИЕ ИГРЫ </a:t>
            </a:r>
            <a:br>
              <a:rPr sz="5400"/>
            </a:b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       В </a:t>
            </a:r>
            <a:r>
              <a:rPr b="0" lang="ru-RU" sz="5400" spc="-1" strike="noStrike">
                <a:solidFill>
                  <a:srgbClr val="fff9bb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ДРЕВНОСТИ</a:t>
            </a:r>
            <a:endParaRPr b="0" lang="en-US" sz="5400" spc="-1" strike="noStrike">
              <a:solidFill>
                <a:srgbClr val="fff9bb"/>
              </a:solidFill>
              <a:latin typeface="Arial"/>
            </a:endParaRPr>
          </a:p>
        </p:txBody>
      </p:sp>
      <p:pic>
        <p:nvPicPr>
          <p:cNvPr id="164" name="Picture 7" descr="0001-001-Proekt-po-fizicheskoj-kulture"/>
          <p:cNvPicPr/>
          <p:nvPr/>
        </p:nvPicPr>
        <p:blipFill>
          <a:blip r:embed="rId1"/>
          <a:stretch/>
        </p:blipFill>
        <p:spPr>
          <a:xfrm rot="556800">
            <a:off x="4932000" y="3068280"/>
            <a:ext cx="3768840" cy="2995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3f203d34621855cfb001362930c655da"/>
          <p:cNvPicPr/>
          <p:nvPr/>
        </p:nvPicPr>
        <p:blipFill>
          <a:blip r:embed="rId2"/>
          <a:stretch/>
        </p:blipFill>
        <p:spPr>
          <a:xfrm rot="21051000">
            <a:off x="573120" y="3150720"/>
            <a:ext cx="3585960" cy="329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3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Вы узнае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когда и где зародились  Олимпийски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Кто участвовал в этих иг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Как проходили Олимпийски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1474920" y="260280"/>
            <a:ext cx="7669080" cy="129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1a"/>
                </a:solidFill>
                <a:latin typeface="comic"/>
              </a:rPr>
              <a:t>Сегодня на уро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йствительно ли Олимпийские игры играли огромную роль в жизни греков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11280" y="1276560"/>
            <a:ext cx="7777080" cy="4483080"/>
          </a:xfrm>
          <a:prstGeom prst="rect">
            <a:avLst/>
          </a:pr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b1a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1b1a"/>
                </a:solidFill>
                <a:latin typeface="Arial"/>
              </a:rPr>
              <a:t>Раз в четыре года из Олимпии во все стороны света отправлялись «священные посланники» Зевса. Они шли из города в город, извещая греков о радостном событии и приглашая всех посетить Олимпийские игры: «Все в Олимпию! Священный мир объявлен, дороги безопасны! Да победят сильнейшие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b1a"/>
                </a:solidFill>
                <a:latin typeface="Arial"/>
              </a:rPr>
              <a:t>Что нового об Олимпиаде мы можем узнать из этого призы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9bb"/>
              </a:solidFill>
              <a:latin typeface="Arial"/>
            </a:endParaRPr>
          </a:p>
        </p:txBody>
      </p:sp>
      <p:pic>
        <p:nvPicPr>
          <p:cNvPr id="172" name="Picture 4" descr="0 - 0060-1"/>
          <p:cNvPicPr/>
          <p:nvPr/>
        </p:nvPicPr>
        <p:blipFill>
          <a:blip r:embed="rId1"/>
          <a:stretch/>
        </p:blipFill>
        <p:spPr>
          <a:xfrm>
            <a:off x="324000" y="2997360"/>
            <a:ext cx="2187360" cy="30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knf9184458fac467147a43197b3db7baf4a_800"/>
          <p:cNvPicPr/>
          <p:nvPr/>
        </p:nvPicPr>
        <p:blipFill>
          <a:blip r:embed="rId2"/>
          <a:stretch/>
        </p:blipFill>
        <p:spPr>
          <a:xfrm>
            <a:off x="395280" y="115920"/>
            <a:ext cx="2297160" cy="25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f6bda_2031"/>
          <p:cNvPicPr/>
          <p:nvPr/>
        </p:nvPicPr>
        <p:blipFill>
          <a:blip r:embed="rId3"/>
          <a:stretch/>
        </p:blipFill>
        <p:spPr>
          <a:xfrm>
            <a:off x="3059280" y="3357720"/>
            <a:ext cx="2736720" cy="3166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discobolus"/>
          <p:cNvPicPr/>
          <p:nvPr/>
        </p:nvPicPr>
        <p:blipFill>
          <a:blip r:embed="rId4"/>
          <a:stretch/>
        </p:blipFill>
        <p:spPr>
          <a:xfrm>
            <a:off x="6372360" y="260280"/>
            <a:ext cx="2519280" cy="468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jMC00ZWU0"/>
          <p:cNvPicPr/>
          <p:nvPr/>
        </p:nvPicPr>
        <p:blipFill>
          <a:blip r:embed="rId5"/>
          <a:stretch/>
        </p:blipFill>
        <p:spPr>
          <a:xfrm>
            <a:off x="3348000" y="260280"/>
            <a:ext cx="2394000" cy="26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000" y="475920"/>
            <a:ext cx="7775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ЗАД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b1a"/>
                </a:solidFill>
                <a:latin typeface="Arial"/>
              </a:rPr>
              <a:t>Прочитайте приведенный ниже текст, в котором пропущен ряд слов. Обратите внимание, что в списке слов больше чем вам потребуется для заполнения.</a:t>
            </a:r>
            <a:r>
              <a:rPr b="1" lang="ru-RU" sz="2800" spc="-1" strike="noStrike">
                <a:solidFill>
                  <a:srgbClr val="001b1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а: Боги, Статуей Геракла, Статуей бога Зевса, подкупать судей, нарушать правила, обычай, граждан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900000" y="2637000"/>
            <a:ext cx="7344000" cy="1942920"/>
          </a:xfrm>
          <a:prstGeom prst="wedgeEllipseCallout">
            <a:avLst>
              <a:gd name="adj1" fmla="val -53027"/>
              <a:gd name="adj2" fmla="val 60212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2929"/>
                </a:solidFill>
                <a:latin typeface="Arial"/>
              </a:rPr>
              <a:t>«Я, гражданин полиса Афины, подтверждаю перед ………….. , что тренировался, как требуют древние …………… великого праздника. Торжественно клянусь в том, что для достижения победы не буду …………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йствительно ли Олимпийские игры играли огромную роль в жизни греков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j0299125"/>
          <p:cNvPicPr/>
          <p:nvPr/>
        </p:nvPicPr>
        <p:blipFill>
          <a:blip r:embed="rId2"/>
          <a:stretch/>
        </p:blipFill>
        <p:spPr>
          <a:xfrm>
            <a:off x="611280" y="476280"/>
            <a:ext cx="1758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mayson</cp:lastModifiedBy>
  <dcterms:modified xsi:type="dcterms:W3CDTF">2016-04-17T14:01:20Z</dcterms:modified>
  <cp:revision>39</cp:revision>
  <dc:subject/>
  <dc:title>Заголовок слайда</dc:title>
</cp:coreProperties>
</file>