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D9C-B97F-40CF-9B3E-B05D5BA0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D42-0602-4159-856B-D746F210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FD4-FB96-42E4-8A47-46D44C17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90A-5F9C-4FBE-A1FB-EF0905F7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8C4B-F697-443C-A89E-22F14A0A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E4F-6073-4A8C-BFD4-BFDFFDC3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C1B3-1562-4843-BC88-90D9ABD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683A-8EE6-453B-BFD2-ED75588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4747-803C-4726-9C1A-FF38D2F6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FBDC-D8AE-4575-A574-1D9F389A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B8AC-ED02-4179-8472-2E4E9D1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3BD-4CA1-4DA3-8F1F-5D143ECD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E59E-BD4B-4045-90F8-EBD880C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56F1-7D99-44E3-BAB5-6EA53D6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EBB5-1D89-4E66-AD53-CF90AA6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1943-9C5C-4DD6-A1EC-F57F9D9D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8C75-6850-4A79-9F68-EB287A50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28B-4DB3-4F4B-9398-D79C5B9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419-937E-4F79-B4D8-492E8439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6BE-6779-465E-AA2E-7D4D01C2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72F-1D0B-42B5-86FB-52893B3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B89-A3BC-413A-A134-5B2B32E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9BA-17E1-4263-AF2A-ABCB999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60D-98AE-4723-92A9-ACBBABC8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4C9-4D7B-4371-AAD6-52AE4E3B47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5FB-EA9C-430F-8C58-A9CA37BC5C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При покупке товара Дима получил ч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1125360"/>
            <a:ext cx="403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Давайте его рассмотри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3971" t="15981" r="58856" b="24819"/>
          <a:stretch/>
        </p:blipFill>
        <p:spPr>
          <a:xfrm>
            <a:off x="5508720" y="1125360"/>
            <a:ext cx="3635280" cy="573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17474" t="4168" r="15545" b="22318"/>
          <a:stretch/>
        </p:blipFill>
        <p:spPr>
          <a:xfrm>
            <a:off x="0" y="2349360"/>
            <a:ext cx="29606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Исторические све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3085" t="15022" r="13971" b="16959"/>
          <a:stretch/>
        </p:blipFill>
        <p:spPr>
          <a:xfrm>
            <a:off x="125280" y="1268280"/>
            <a:ext cx="8893440" cy="518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Исторические све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2291" t="15981" r="12902" b="16916"/>
          <a:stretch/>
        </p:blipFill>
        <p:spPr>
          <a:xfrm>
            <a:off x="17640" y="1413000"/>
            <a:ext cx="9126360" cy="511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Исторические све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5280" y="1944360"/>
            <a:ext cx="73087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Спасибо за внимание!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Удач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7474" t="4168" r="15545" b="22318"/>
          <a:stretch/>
        </p:blipFill>
        <p:spPr>
          <a:xfrm>
            <a:off x="0" y="2781360"/>
            <a:ext cx="2678040" cy="40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Ребята ответьте на вопрос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280" y="1196640"/>
            <a:ext cx="4032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Какие покупки были сдела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тоимость всех покупо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дач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3971" t="15981" r="58856" b="24819"/>
          <a:stretch/>
        </p:blipFill>
        <p:spPr>
          <a:xfrm>
            <a:off x="5508720" y="1125360"/>
            <a:ext cx="3635280" cy="573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17474" t="4168" r="15545" b="22318"/>
          <a:stretch/>
        </p:blipFill>
        <p:spPr>
          <a:xfrm>
            <a:off x="0" y="4508640"/>
            <a:ext cx="15429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525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акие арифметические действия используются при подсчёте стоимости покупки и сдач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акие числа используются при расчёта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авайте сформулируем тему уро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3971" t="15981" r="58856" b="24819"/>
          <a:stretch/>
        </p:blipFill>
        <p:spPr>
          <a:xfrm>
            <a:off x="5508720" y="1125360"/>
            <a:ext cx="3635280" cy="5732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9920" y="3429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Сложение и вычитание  десятичных дробе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7474" t="4168" r="15545" b="22318"/>
          <a:stretch/>
        </p:blipFill>
        <p:spPr>
          <a:xfrm>
            <a:off x="0" y="0"/>
            <a:ext cx="225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3600" spc="-1" strike="noStrike">
                <a:solidFill>
                  <a:srgbClr val="eaeaea"/>
                </a:solidFill>
                <a:latin typeface="Georgia"/>
              </a:rPr>
              <a:t>Давайте сложим десятичные дроби 3,54 и 5,13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9843" t="22670" r="60040" b="66531"/>
          <a:stretch/>
        </p:blipFill>
        <p:spPr>
          <a:xfrm>
            <a:off x="2340000" y="1197000"/>
            <a:ext cx="417672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914400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50205" t="15283" r="44078" b="75580"/>
          <a:stretch/>
        </p:blipFill>
        <p:spPr>
          <a:xfrm>
            <a:off x="2268360" y="2205000"/>
            <a:ext cx="84960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19698" t="33455" r="60040" b="58231"/>
          <a:stretch/>
        </p:blipFill>
        <p:spPr>
          <a:xfrm>
            <a:off x="3076560" y="2205000"/>
            <a:ext cx="3224160" cy="82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13436" t="44334" r="80004" b="47168"/>
          <a:stretch/>
        </p:blipFill>
        <p:spPr>
          <a:xfrm>
            <a:off x="1332000" y="3429000"/>
            <a:ext cx="936360" cy="75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rcRect l="50205" t="15283" r="44078" b="75580"/>
          <a:stretch/>
        </p:blipFill>
        <p:spPr>
          <a:xfrm>
            <a:off x="2268360" y="3429000"/>
            <a:ext cx="85284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26563" t="44334" r="34050" b="47168"/>
          <a:stretch/>
        </p:blipFill>
        <p:spPr>
          <a:xfrm>
            <a:off x="3059280" y="3429000"/>
            <a:ext cx="4802040" cy="64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3600" spc="-1" strike="noStrike">
                <a:solidFill>
                  <a:srgbClr val="eaeaea"/>
                </a:solidFill>
                <a:latin typeface="Georgia"/>
              </a:rPr>
              <a:t>Найдем разность чисел 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Georgia"/>
              </a:rPr>
              <a:t>7,8 и 2,345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1276200"/>
            <a:ext cx="3456000" cy="188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12920" y="3429000"/>
            <a:ext cx="6715080" cy="714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76360" y="4570560"/>
            <a:ext cx="6659640" cy="228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280" y="549360"/>
            <a:ext cx="8893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Познакомимся с </a:t>
            </a: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правилом:</a:t>
            </a:r>
            <a:br>
              <a:rPr sz="54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280" y="1989000"/>
            <a:ext cx="8893440" cy="23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8920" y="4365720"/>
            <a:ext cx="8964720" cy="216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Вычисли и проверь себя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2664000" cy="74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977080" cy="202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448000" cy="4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6985080" cy="211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Вычисли и проверь себя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521080" cy="5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475272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95272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042920" y="4859280"/>
            <a:ext cx="4535640" cy="199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6:29:15Z</dcterms:created>
  <dc:creator>user</dc:creator>
  <dc:description/>
  <dc:language>en-US</dc:language>
  <cp:lastModifiedBy>Admin</cp:lastModifiedBy>
  <dcterms:modified xsi:type="dcterms:W3CDTF">2017-08-20T14:50:29Z</dcterms:modified>
  <cp:revision>36</cp:revision>
  <dc:subject/>
  <dc:title>Слайд 1</dc:title>
</cp:coreProperties>
</file>