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555-ACCF-4D76-813D-553DE6E9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32B-ACFE-4E7E-B58E-A7CBC1ED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368-EEB7-446F-A991-0B9D23C6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50D-A34C-4FA2-86FA-6A340030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21DB-1ECB-4F79-A11A-F5C2BF6A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2681-D3EB-4B79-9AAB-CCF35AE0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C925-3296-4CAF-B2F6-17F45500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9446-EAB8-4977-9203-B5CE20D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4353-F4CD-467B-B3D7-087B81A0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726B-1C5F-40BC-9311-1B821099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FE95-EF66-45DC-93E7-A1464242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7F2-B1AB-43A6-BD0F-46352C0D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9E4C-5017-4F1F-A83D-84CF205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C584-5DE4-4CC0-B07F-3F07896A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C47C-A5D1-4C25-859B-5461BB94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8611-3B01-42A9-842B-28CB5FA6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573E-DEB4-427A-B98E-86386364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067-54B9-4262-AD0E-C47DB094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738-9664-4C6A-AF0D-CE624665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B91-BE83-410A-8652-925B8E7A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F23-CF86-4198-AEF5-004326FC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474-618D-405C-9FBD-B5F8238C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70B-213F-4DD4-A838-C14521A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A5D-986E-4DAF-9B92-CFEB09C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B29-53E0-4B4E-9387-5220868C1E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06F8-814A-4F91-8F4D-F287713858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При покупке товара Дима получил че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1125360"/>
            <a:ext cx="403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Давайте его рассмотри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3971" t="15981" r="58856" b="24819"/>
          <a:stretch/>
        </p:blipFill>
        <p:spPr>
          <a:xfrm>
            <a:off x="5508720" y="1125360"/>
            <a:ext cx="3635280" cy="5732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17474" t="4168" r="15545" b="22318"/>
          <a:stretch/>
        </p:blipFill>
        <p:spPr>
          <a:xfrm>
            <a:off x="0" y="2349360"/>
            <a:ext cx="296064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Исторические све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13085" t="15022" r="13971" b="16959"/>
          <a:stretch/>
        </p:blipFill>
        <p:spPr>
          <a:xfrm>
            <a:off x="125280" y="1268280"/>
            <a:ext cx="8893440" cy="518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Исторические све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2291" t="15981" r="12902" b="16916"/>
          <a:stretch/>
        </p:blipFill>
        <p:spPr>
          <a:xfrm>
            <a:off x="17640" y="1413000"/>
            <a:ext cx="9126360" cy="5116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Исторические све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5280" y="1944360"/>
            <a:ext cx="73087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Спасибо за внимание!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Удачи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7474" t="4168" r="15545" b="22318"/>
          <a:stretch/>
        </p:blipFill>
        <p:spPr>
          <a:xfrm>
            <a:off x="0" y="2781360"/>
            <a:ext cx="2678040" cy="407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Ребята ответьте на вопрос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280" y="1196640"/>
            <a:ext cx="4032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Какие покупки были сделан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Стоимость всех покупо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Сдач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3971" t="15981" r="58856" b="24819"/>
          <a:stretch/>
        </p:blipFill>
        <p:spPr>
          <a:xfrm>
            <a:off x="5508720" y="1125360"/>
            <a:ext cx="3635280" cy="573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17474" t="4168" r="15545" b="22318"/>
          <a:stretch/>
        </p:blipFill>
        <p:spPr>
          <a:xfrm>
            <a:off x="0" y="4508640"/>
            <a:ext cx="154296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525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Какие арифметические действия используются при подсчёте стоимости покупки и сдач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Какие числа используются при расчёта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авайте сформулируем тему урок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3971" t="15981" r="58856" b="24819"/>
          <a:stretch/>
        </p:blipFill>
        <p:spPr>
          <a:xfrm>
            <a:off x="5508720" y="1125360"/>
            <a:ext cx="3635280" cy="5732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9920" y="3429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Сложение и вычитание  десятичных дробей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7474" t="4168" r="15545" b="22318"/>
          <a:stretch/>
        </p:blipFill>
        <p:spPr>
          <a:xfrm>
            <a:off x="0" y="0"/>
            <a:ext cx="225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3600" spc="-1" strike="noStrike">
                <a:solidFill>
                  <a:srgbClr val="eaeaea"/>
                </a:solidFill>
                <a:latin typeface="Georgia"/>
              </a:rPr>
              <a:t>Давайте сложим десятичные дроби 3,54 и 5,13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9843" t="22670" r="60040" b="66531"/>
          <a:stretch/>
        </p:blipFill>
        <p:spPr>
          <a:xfrm>
            <a:off x="2340000" y="1197000"/>
            <a:ext cx="417672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9144000" cy="20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50205" t="15283" r="44078" b="75580"/>
          <a:stretch/>
        </p:blipFill>
        <p:spPr>
          <a:xfrm>
            <a:off x="2268360" y="2205000"/>
            <a:ext cx="84960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rcRect l="19698" t="33455" r="60040" b="58231"/>
          <a:stretch/>
        </p:blipFill>
        <p:spPr>
          <a:xfrm>
            <a:off x="3076560" y="2205000"/>
            <a:ext cx="3224160" cy="827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13436" t="44334" r="80004" b="47168"/>
          <a:stretch/>
        </p:blipFill>
        <p:spPr>
          <a:xfrm>
            <a:off x="1332000" y="3429000"/>
            <a:ext cx="936360" cy="758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rcRect l="50205" t="15283" r="44078" b="75580"/>
          <a:stretch/>
        </p:blipFill>
        <p:spPr>
          <a:xfrm>
            <a:off x="2268360" y="3429000"/>
            <a:ext cx="85284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rcRect l="26563" t="44334" r="34050" b="47168"/>
          <a:stretch/>
        </p:blipFill>
        <p:spPr>
          <a:xfrm>
            <a:off x="3059280" y="3429000"/>
            <a:ext cx="4802040" cy="64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3600" spc="-1" strike="noStrike">
                <a:solidFill>
                  <a:srgbClr val="eaeaea"/>
                </a:solidFill>
                <a:latin typeface="Georgia"/>
              </a:rPr>
              <a:t>Найдем разность чисел </a:t>
            </a: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Georgia"/>
              </a:rPr>
              <a:t>7,8 и 2,345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71640" y="1276200"/>
            <a:ext cx="3456000" cy="188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12920" y="3429000"/>
            <a:ext cx="6715080" cy="714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76360" y="4570560"/>
            <a:ext cx="6659640" cy="2287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280" y="549360"/>
            <a:ext cx="8893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    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eaeaea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Познакомимся с </a:t>
            </a:r>
            <a:r>
              <a:rPr b="1" i="1" lang="en-US" sz="4000" spc="-1" strike="noStrike" u="sng">
                <a:solidFill>
                  <a:srgbClr val="eaeaea"/>
                </a:solidFill>
                <a:uFillTx/>
                <a:latin typeface="Times New Roman"/>
              </a:rPr>
              <a:t>правилом:</a:t>
            </a:r>
            <a:br>
              <a:rPr sz="54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280" y="1989000"/>
            <a:ext cx="8893440" cy="237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8920" y="4365720"/>
            <a:ext cx="8964720" cy="216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Вычисли и проверь себя 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2664000" cy="74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977080" cy="2021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2448000" cy="47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900000" y="4724280"/>
            <a:ext cx="6985080" cy="211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aeaea"/>
                </a:solidFill>
                <a:latin typeface="Georgia"/>
              </a:rPr>
              <a:t>      </a:t>
            </a:r>
            <a:r>
              <a:rPr b="1" i="1" lang="en-US" sz="4000" spc="-1" strike="noStrike">
                <a:solidFill>
                  <a:srgbClr val="eaeaea"/>
                </a:solidFill>
                <a:latin typeface="Georgia"/>
              </a:rPr>
              <a:t>Вычисли и проверь себя 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521080" cy="50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4752720" cy="175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952720" cy="58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042920" y="4859280"/>
            <a:ext cx="4535640" cy="199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6:29:15Z</dcterms:created>
  <dc:creator>user</dc:creator>
  <dc:description/>
  <dc:language>en-US</dc:language>
  <cp:lastModifiedBy>Admin</cp:lastModifiedBy>
  <dcterms:modified xsi:type="dcterms:W3CDTF">2017-08-20T14:50:29Z</dcterms:modified>
  <cp:revision>36</cp:revision>
  <dc:subject/>
  <dc:title>Слайд 1</dc:title>
</cp:coreProperties>
</file>