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1E6-8985-42EA-A696-51F5BB3A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732-44BF-480E-A433-8C5EA13B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4AD-9AD2-4444-AEBE-0551AABE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6C4-236A-43EA-A47E-0C8114E9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863-810C-4472-B6DF-FDFD2D61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10E-E453-4D53-AC52-AD9A235F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A20-4574-4C56-AECD-E69896BC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33D-EF11-4897-9011-4B42033C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CBE-E374-4F67-958A-00630945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989-A45F-4100-A2E7-F60F4275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E93-74E8-4836-9C8B-28D95E90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C78-E867-454F-B7C3-71184859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2FA4A6-B555-47C7-ABC1-6FDA6AC7E94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Выделение крахмала из картоф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18600" y="558972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Константин Моло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856720" cy="50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61240" cy="48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696520" cy="49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69600" cy="49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64072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820360" cy="498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4T17:09:21Z</dcterms:created>
  <dc:creator>Катюша</dc:creator>
  <dc:description/>
  <dc:language>en-US</dc:language>
  <cp:lastModifiedBy>Катюша</cp:lastModifiedBy>
  <dcterms:modified xsi:type="dcterms:W3CDTF">2016-03-14T17:09:30Z</dcterms:modified>
  <cp:revision>2</cp:revision>
  <dc:subject/>
  <dc:title>Выделение крахмала из картофеля</dc:title>
</cp:coreProperties>
</file>