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9EB2-D25D-479C-9C3F-6C3E4560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2A53-7B1E-47F4-81E0-85062187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E459-6AFD-4F07-AF4A-867A5EB8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28B-7A70-4A0F-B103-0E34DB9F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303C-069E-45BC-88B2-370C5B91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22E-66F7-434B-B7B5-1126EDCD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80D9-4121-415D-83D9-C61D7BB7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ABE0-00E7-4A76-ABD0-412E1CF5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725E-E5DE-4762-A8F1-40E0F14C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8F3-BBBC-4503-BF9A-FAC24D83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D45-CB96-4547-99B3-F5201CB9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D5E8-E790-4C5D-96C3-694F18E8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42E40A-D8E8-4773-A5B9-865C191F504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Выделение крахмала из картоф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18600" y="558972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Константин Моло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856720" cy="50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61240" cy="48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696520" cy="49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69600" cy="49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64072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820360" cy="498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4T17:09:21Z</dcterms:created>
  <dc:creator>Катюша</dc:creator>
  <dc:description/>
  <dc:language>en-US</dc:language>
  <cp:lastModifiedBy>Катюша</cp:lastModifiedBy>
  <dcterms:modified xsi:type="dcterms:W3CDTF">2016-03-14T17:09:30Z</dcterms:modified>
  <cp:revision>2</cp:revision>
  <dc:subject/>
  <dc:title>Выделение крахмала из картофеля</dc:title>
</cp:coreProperties>
</file>