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33E-232F-44B5-B9FA-1A3CD0EE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2BA-CF98-4451-BF8B-37CB0B3B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56E-BA54-4191-AE81-071436FF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958-8A9E-44E7-8D2F-A648066B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8AA-D694-4870-857F-74C01047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2A2-ECB2-480D-928F-60355B1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2DA-2424-4231-A59A-371F11B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299-CA89-45EE-8414-79CD3E1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3A0-77B3-44CB-BB3C-1606AEFE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400-6685-4604-A65F-FA0FEAA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F1C-A0BE-46DC-904A-3EBD960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B88-2017-474E-A095-7138DD4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349-FF20-42A8-AADB-6A8EEC90A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2133720"/>
            <a:ext cx="1000764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Raavi"/>
              </a:rPr>
              <a:t>З</a:t>
            </a:r>
            <a:r>
              <a:rPr b="1" lang="ru-RU" sz="15000" spc="-1" strike="noStrike">
                <a:solidFill>
                  <a:srgbClr val="0000ff"/>
                </a:solidFill>
                <a:latin typeface="Raavi"/>
              </a:rPr>
              <a:t>о</a:t>
            </a:r>
            <a:r>
              <a:rPr b="1" lang="ru-RU" sz="15000" spc="-1" strike="noStrike">
                <a:solidFill>
                  <a:srgbClr val="ffff00"/>
                </a:solidFill>
                <a:latin typeface="Raavi"/>
              </a:rPr>
              <a:t>о</a:t>
            </a:r>
            <a:r>
              <a:rPr b="1" lang="ru-RU" sz="15000" spc="-1" strike="noStrike">
                <a:solidFill>
                  <a:srgbClr val="0000ff"/>
                </a:solidFill>
                <a:latin typeface="Raavi"/>
              </a:rPr>
              <a:t>п</a:t>
            </a:r>
            <a:r>
              <a:rPr b="1" lang="ru-RU" sz="15000" spc="-1" strike="noStrike">
                <a:solidFill>
                  <a:srgbClr val="ff0000"/>
                </a:solidFill>
                <a:latin typeface="Raavi"/>
              </a:rPr>
              <a:t>а</a:t>
            </a:r>
            <a:r>
              <a:rPr b="1" lang="ru-RU" sz="15000" spc="-1" strike="noStrike">
                <a:solidFill>
                  <a:srgbClr val="00b0f0"/>
                </a:solidFill>
                <a:latin typeface="Raavi"/>
              </a:rPr>
              <a:t>р</a:t>
            </a:r>
            <a:r>
              <a:rPr b="1" lang="ru-RU" sz="15000" spc="-1" strike="noStrike">
                <a:solidFill>
                  <a:srgbClr val="7030a0"/>
                </a:solidFill>
                <a:latin typeface="Raavi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ычание льва.mp3" descr=""/>
          <p:cNvPicPr/>
          <p:nvPr/>
        </p:nvPicPr>
        <p:blipFill>
          <a:blip r:embed="rId1"/>
          <a:stretch/>
        </p:blipFill>
        <p:spPr>
          <a:xfrm>
            <a:off x="8532720" y="260280"/>
            <a:ext cx="38736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Б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9701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ОСОР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hinocero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Раиса\Desktop\Мои рисунки\Новая папка\0_22fb7_c87a7895_XL.jpg"/>
          <p:cNvPicPr/>
          <p:nvPr/>
        </p:nvPicPr>
        <p:blipFill>
          <a:blip r:embed="rId1"/>
          <a:stretch/>
        </p:blipFill>
        <p:spPr>
          <a:xfrm>
            <a:off x="-252360" y="0"/>
            <a:ext cx="99838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Раиса\Desktop\Мои рисунки\Новая папка\Bison-wild-animals-2785395-1024-768.jpg"/>
          <p:cNvPicPr/>
          <p:nvPr/>
        </p:nvPicPr>
        <p:blipFill>
          <a:blip r:embed="rId1"/>
          <a:stretch/>
        </p:blipFill>
        <p:spPr>
          <a:xfrm>
            <a:off x="0" y="0"/>
            <a:ext cx="96156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ОБЁ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Раиса\Desktop\Мои рисунки\Новая папка\bober-plotina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РХ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Раиса\Desktop\Мои рисунки\! Картинки для учебы\PHOTO1\J0178535.JPG"/>
          <p:cNvPicPr/>
          <p:nvPr/>
        </p:nvPicPr>
        <p:blipFill>
          <a:blip r:embed="rId1"/>
          <a:stretch/>
        </p:blipFill>
        <p:spPr>
          <a:xfrm>
            <a:off x="0" y="0"/>
            <a:ext cx="965196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Раиса\Desktop\Мои рисунки\364_1024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Раиса\Desktop\Мои рисунки\1a.jpg"/>
          <p:cNvPicPr/>
          <p:nvPr/>
        </p:nvPicPr>
        <p:blipFill>
          <a:blip r:embed="rId1"/>
          <a:stretch/>
        </p:blipFill>
        <p:spPr>
          <a:xfrm>
            <a:off x="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ычание льва.mp3" descr=""/>
          <p:cNvPicPr/>
          <p:nvPr/>
        </p:nvPicPr>
        <p:blipFill>
          <a:blip r:embed="rId2"/>
          <a:stretch/>
        </p:blipFill>
        <p:spPr>
          <a:xfrm>
            <a:off x="8661240" y="260280"/>
            <a:ext cx="4827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Раиса\Desktop\Мои рисунки\Картинки из интернета\ulbaris2.jpg"/>
          <p:cNvPicPr/>
          <p:nvPr/>
        </p:nvPicPr>
        <p:blipFill>
          <a:blip r:embed="rId1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Раиса\Desktop\Мои рисунки\Картинки из интернета\ak_b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61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НТ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Раиса\Pictures\0.jpg"/>
          <p:cNvPicPr/>
          <p:nvPr/>
        </p:nvPicPr>
        <p:blipFill>
          <a:blip r:embed="rId1"/>
          <a:stretch/>
        </p:blipFill>
        <p:spPr>
          <a:xfrm>
            <a:off x="0" y="0"/>
            <a:ext cx="99442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ЕПАР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4503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Раиса\Desktop\Мои рисунки\animal2.jpg"/>
          <p:cNvPicPr/>
          <p:nvPr/>
        </p:nvPicPr>
        <p:blipFill>
          <a:blip r:embed="rId1"/>
          <a:stretch/>
        </p:blipFill>
        <p:spPr>
          <a:xfrm>
            <a:off x="0" y="0"/>
            <a:ext cx="100760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5950080"/>
            <a:ext cx="79786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И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1:01:03Z</dcterms:created>
  <dc:creator>Инна</dc:creator>
  <dc:description/>
  <dc:language>en-US</dc:language>
  <cp:lastModifiedBy>Раиса</cp:lastModifiedBy>
  <dcterms:modified xsi:type="dcterms:W3CDTF">2016-03-27T17:56:18Z</dcterms:modified>
  <cp:revision>24</cp:revision>
  <dc:subject/>
  <dc:title>Кто живет в  АФРИКЕ</dc:title>
</cp:coreProperties>
</file>