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F6A3-BC36-473C-8A87-123172910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AD24-6E1B-4571-B46F-E6BD304F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0474-C9B8-4C68-8286-BE26D788D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8817-9C84-4DC2-B715-A02CE877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1E97-CF1D-4F67-AAE9-A8757A828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B967-1DEE-43F4-84DD-E6A886F4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EEA2-ED1F-4B5F-AACE-E20CA6E2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7276-4F56-4400-8EA3-57D22E15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431E-B802-45EC-9D2C-E9FC043A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B6D4-A2A6-4744-AD77-D30E4241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8F10-AC54-458F-BE9B-87C15B52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70DA-B9A4-429C-A1E6-766CB7F7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6A50-370F-4232-BD5A-2BAA7638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3110-3055-4190-84AA-D407FF97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2607-8A37-446A-914A-DA04C19F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F2A9-A115-497A-BFB1-CCEACD3D4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24B6-172F-4A90-993A-05476928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3576-B5F7-4B8B-9CC6-E8104264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153A-5A61-47FC-8BF2-F63C093A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9E4B-AC4E-46B0-A972-64018D00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02BA-474A-433E-ABF6-BFCE892C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6981-1F58-41EA-A45F-BD75530F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6AEB-32E6-4A4D-8145-71AD7D25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EC6D-2786-42D4-82C9-C111806C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DA27-0E64-4FF7-89BC-F24E1C8585E2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C0DA-500D-48D0-B3A5-E10574385E72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2f5897"/>
                </a:solidFill>
                <a:latin typeface="Palatino Linotype"/>
              </a:rPr>
              <a:t>Презентация на тему «Оптика»</a:t>
            </a:r>
            <a:endParaRPr b="0" lang="en-US" sz="8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568d"/>
                </a:solidFill>
                <a:latin typeface="Century Gothic"/>
              </a:rPr>
              <a:t>Учитель ГБОУ Школа №814</a:t>
            </a:r>
            <a:br>
              <a:rPr sz="2400"/>
            </a:br>
            <a:r>
              <a:rPr b="0" lang="ru-RU" sz="2400" spc="-1" strike="noStrike">
                <a:solidFill>
                  <a:srgbClr val="42568d"/>
                </a:solidFill>
                <a:latin typeface="Century Gothic"/>
              </a:rPr>
              <a:t>Гуденко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568d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42568d"/>
                </a:solidFill>
                <a:latin typeface="Century Gothic"/>
              </a:rPr>
              <a:t>Елена Викторовн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310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2f5897"/>
                </a:solidFill>
                <a:latin typeface="Palatino Linotype"/>
              </a:rPr>
              <a:t>Спасибо за внимание!</a:t>
            </a:r>
            <a:endParaRPr b="0" lang="en-US" sz="88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Оглавление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99ff"/>
                </a:solidFill>
                <a:uFillTx/>
                <a:latin typeface="Century Gothic"/>
                <a:hlinkClick r:id="rId1" action="ppaction://hlinksldjump"/>
              </a:rPr>
              <a:t>Строение глаз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99ff"/>
                </a:solidFill>
                <a:uFillTx/>
                <a:latin typeface="Century Gothic"/>
                <a:hlinkClick r:id="rId2" action="ppaction://hlinksldjump"/>
              </a:rPr>
              <a:t>Исправление дефектов зрения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Century Gothic"/>
                <a:hlinkClick r:id="rId3" action="ppaction://hlinksldjump"/>
              </a:rPr>
              <a:t> 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Century Gothic"/>
                <a:hlinkClick r:id="rId4" action="ppaction://hlinksldjump"/>
              </a:rPr>
              <a:t>(часть 1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Исправление дефектов зрения (часть 2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птические приборы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Использование лупы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Устройство микроскоп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Устройство телескоп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троение глаза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94" name="Объект 3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8076960" cy="374472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468360" y="59500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Ог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справление дефектов зрения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Дальнозоркость – недостаток зрения, при котором параллельные лучи после преломления в глазу сходятся не на сетчатке, а за не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Собирающая линза помогает глазу сфокусировать на сетчатке лучи от близко расположенных предметов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98" name="Рисунок 3" descr=""/>
          <p:cNvPicPr/>
          <p:nvPr/>
        </p:nvPicPr>
        <p:blipFill>
          <a:blip r:embed="rId1"/>
          <a:stretch/>
        </p:blipFill>
        <p:spPr>
          <a:xfrm>
            <a:off x="1547640" y="3284640"/>
            <a:ext cx="6745320" cy="266544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250920" y="6021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Ог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справление дефектов зрения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Близорукость - при близорукости изображение приходится не на определенную область сетчатки, а расположено в плоскости перед не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ри использовании рассеивающей линзы изображение удаленных предметов «отодвигается» от хрусталика как раз настолько, что попадает на сетчатку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2" name="Рисунок 3" descr=""/>
          <p:cNvPicPr/>
          <p:nvPr/>
        </p:nvPicPr>
        <p:blipFill>
          <a:blip r:embed="rId1"/>
          <a:stretch/>
        </p:blipFill>
        <p:spPr>
          <a:xfrm>
            <a:off x="1692360" y="3645000"/>
            <a:ext cx="5975280" cy="24098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250920" y="6021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Ог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    </a:t>
            </a: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Оптические приборы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птические приборы используют для «увеличения» или «приближения» предметов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Это такие приборы, как лупа, микроскоп, телескоп и др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6" name="Рисунок 3" descr=""/>
          <p:cNvPicPr/>
          <p:nvPr/>
        </p:nvPicPr>
        <p:blipFill>
          <a:blip r:embed="rId1"/>
          <a:stretch/>
        </p:blipFill>
        <p:spPr>
          <a:xfrm>
            <a:off x="971640" y="2997360"/>
            <a:ext cx="2050920" cy="31143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"/>
          <p:cNvPicPr/>
          <p:nvPr/>
        </p:nvPicPr>
        <p:blipFill>
          <a:blip r:embed="rId2"/>
          <a:stretch/>
        </p:blipFill>
        <p:spPr>
          <a:xfrm>
            <a:off x="3564000" y="3284640"/>
            <a:ext cx="5195880" cy="27367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5"/>
          <p:cNvSpPr/>
          <p:nvPr/>
        </p:nvSpPr>
        <p:spPr>
          <a:xfrm>
            <a:off x="250920" y="6021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Ог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спользование лупы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0" name="Объект 5" descr=""/>
          <p:cNvPicPr/>
          <p:nvPr/>
        </p:nvPicPr>
        <p:blipFill>
          <a:blip r:embed="rId1"/>
          <a:stretch/>
        </p:blipFill>
        <p:spPr>
          <a:xfrm>
            <a:off x="993600" y="1217520"/>
            <a:ext cx="7058160" cy="1214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1" name="TextBox 6"/>
          <p:cNvSpPr/>
          <p:nvPr/>
        </p:nvSpPr>
        <p:spPr>
          <a:xfrm>
            <a:off x="971640" y="24321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а) Рассматривание небольшого предмета невооруженным взгля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7" descr=""/>
          <p:cNvPicPr/>
          <p:nvPr/>
        </p:nvPicPr>
        <p:blipFill>
          <a:blip r:embed="rId2"/>
          <a:stretch/>
        </p:blipFill>
        <p:spPr>
          <a:xfrm>
            <a:off x="1486080" y="3201840"/>
            <a:ext cx="6242040" cy="2678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3" name="TextBox 8"/>
          <p:cNvSpPr/>
          <p:nvPr/>
        </p:nvSpPr>
        <p:spPr>
          <a:xfrm>
            <a:off x="1387440" y="5877000"/>
            <a:ext cx="644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б) Рассматривание небольшого предмета с помощью лу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250920" y="6021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Ог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Устройство микроскопа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6" name="Объект 3" descr=""/>
          <p:cNvPicPr/>
          <p:nvPr/>
        </p:nvPicPr>
        <p:blipFill>
          <a:blip r:embed="rId1"/>
          <a:stretch/>
        </p:blipFill>
        <p:spPr>
          <a:xfrm>
            <a:off x="108000" y="2060640"/>
            <a:ext cx="3456000" cy="33829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" descr=""/>
          <p:cNvPicPr/>
          <p:nvPr/>
        </p:nvPicPr>
        <p:blipFill>
          <a:blip r:embed="rId2"/>
          <a:stretch/>
        </p:blipFill>
        <p:spPr>
          <a:xfrm>
            <a:off x="3708360" y="2637000"/>
            <a:ext cx="5256360" cy="2361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8" name="TextBox 5"/>
          <p:cNvSpPr/>
          <p:nvPr/>
        </p:nvSpPr>
        <p:spPr>
          <a:xfrm>
            <a:off x="250920" y="6021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Ог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Устройство телескоп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20" name="Объект 3" descr=""/>
          <p:cNvPicPr/>
          <p:nvPr/>
        </p:nvPicPr>
        <p:blipFill>
          <a:blip r:embed="rId1"/>
          <a:stretch/>
        </p:blipFill>
        <p:spPr>
          <a:xfrm>
            <a:off x="2732040" y="1125360"/>
            <a:ext cx="3878280" cy="302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1" name="Рисунок 7" descr=""/>
          <p:cNvPicPr/>
          <p:nvPr/>
        </p:nvPicPr>
        <p:blipFill>
          <a:blip r:embed="rId2"/>
          <a:stretch/>
        </p:blipFill>
        <p:spPr>
          <a:xfrm>
            <a:off x="1619280" y="4508640"/>
            <a:ext cx="6103800" cy="1944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2" name="TextBox 8"/>
          <p:cNvSpPr/>
          <p:nvPr/>
        </p:nvSpPr>
        <p:spPr>
          <a:xfrm>
            <a:off x="108000" y="6021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Ог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9T15:40:49Z</dcterms:created>
  <dc:creator>Андрей</dc:creator>
  <dc:description/>
  <dc:language>en-US</dc:language>
  <cp:lastModifiedBy>Елена</cp:lastModifiedBy>
  <dcterms:modified xsi:type="dcterms:W3CDTF">2017-08-21T14:58:39Z</dcterms:modified>
  <cp:revision>19</cp:revision>
  <dc:subject/>
  <dc:title>Презентация на тему «Оптика»</dc:title>
</cp:coreProperties>
</file>