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A03-97CF-4FA3-BD7F-D7BACCE9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171-5BDF-4523-BDEF-4FCE99CB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388-A9C4-42B3-845D-C4808835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58C-FE42-462D-9C3C-4371590B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DF7B-F93E-4971-A54D-EC7E7C6E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C100-063F-4CD3-AE01-8DF2F0AD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1B34-73F6-4BD1-A734-90E281F2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A83B-501C-4479-97D2-428F16AE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C7E4-CE06-4E4F-8C6D-84B3637B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970C-B198-4C2B-82E3-9CB5A653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CD41-C8D5-495B-BA20-4D17C015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AC5-8FD3-4709-9EF5-8BDB3894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D30E-D8F5-4340-BBDB-769A2B1B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103B-AD2D-4F00-B0AB-5B839A9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E2C2-08DC-4002-BBC6-84A612FA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DEF9-4B06-471B-B330-580C095E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E04D-651A-4917-9E6B-6585E4C8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730-498C-42E3-A7B1-6880E8A9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C4E-4026-4510-A15A-BADB9689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124-BC67-4457-BB28-971417F1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2AD-900E-4E45-BF04-E5024679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D12-1543-4166-BEFE-7D54EECD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822-05FB-4174-8F0F-B6B34A0D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104-DA85-4197-B78C-686E5ED4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D334-F13D-4754-B5B9-454A14563F5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3C06-D03A-4DAD-8774-210B01E87EE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Презентация на тему «Оптика»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568d"/>
                </a:solidFill>
                <a:latin typeface="Century Gothic"/>
              </a:rPr>
              <a:t>Учитель ГБОУ Школа №814</a:t>
            </a:r>
            <a:br>
              <a:rPr sz="2400"/>
            </a:br>
            <a:r>
              <a:rPr b="0" lang="ru-RU" sz="2400" spc="-1" strike="noStrike">
                <a:solidFill>
                  <a:srgbClr val="42568d"/>
                </a:solidFill>
                <a:latin typeface="Century Gothic"/>
              </a:rPr>
              <a:t>Гуденк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568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2568d"/>
                </a:solidFill>
                <a:latin typeface="Century Gothic"/>
              </a:rPr>
              <a:t>Елена Викторовн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10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2f5897"/>
                </a:solidFill>
                <a:latin typeface="Palatino Linotype"/>
              </a:rPr>
              <a:t>Спасибо за внимание!</a:t>
            </a:r>
            <a:endParaRPr b="0" lang="en-US" sz="8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главлени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1" action="ppaction://hlinksldjump"/>
              </a:rPr>
              <a:t>Строение глаз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 action="ppaction://hlinksldjump"/>
              </a:rPr>
              <a:t>Исправление дефектов зрения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3" action="ppaction://hlinksldjump"/>
              </a:rPr>
              <a:t>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4" action="ppaction://hlinksldjump"/>
              </a:rPr>
              <a:t>(часть 1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справление дефектов зрения (часть 2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птические прибор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спользование луп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стройство микроскоп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стройство телескоп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оение глаза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4" name="Объект 3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8076960" cy="3744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468360" y="5950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правление дефектов зрения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альнозоркость – недостаток зрения, при котором параллельные лучи после преломления в глазу сходятся не на сетчатке, а за н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бирающая линза помогает глазу сфокусировать на сетчатке лучи от близко расположенных предметов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67453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25092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правление дефектов зрения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Близорукость - при близорукости изображение приходится не на определенную область сетчатки, а расположено в плоскости перед н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и использовании рассеивающей линзы изображение удаленных предметов «отодвигается» от хрусталика как раз настолько, что попадает на сетчатк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692360" y="3645000"/>
            <a:ext cx="5975280" cy="2409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25092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птические прибор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птические приборы используют для «увеличения» или «приближения» предмет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то такие приборы, как лупа, микроскоп, телескоп и др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2050920" cy="3114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5195880" cy="2736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25092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пользование луп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0" name="Объект 5" descr=""/>
          <p:cNvPicPr/>
          <p:nvPr/>
        </p:nvPicPr>
        <p:blipFill>
          <a:blip r:embed="rId1"/>
          <a:stretch/>
        </p:blipFill>
        <p:spPr>
          <a:xfrm>
            <a:off x="993600" y="1217520"/>
            <a:ext cx="7058160" cy="1214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1" name="TextBox 6"/>
          <p:cNvSpPr/>
          <p:nvPr/>
        </p:nvSpPr>
        <p:spPr>
          <a:xfrm>
            <a:off x="971640" y="24321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а) Рассматривание небольшого предмета невооруженным взгля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"/>
          <p:cNvPicPr/>
          <p:nvPr/>
        </p:nvPicPr>
        <p:blipFill>
          <a:blip r:embed="rId2"/>
          <a:stretch/>
        </p:blipFill>
        <p:spPr>
          <a:xfrm>
            <a:off x="1486080" y="3201840"/>
            <a:ext cx="6242040" cy="2678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3" name="TextBox 8"/>
          <p:cNvSpPr/>
          <p:nvPr/>
        </p:nvSpPr>
        <p:spPr>
          <a:xfrm>
            <a:off x="1387440" y="5877000"/>
            <a:ext cx="64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б) Рассматривание небольшого предмета с помощью лу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5092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Устройство микроскопа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3456000" cy="3382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5256360" cy="2361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8" name="TextBox 5"/>
          <p:cNvSpPr/>
          <p:nvPr/>
        </p:nvSpPr>
        <p:spPr>
          <a:xfrm>
            <a:off x="25092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Устройство телескоп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0" name="Объект 3" descr=""/>
          <p:cNvPicPr/>
          <p:nvPr/>
        </p:nvPicPr>
        <p:blipFill>
          <a:blip r:embed="rId1"/>
          <a:stretch/>
        </p:blipFill>
        <p:spPr>
          <a:xfrm>
            <a:off x="2732040" y="1125360"/>
            <a:ext cx="3878280" cy="30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Рисунок 7" descr=""/>
          <p:cNvPicPr/>
          <p:nvPr/>
        </p:nvPicPr>
        <p:blipFill>
          <a:blip r:embed="rId2"/>
          <a:stretch/>
        </p:blipFill>
        <p:spPr>
          <a:xfrm>
            <a:off x="1619280" y="4508640"/>
            <a:ext cx="6103800" cy="19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2" name="TextBox 8"/>
          <p:cNvSpPr/>
          <p:nvPr/>
        </p:nvSpPr>
        <p:spPr>
          <a:xfrm>
            <a:off x="10800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15:40:49Z</dcterms:created>
  <dc:creator>Андрей</dc:creator>
  <dc:description/>
  <dc:language>en-US</dc:language>
  <cp:lastModifiedBy>Елена</cp:lastModifiedBy>
  <dcterms:modified xsi:type="dcterms:W3CDTF">2017-08-21T14:58:39Z</dcterms:modified>
  <cp:revision>19</cp:revision>
  <dc:subject/>
  <dc:title>Презентация на тему «Оптика»</dc:title>
</cp:coreProperties>
</file>