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7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9.gif" ContentType="image/gif"/>
  <Override PartName="/ppt/media/image1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6D1-55FA-469D-9048-22EA1735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55D-3F19-4F61-B26C-FE623A6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875-346E-46E6-8023-7498C3D0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FB-E65E-4301-B874-E88B80CD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CDDF-18F7-4E77-A775-F86B2C72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1AC-9792-4BC3-BDBF-A8CD2D42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ABF8-F0FC-4422-AEFF-66EB82CD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DA0-0022-41D2-B840-540D0F5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AD5-DB1B-4526-871C-1EAE8956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9CC-CC0D-4BD7-91C0-67520AF7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DDA-A4E4-4FCD-AEE9-FDCCA78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A03-112B-4EBC-AF29-89278D9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290-F915-4F22-BDEE-1A011DE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DA9-19D1-4709-8C57-A9553F6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02CF-CF6A-427B-A45D-CEBA8C4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FBC9-64DD-47B6-B55C-7482CB0B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4AC-F6E7-498A-A324-BCDAEFC1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5B8C-8182-4C89-909F-F409929F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173B-1D82-420A-A890-56ADAA0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CA6F-04BF-4AB6-9664-7FFDAE6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B4AE-9F3F-47E8-85BF-84AD344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5B4A-DB07-47F2-9F97-F01F78B1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376-C60C-4BCD-ABDC-59A745CE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D0DF-EBCE-49DF-9CB6-66FDDC9B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3FEF-4610-4D5A-B21A-0EFC5F5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92FE-2D76-4538-B7B2-5D3F26F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FC4C-7780-4F4B-B2EC-A4BA0B1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C15F-650C-4974-ADA7-6E043AAC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F3ED-68A8-4C0B-BD0F-C337182B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DAC5-4B6F-4BAF-A6AA-250FB8A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018C-69DF-44F9-AA8B-A52F247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0980-3751-46FB-97A9-86A7B83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C330-7E7E-4636-BB5A-5AFA17B5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A98-0BC9-4C93-9670-8C165F3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C83D-6AE9-483E-9F5D-6080CD44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0E21-817B-4E05-BC7B-A415454B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91D7-98B0-4469-970F-95BFDF1D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48D1-EC49-4BD0-AF39-D2A76D6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B187-9896-4EEB-9F2C-D73DF82A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13FE-BC91-4076-A8FF-647FCFA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278F-AD4E-49AE-8D16-D3BF018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4323-F8DE-4E21-843D-1F1A0C44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A12B-FB64-4DDF-8F57-C457843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3B57F-1180-4ABA-A08E-D9A40645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A80-8B45-4108-A304-71A545EA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92E1-3900-415F-B507-F46733D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6E81-4A7E-4693-9660-45570D8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0A19-FDA0-48A5-A54A-75FC8020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0B72-1B41-4B57-B75A-7131ADD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0F9D-8FD4-48DC-8C85-3132399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A059-A48F-45A3-A5C3-B57BEC7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1600-810D-4CDF-A5B4-AB8479D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8067-1C5A-4C3F-BAF2-16233BB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D137-5BA4-4549-A8ED-0EF1550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B9EF-74A1-4BA7-A778-0CC4A875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2FA-C1DA-4A84-AA51-6B3DA9CE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6C2E-5DB4-4913-8681-0588FB07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9B94-AB18-46E1-B148-5AF965DF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0B160-456D-407F-AF8C-20A464D2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F6AC-634F-4307-B0E6-C807605A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2E85-5C61-45B0-BB50-637A2D15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ADFB-5499-4ACE-B7C3-1A9C555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5A55-6F5F-48EF-B77C-C865920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A8C8-823A-4E2B-B87F-24331E5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3EBD-2DAF-4ED3-B60F-0F855FF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6836-C2FE-43BC-808E-2224CE9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E4B-3F21-47D3-9445-FA79EBA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EA32D-1089-43C6-AAAB-E63BFE7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0798-6AF8-457F-ADAD-02F854FA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EC56-F0AA-4C39-9026-A467B2FF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3A96-F8B4-427B-BF32-5B1B64C3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74C3-B616-4203-982F-7D98D34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DEE4-D729-462C-856F-61F2F564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2852-50E4-42BD-9FAB-1DF9445E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B16D3-D5BC-4A2D-8B53-DABBBCF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44D8-1F71-4F3D-ABD3-2C7DA2ED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7568-8A9C-4F56-9977-E2AB607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33F-5819-4A10-B5C2-6C3D98C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F2A5-8848-4036-A1C5-BE34248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B109-5E06-4CF5-A14B-8360132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F167-2F25-45BA-A0B7-9A928DC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0808-5634-4832-8A8A-0DAB9296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E7C2-9630-46AE-9BA8-0F59AFF1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AB6F-6C52-4144-993B-E04C2F63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C5AD-7199-4173-9D04-25046353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50843-D050-4494-BA3A-BA142AC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A3271-432C-4F83-AA66-042E046B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709C-E5C5-4EC4-B5D6-BF9433CC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E8D-0747-4DA6-82D9-820E2FC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FE0B-9FFF-43B8-9979-5EFD73C1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C49D-CC6F-4C77-A27F-01FE70F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59180-34DB-414C-ABA2-376F31A9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247A7-D600-4362-9B99-6E0FA6E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D9B4-403F-49FA-9219-01F5F86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8288-BD41-498C-9DA3-FB8894E2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F932-2AE4-4E45-90B8-E7BF4E7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7EE-25CF-499C-A0C5-03992C1BED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5C1-9CFD-41C3-9F4D-6D793B1429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BFC-C002-4B90-9825-FF9CD57B4A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27E-6B47-4E95-B746-164D139C21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15E2-94C2-4176-A1CD-AAE0DEFE5E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F5F3-B488-4A61-879E-35EC049064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AAE-FC54-4D1A-9E46-92F9EB2C08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FA2-2A88-490A-9562-260E315FE0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elidovolen.ru/parents/interesting/58" TargetMode="External"/><Relationship Id="rId2" Type="http://schemas.openxmlformats.org/officeDocument/2006/relationships/hyperlink" Target="http://www.rasteniya-lecarstvennie.ru/1788-zhevatelnaya-rezinka-polza-i-vred.html" TargetMode="External"/><Relationship Id="rId3" Type="http://schemas.openxmlformats.org/officeDocument/2006/relationships/hyperlink" Target="http://www.radionetplus.ru/teksty/poznavatelnye/34706-vsya-pravda-o-zhevatelnoy-rezinke.html" TargetMode="External"/><Relationship Id="rId4" Type="http://schemas.openxmlformats.org/officeDocument/2006/relationships/hyperlink" Target="http://www.sympaty.net/20121008/vred-zhevatelnoj-rezinki/" TargetMode="Externa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4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9418680" cy="665640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ногоатомных спир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аем в пробирку измельченную оболочку одной подушечки жвачки разных марок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ая мят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ий с кальцием «клубник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ba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ид вишня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ынно-арбузный коктейль») и приливаем 2-3 мл дистиллированной воды. Закрываем пробирки пробками и встряхиваем в течение 1 минуты. Во всех четырёх пробирках получаем мутный раствор, в который добавляем 1 мл 2 М раствора гидроксида натр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2-3 капли 10%-ного раствора сульфата меди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стряхиваем содержимое пробирок и наблюдаем появление сине-фиолетового окрашивания. Изменение цвета объясняется образованием комплексных соединений катионов меди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 многоатомными спиртами, входящими в состав оболочки жевательной резинк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242560" cy="93996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28760" y="428400"/>
            <a:ext cx="84960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мещаем в пробирки, нарезанные жевательные резинки (по одной подушечки жвачки разных марок: «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свежая мята», «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детский с кальцием «клубника», «Малабар кислоид вишня», «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Дынно-арбузный коктейль») и приливаем 5 мл 96%-ного этилового спирта. Закрываем пробирки пробками и встряхиваем в течение 1 мин. Фильтруем смесь и определяем в фильтрате присутствие многоатомных спир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Рисунок 3" descr="my_little_ponyes_gif64.gif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628280"/>
            <a:ext cx="750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 жевательные резинки, оставшиеся после жевания, на пять частей и помещаем каждую в отдельную пробирку. Приливаем в пробирку соответственно 96%-ный этиловый спирт,  бензин,  ацетон, концентрированные серную, азотную и соляную кислоты так, чтобы кусочек жвачки был полностью покрыт. Оставляем пробирки на 30-60мин. Делаем вывод о сравнительной устойчивости полиме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личных средах, учитывая, чт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диеновый и изопреновый каучук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ются плохой устойчивость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маслам, растворителям алифатической 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еской природы. Они такж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ойки к действию концентрированны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311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_yapfiles.ru.gif"/>
          <p:cNvPicPr/>
          <p:nvPr/>
        </p:nvPicPr>
        <p:blipFill>
          <a:blip r:embed="rId2"/>
          <a:stretch/>
        </p:blipFill>
        <p:spPr>
          <a:xfrm>
            <a:off x="6762600" y="5072040"/>
            <a:ext cx="2381400" cy="178596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ыта берём подушечку жевательной резинки с ментолом, мелко нарезаем и помещаем в пробирку. Добавляем 5 мл 96%-ного раствора этилового спирта. Взбалтываем смесь в течение 1 минуты и фильтруе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ем к спиртовому экстракту жвачки воду. Сразу происходит помутнение, так как растворимость ментола в воде низкая (0,05%). Добавляем к мутному раствору 96%-ный раствор спирта. Осадок исчезает, так как ментол хорошо растворяется в спирта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61440" cy="11527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3" descr="42606642.jpg"/>
          <p:cNvPicPr/>
          <p:nvPr/>
        </p:nvPicPr>
        <p:blipFill>
          <a:blip r:embed="rId2"/>
          <a:stretch/>
        </p:blipFill>
        <p:spPr>
          <a:xfrm>
            <a:off x="6357960" y="5072040"/>
            <a:ext cx="1905120" cy="138132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50560" y="1628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01600" y="450720"/>
            <a:ext cx="8491680" cy="10368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468360" y="170028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изучения представления о пользе и  возможных негативных последствиях использования жевательной резинки было проведен социологический опрос среди учащихся нашей школы.  Всем были заданы следующи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о вы пользуетесь жевательной резин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вы используете жевательную резин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жевательную резинку вы предпочит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аких положительных свойствах жевательной резинки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их негативных последствиях применения жевательной резинки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5"/>
          <p:cNvGraphicFramePr/>
          <p:nvPr/>
        </p:nvGraphicFramePr>
        <p:xfrm>
          <a:off x="0" y="765000"/>
          <a:ext cx="895680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8956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3"/>
          <p:cNvGraphicFramePr/>
          <p:nvPr/>
        </p:nvGraphicFramePr>
        <p:xfrm>
          <a:off x="1628640" y="1228680"/>
          <a:ext cx="588672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228680"/>
                    <a:ext cx="58867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Object 3"/>
          <p:cNvGraphicFramePr/>
          <p:nvPr/>
        </p:nvGraphicFramePr>
        <p:xfrm>
          <a:off x="250920" y="692280"/>
          <a:ext cx="8675640" cy="56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8675640" cy="56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3"/>
          <p:cNvGraphicFramePr/>
          <p:nvPr/>
        </p:nvGraphicFramePr>
        <p:xfrm>
          <a:off x="1628640" y="1228680"/>
          <a:ext cx="588672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228680"/>
                    <a:ext cx="58867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50920" y="999720"/>
            <a:ext cx="86421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по теме исследования, мы пришли к выводу, что хотя умеренное употребление жвачки служит профилактикой стоматологических заболеваний, но существует необходимость сокращения потребления жевательной резинк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дотвращения возникновения различных заболеваний   учащимся даны совет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вательная резинка не должна  содержать сахар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вать её надо только после еды в течение 20 минут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мая жевательная резинка должна быть произведена известной фирмой, положительно зарекомендовавшей себя на рынке и строго следящей за качеством своей продукци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материал можно использовать на уроках биологии, экологии, классных часах о здоровом образе жизни, родительских собраниях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44440" y="237960"/>
            <a:ext cx="8015400" cy="110988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8548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многих лет мы слышим споры на тему: вредная или полезная жевательная резинка. На сегодняшний день дети имеют только начальные представления о пользе употребления жевательной резинки и что очень важно - о возможны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ых последст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примен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врачей – стоматологов этому  может быть способствует и крайне малое число отечественных научных исследований, посвященных изучению продуктов, предназначенных для жевания. А появляющиеся обзоры литературы не снимают остроты проблемы, так как практически не затрагивают отрицательного действия этих продуктов на организ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6840" y="133200"/>
            <a:ext cx="8497800" cy="104328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1"/>
              </a:rPr>
              <a:t>http://www.poelidovolen.ru/parents/interesting/5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/>
              </a:rPr>
              <a:t>http://www.rasteniya-lecarstvennie.ru/1788-zhevatelnaya-rezinka-polza-i-vred.htm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/>
              </a:rPr>
              <a:t>http://www.radionetplus.ru/teksty/poznavatelnye/34706-vsya-pravda-o-zhevatelnoy-rezinke.htm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/>
              </a:rPr>
              <a:t>http://www.sympaty.net/20121008/vred-zhevatelnoj-rezinki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5"/>
          <a:stretch/>
        </p:blipFill>
        <p:spPr>
          <a:xfrm>
            <a:off x="244440" y="237960"/>
            <a:ext cx="8015400" cy="110988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2"/>
          <p:cNvSpPr/>
          <p:nvPr/>
        </p:nvSpPr>
        <p:spPr>
          <a:xfrm>
            <a:off x="428760" y="642960"/>
            <a:ext cx="7858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тельской работы: «Жевательная резинка: польза или вред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свойств жевательной резинки в различны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тельско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историей возникновения жевательной рез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войства жевательной рез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вательная резинка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ая мят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ий с кальцием «клубник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ba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ид вишня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ынно-арбузный коктейль»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8000" y="1915920"/>
            <a:ext cx="88567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древние греки жевали смолу дерева мастики, которое растет в Турции и Греции, и назвали свою жевательную резинку «мастика». Жевательная резинка, как предполагалось, помогала чистить зубы и освежала дыха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йцы жевали застывший сок деревьев. Более чем 1000 лет назад в Центральной Америке, индейцы Майя жевали «chicle», который является соком дерева саподил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южноамериканском континенте индейцы жевали сок хвойных деревьев. Белые поселенцы собирали застоявшийся сок для жевания. Они сделали жевательную резинку из смолы хвойных растений и пчелиного вос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коммерческая жевательная резинка стала изготавливаться с 23 сентября 1848 года Джоном Б. Куртисом и его братом в штате Мэн. Изделие Куртиса называлось  что-то вроде "Чистая еловая резинка из штата Мэн"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536400" y="378000"/>
            <a:ext cx="8186760" cy="125568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ластител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иновая основ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оматизаторы натуральные, идентичные натуральным и искусственные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билизатор  Е 422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уститель Е 414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ульгатор Е 322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итель Е 171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урь Е 903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оксидант Е 320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стоматологии первые, час-полтора после приема пищи жвачка способствует выработке желудочного сока, что помогает перевариванию пищ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вательная резинка вычищает жевательную поверхность зуб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вательная резинка с полирующими свойствами, уничтожает зубной камень и тормозит развитие микроорганизмов в полости рта. У детей жевание резинки укрепляет челюсти, у старшего поколения улучшает работу слюнных желез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78920" cy="131112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 стороны желудочно-кишечного тракта 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астриты, язвы желуд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- наиболее опасным является употребление жевательных резинок на голодный желудок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сахаросодержащих жвачек лучше отказаться совсем, так как их употребление – прямая  дорога к заболеванию кариесо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дувные жевательные резинк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рушают прику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 детей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прилепленной под школьную парту жвачке несколько дней живут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икроб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ольного школьника, жевавшего ее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-за нее ломаются зубы 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падают пломбы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едует избегать заглатывания жвачки, поскольку она накапливается в толстом кишечнике и со временем приводит к его непроходимост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самое главное, необходимо помнить: ни одна жевательная резинк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е заменяет обязательную двухразовую чистку зубов щеткой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93560" y="128520"/>
            <a:ext cx="8017200" cy="118260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академика Тодора Дичева, большинство жевательных резинок вместо защиты зубов и десен содержат такие компоненты, которые сами являются причиной таких заболеваний зубов, десен и полости рта, как кариес, пародонтоз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оанализировали состав наиболее популярных жевательных резинок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ая мят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ий с кальцием «клубника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ba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ид вишня»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ынно-арбузный коктейль»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явили компоненты, содержащиеся в них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ластители, резиновая основа, ароматизаторы натуральные, идентичные натуральным и искусственные, стабилизатор  Е 422, загуститель Е 414, эмульгатор Е 322, краситель Е 171, глазурь Е 903, антиоксидант Е 320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8242200" cy="903600"/>
          </a:xfrm>
          <a:prstGeom prst="rect">
            <a:avLst/>
          </a:prstGeom>
          <a:ln w="0">
            <a:noFill/>
          </a:ln>
        </p:spPr>
      </p:pic>
    </p:spTree>
  </p:cSld>
  <p:transition advTm="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428760" y="714240"/>
            <a:ext cx="80722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правочника "Санитарные правила и нормы СанПин" мы узнали, что: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 Е 4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глицерин. Глицерин при всасывании в кровь обладает сильными токсическими свойствами, вызывая достаточно серьезные заболевания крови, например, такие, как гемолиз, гемоглобинурию, а также инфаркты почек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ульгатор Е3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лецитин. Лецитин получают, как правило, из сои. Содержится он в яичном желтке. Это ценное вещество является важным поставщиком фосфора для нашего организма и помогает регулировать жировой обмен. Лецитины ускоряют слюновыделение, что в свою очередь, приводит к постепенному нарушению работы пищеварительного тракта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 Е 3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утилгидрооксианизол. При частом употреблении продукции, содержаще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ается содержание холестерина 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4:26:28Z</dcterms:created>
  <dc:creator>user</dc:creator>
  <dc:description/>
  <dc:language>en-US</dc:language>
  <cp:lastModifiedBy>Солнышко</cp:lastModifiedBy>
  <dcterms:modified xsi:type="dcterms:W3CDTF">2017-08-21T09:23:20Z</dcterms:modified>
  <cp:revision>26</cp:revision>
  <dc:subject/>
  <dc:title>Жевательная резинка:   польза или вред?  Хотим знать правду.</dc:title>
</cp:coreProperties>
</file>