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8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F04-465C-4535-8E40-58C8725D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48C-FC77-4725-8FEE-00CECD2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98E-A46C-4E0D-A111-C42A033E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38E-00CF-4B7A-95D1-FF612EB5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6E0E3-1FAD-41BD-96CE-3362E791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73E2-868E-4701-A588-50B9DF0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DAE3C-2B01-4978-84AC-F1AC5DFD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7EAF7-84A7-4E5F-AA20-FB4FEF3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2D349-C161-42FE-A9EF-2E9F1CD4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4124-0EBB-4F64-9C7B-7DF528B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B33D-9C83-45D1-B9D0-151198A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CC0-2BF7-4BB4-B64D-D7EE7C89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DFDDA-76A2-4400-8C92-89713DC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9BA38-88EE-454A-8787-4B18244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1DC9-ABC3-4367-801D-BB97EE8F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76A6-C792-4319-8638-43987A3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D30A7-3F04-4BE6-A9B0-287A3662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DF0-B643-4DDF-A6EF-1E16F23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75C-3CC4-4FBA-B4ED-1E591A49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112-5E50-449A-B6A7-7100696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E1B-3B80-4569-91AA-09E9FFB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214-776B-44D7-AACC-6FFF821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A44-3265-45F8-A5AC-3B226C4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50D-05BF-4B0E-8E9E-EFA6309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DFA7-BBC0-46C0-AAFC-8DD362F28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9B7-D3AC-4114-87C5-F0B81375B1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4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47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024560" y="857160"/>
            <a:ext cx="52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лимпийские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677120" y="4714920"/>
            <a:ext cx="343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Петрова Татьяна Андре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Воспитатель ГБОУСОШ№9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(дошкольное отдел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Безимени-5"/>
          <p:cNvPicPr/>
          <p:nvPr/>
        </p:nvPicPr>
        <p:blipFill>
          <a:blip r:embed="rId1"/>
          <a:stretch/>
        </p:blipFill>
        <p:spPr>
          <a:xfrm>
            <a:off x="179280" y="1413000"/>
            <a:ext cx="460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Меда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http://terrikon.com/i/olympic_games/1936/1936medal.jpg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www.yugopolis.ru/data/mediadb/2383/0000/0911/91184/600x10000_in__.jpg"/>
          <p:cNvPicPr/>
          <p:nvPr/>
        </p:nvPicPr>
        <p:blipFill>
          <a:blip r:embed="rId2"/>
          <a:stretch/>
        </p:blipFill>
        <p:spPr>
          <a:xfrm>
            <a:off x="4211640" y="1125360"/>
            <a:ext cx="4438800" cy="266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http://2012olimpiada.ru/wp-content/uploads/2012/04/final-triplw-reflect_2627581.jpg"/>
          <p:cNvPicPr/>
          <p:nvPr/>
        </p:nvPicPr>
        <p:blipFill>
          <a:blip r:embed="rId3"/>
          <a:stretch/>
        </p:blipFill>
        <p:spPr>
          <a:xfrm>
            <a:off x="900000" y="3789360"/>
            <a:ext cx="762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Зимние олимпийские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68360" y="1197000"/>
            <a:ext cx="4248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атлон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от латинского bis — дважды и греческого ’άθλον — состязание, борьба) — зимний олимпийский вид спорта, сочетающий лыжную гонку со стрельбой из винтовки.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Биатлон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был представлен на Олимпийских играх в 1924, 1928, 1936 и 1948. В 1960 году включён в программу зимних Олимпийских иг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Биатлон"/>
          <p:cNvPicPr/>
          <p:nvPr/>
        </p:nvPicPr>
        <p:blipFill>
          <a:blip r:embed="rId1"/>
          <a:stretch/>
        </p:blipFill>
        <p:spPr>
          <a:xfrm>
            <a:off x="611280" y="2924280"/>
            <a:ext cx="403200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4716360" y="1197000"/>
            <a:ext cx="410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обслей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от англ. bobsleigh) — зимний олимпийский вид спорта, представляющий собой скоростной спуск с гор по специально оборудованным ледовым трассам на управляемых санях — бобах. В программу зимних Олимпийских игр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бобслей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был включен начиная с 1924 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Бобслей - экипаж Зубкова"/>
          <p:cNvPicPr/>
          <p:nvPr/>
        </p:nvPicPr>
        <p:blipFill>
          <a:blip r:embed="rId2"/>
          <a:stretch/>
        </p:blipFill>
        <p:spPr>
          <a:xfrm>
            <a:off x="4859280" y="292428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539640" y="333360"/>
            <a:ext cx="431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келетон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англ.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букв. — скелет, каркас) — зимний олимпийский вид спорта, представляющий собой спуск по ледяному жёлобу на двухполозьевых санях на укрепленной раме, победитель которого определяется по сумме двух заездов. В программу Олимпийских игр этот вид спорта был включен в 2002 году в Солт-Лейк-Си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Скелетон - история, правила"/>
          <p:cNvPicPr/>
          <p:nvPr/>
        </p:nvPicPr>
        <p:blipFill>
          <a:blip r:embed="rId1"/>
          <a:stretch/>
        </p:blipFill>
        <p:spPr>
          <a:xfrm>
            <a:off x="611280" y="2133720"/>
            <a:ext cx="4032000" cy="23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Скелетон"/>
          <p:cNvPicPr/>
          <p:nvPr/>
        </p:nvPicPr>
        <p:blipFill>
          <a:blip r:embed="rId2"/>
          <a:stretch/>
        </p:blipFill>
        <p:spPr>
          <a:xfrm>
            <a:off x="611280" y="4508640"/>
            <a:ext cx="4032000" cy="21603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9"/>
          <p:cNvSpPr/>
          <p:nvPr/>
        </p:nvSpPr>
        <p:spPr>
          <a:xfrm>
            <a:off x="4716360" y="333360"/>
            <a:ext cx="403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нькобежный спорт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Скоростной бег на коньках — англ. 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Speed Skating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) — вид спорта, в котором необходимо как можно быстрее преодолевать определённую дистанцию на ледовом стадионе по замкнутому кругу. В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зимние Олимпийские игр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скоростной бег на коньках у мужчин был включен с 1924 года, с 1960 года проводятся и соревнования среди женщин. Первенство разыгрывалось на четырех дистанциях — 500, 1500, 5000, 10000 метров и в многоборь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0" descr="Конькобежный спорт - Олимпийские виды спорта"/>
          <p:cNvPicPr/>
          <p:nvPr/>
        </p:nvPicPr>
        <p:blipFill>
          <a:blip r:embed="rId3"/>
          <a:stretch/>
        </p:blipFill>
        <p:spPr>
          <a:xfrm>
            <a:off x="4788000" y="3068640"/>
            <a:ext cx="388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>
            <a:off x="539640" y="333360"/>
            <a:ext cx="4319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Фигурное катани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— зимний вид спорта, в котором спортсмены перемещаются на коньках по льду с выполнением дополнительных элементов, чаще всего под музыку. В официальных соревнованиях, как правило, разыгрываются четыре комплекта медалей: в женском одиночном катании, в мужском одиночном катании, в парном катании, а также в спортивных танцах на льду.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Фигурное катание включено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в программу Зимних Олимпийских иг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Фигурное катание"/>
          <p:cNvPicPr/>
          <p:nvPr/>
        </p:nvPicPr>
        <p:blipFill>
          <a:blip r:embed="rId1"/>
          <a:stretch/>
        </p:blipFill>
        <p:spPr>
          <a:xfrm>
            <a:off x="179280" y="2565360"/>
            <a:ext cx="2232000" cy="403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Евгений Плющенко - фигурное катание"/>
          <p:cNvPicPr/>
          <p:nvPr/>
        </p:nvPicPr>
        <p:blipFill>
          <a:blip r:embed="rId2"/>
          <a:stretch/>
        </p:blipFill>
        <p:spPr>
          <a:xfrm>
            <a:off x="2411280" y="4508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Фигурное катание - Домнина и Шабалин"/>
          <p:cNvPicPr/>
          <p:nvPr/>
        </p:nvPicPr>
        <p:blipFill>
          <a:blip r:embed="rId3"/>
          <a:stretch/>
        </p:blipFill>
        <p:spPr>
          <a:xfrm>
            <a:off x="2411280" y="2565360"/>
            <a:ext cx="2336760" cy="1943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0"/>
          <p:cNvSpPr/>
          <p:nvPr/>
        </p:nvSpPr>
        <p:spPr>
          <a:xfrm>
            <a:off x="4716360" y="404640"/>
            <a:ext cx="3959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орт-тре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англ.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short track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— короткая дорожка), вид скоростного бега на коньках, заключающийся в максимально быстром преодолении соревновательной дистанции внутри хоккейной площадки (окружность катка — 111,12 м). Зародился 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шорт-тре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в Канаде в начале 20 ве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2" descr="Шорт-трек"/>
          <p:cNvPicPr/>
          <p:nvPr/>
        </p:nvPicPr>
        <p:blipFill>
          <a:blip r:embed="rId4"/>
          <a:stretch/>
        </p:blipFill>
        <p:spPr>
          <a:xfrm>
            <a:off x="5003640" y="436572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Площадка шорт-трек"/>
          <p:cNvPicPr/>
          <p:nvPr/>
        </p:nvPicPr>
        <p:blipFill>
          <a:blip r:embed="rId5"/>
          <a:stretch/>
        </p:blipFill>
        <p:spPr>
          <a:xfrm>
            <a:off x="5003640" y="2205000"/>
            <a:ext cx="367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395280" y="260280"/>
            <a:ext cx="417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ёрлинг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англ. Curling) 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В 1998 году керлинг был признан Олимпийским видом спорта, и на Зимних Олимпийских играх в Нагано были разыграны первые золотые медал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Керлинг - Ванкувер-2010"/>
          <p:cNvPicPr/>
          <p:nvPr/>
        </p:nvPicPr>
        <p:blipFill>
          <a:blip r:embed="rId1"/>
          <a:stretch/>
        </p:blipFill>
        <p:spPr>
          <a:xfrm>
            <a:off x="1619280" y="2349360"/>
            <a:ext cx="288144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ts3.mm.bing.net/th?id=H.4750681725274806&amp;pid=15.1&amp;H=160&amp;W=160"/>
          <p:cNvPicPr/>
          <p:nvPr/>
        </p:nvPicPr>
        <p:blipFill>
          <a:blip r:embed="rId2"/>
          <a:stretch/>
        </p:blipFill>
        <p:spPr>
          <a:xfrm>
            <a:off x="1619280" y="429264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ерлинг - клюшка"/>
          <p:cNvPicPr/>
          <p:nvPr/>
        </p:nvPicPr>
        <p:blipFill>
          <a:blip r:embed="rId3"/>
          <a:stretch/>
        </p:blipFill>
        <p:spPr>
          <a:xfrm>
            <a:off x="539640" y="2349360"/>
            <a:ext cx="1008000" cy="4104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0"/>
          <p:cNvSpPr/>
          <p:nvPr/>
        </p:nvSpPr>
        <p:spPr>
          <a:xfrm>
            <a:off x="4572000" y="333360"/>
            <a:ext cx="41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орнолыжный спорт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— спуск с гор на специальных лыжах. Вид спорта, а также популярный вид активного отдыха миллионов людей по всему мир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официальные горнолыжные состязания прошли в Альпах в 1905 году. В программу зимних Олимпийских игр горнолыжный спорт был введен в 1936 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2" descr="Горнолыжный спорт"/>
          <p:cNvPicPr/>
          <p:nvPr/>
        </p:nvPicPr>
        <p:blipFill>
          <a:blip r:embed="rId4"/>
          <a:stretch/>
        </p:blipFill>
        <p:spPr>
          <a:xfrm>
            <a:off x="4643280" y="2349360"/>
            <a:ext cx="403236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Скоростной спуск"/>
          <p:cNvPicPr/>
          <p:nvPr/>
        </p:nvPicPr>
        <p:blipFill>
          <a:blip r:embed="rId5"/>
          <a:stretch/>
        </p:blipFill>
        <p:spPr>
          <a:xfrm>
            <a:off x="4643280" y="4365720"/>
            <a:ext cx="403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611280" y="333360"/>
            <a:ext cx="4105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ыжное двоеборь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включает в себя 2 дисциплины: прыжки с трамплина и лыжную гонку на 15 км. В олимпийскую программу входят три вида соревнований для мужчин: индивидуальная гонка, спринт и командная гонка. Всего разыгрывается 3 комплекта наград. Впервые индивидуальные соревнования по лыжному двоеборью были включены в олимпийскую программу в 1924 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Лыжное двоеборье - Олимпийский вид спорта"/>
          <p:cNvPicPr/>
          <p:nvPr/>
        </p:nvPicPr>
        <p:blipFill>
          <a:blip r:embed="rId1"/>
          <a:stretch/>
        </p:blipFill>
        <p:spPr>
          <a:xfrm>
            <a:off x="468360" y="2276640"/>
            <a:ext cx="4103640" cy="20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Лыжное двоеборье - Олимпийские игры"/>
          <p:cNvPicPr/>
          <p:nvPr/>
        </p:nvPicPr>
        <p:blipFill>
          <a:blip r:embed="rId2"/>
          <a:stretch/>
        </p:blipFill>
        <p:spPr>
          <a:xfrm>
            <a:off x="468360" y="4365720"/>
            <a:ext cx="4103640" cy="2016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4716360" y="333360"/>
            <a:ext cx="3959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ыжки с трамплин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(ski jumping) — вид спорта, включающий прыжки на лыжах со специально оборудованных трамплинов. Выступают как самостоятельный вид спорта, а так же входят в программу лыжного двоеборья. Входят в состав Международной федерации лыжного спорта (FIS). В программе первых Зимних Олимпийских игр в Шамони (1924) были включены прыжки с 70 метрового трамплина, с 1964 — с 70 и 90 метрового трамплина. Участвуют только мужчины. С 1992 личные соревнования проводятся на трамплинах 90 метров и 120 метров, командные — на трамплине 120 метр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Прыжки на лыжах"/>
          <p:cNvPicPr/>
          <p:nvPr/>
        </p:nvPicPr>
        <p:blipFill>
          <a:blip r:embed="rId3"/>
          <a:stretch/>
        </p:blipFill>
        <p:spPr>
          <a:xfrm>
            <a:off x="4788000" y="3716280"/>
            <a:ext cx="3671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4" descr="88ea9cedfc3bd5334be8e2c2c56.jpg"/>
          <p:cNvPicPr/>
          <p:nvPr/>
        </p:nvPicPr>
        <p:blipFill>
          <a:blip r:embed="rId1"/>
          <a:stretch/>
        </p:blipFill>
        <p:spPr>
          <a:xfrm>
            <a:off x="5500800" y="2851200"/>
            <a:ext cx="3284280" cy="3149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16231.jpg"/>
          <p:cNvPicPr/>
          <p:nvPr/>
        </p:nvPicPr>
        <p:blipFill>
          <a:blip r:embed="rId2"/>
          <a:stretch/>
        </p:blipFill>
        <p:spPr>
          <a:xfrm>
            <a:off x="7072200" y="214200"/>
            <a:ext cx="1644840" cy="1571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250px-Olympic_flag_svg.png"/>
          <p:cNvPicPr/>
          <p:nvPr/>
        </p:nvPicPr>
        <p:blipFill>
          <a:blip r:embed="rId3"/>
          <a:stretch/>
        </p:blipFill>
        <p:spPr>
          <a:xfrm>
            <a:off x="214200" y="285840"/>
            <a:ext cx="1905120" cy="12729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2291760" y="482760"/>
            <a:ext cx="343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 2014 году Зимние Олимпийские Иг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ойдут в России, в городе Соч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&amp;Scy;&amp;tcy;&amp;icy;&amp;khcy;&amp;icy; &amp;icy; &amp;pcy;&amp;iecy;&amp;scy;&amp;ncy;&amp;icy; &amp;ocy; &amp;Scy;&amp;ocy;&amp;chcy;&amp;icy; - &amp;ocy;&amp;lcy;&amp;icy;&amp;mcy;&amp;pcy;&amp;icy;&amp;jcy;&amp;scy;&amp;kcy;&amp;ocy;&amp;jcy; &amp;scy;&amp;tcy;&amp;ocy;&amp;lcy;&amp;icy;&amp;tscy;&amp;iecy; 2014"/>
          <p:cNvPicPr/>
          <p:nvPr/>
        </p:nvPicPr>
        <p:blipFill>
          <a:blip r:embed="rId4"/>
          <a:stretch/>
        </p:blipFill>
        <p:spPr>
          <a:xfrm>
            <a:off x="285840" y="2928960"/>
            <a:ext cx="3643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91960" y="0"/>
            <a:ext cx="35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Муз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Рисунок 2" descr="S6301973.JPG"/>
          <p:cNvPicPr/>
          <p:nvPr/>
        </p:nvPicPr>
        <p:blipFill>
          <a:blip r:embed="rId1"/>
          <a:stretch/>
        </p:blipFill>
        <p:spPr>
          <a:xfrm>
            <a:off x="2214720" y="714240"/>
            <a:ext cx="2093760" cy="27147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S6301978.JPG"/>
          <p:cNvPicPr/>
          <p:nvPr/>
        </p:nvPicPr>
        <p:blipFill>
          <a:blip r:embed="rId2"/>
          <a:stretch/>
        </p:blipFill>
        <p:spPr>
          <a:xfrm>
            <a:off x="6858000" y="785880"/>
            <a:ext cx="1982880" cy="26431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S6301980.JPG"/>
          <p:cNvPicPr/>
          <p:nvPr/>
        </p:nvPicPr>
        <p:blipFill>
          <a:blip r:embed="rId3"/>
          <a:stretch/>
        </p:blipFill>
        <p:spPr>
          <a:xfrm>
            <a:off x="0" y="714240"/>
            <a:ext cx="2089080" cy="27860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S6301982.JPG"/>
          <p:cNvPicPr/>
          <p:nvPr/>
        </p:nvPicPr>
        <p:blipFill>
          <a:blip r:embed="rId4"/>
          <a:stretch/>
        </p:blipFill>
        <p:spPr>
          <a:xfrm>
            <a:off x="4500720" y="714240"/>
            <a:ext cx="2100240" cy="2800440"/>
          </a:xfrm>
          <a:prstGeom prst="rect">
            <a:avLst/>
          </a:prstGeom>
          <a:ln w="0">
            <a:noFill/>
          </a:ln>
        </p:spPr>
      </p:pic>
      <p:sp>
        <p:nvSpPr>
          <p:cNvPr id="156" name="Заголовок 4"/>
          <p:cNvSpPr/>
          <p:nvPr/>
        </p:nvSpPr>
        <p:spPr>
          <a:xfrm>
            <a:off x="500040" y="342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уть олимпийского ог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Рисунок 6" descr="S6301969.JPG"/>
          <p:cNvPicPr/>
          <p:nvPr/>
        </p:nvPicPr>
        <p:blipFill>
          <a:blip r:embed="rId5"/>
          <a:stretch/>
        </p:blipFill>
        <p:spPr>
          <a:xfrm>
            <a:off x="1071720" y="4286160"/>
            <a:ext cx="1785960" cy="2381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S6301971.JPG"/>
          <p:cNvPicPr/>
          <p:nvPr/>
        </p:nvPicPr>
        <p:blipFill>
          <a:blip r:embed="rId6"/>
          <a:stretch/>
        </p:blipFill>
        <p:spPr>
          <a:xfrm>
            <a:off x="5429160" y="4500720"/>
            <a:ext cx="1768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История Древней олимпиа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7" descr="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снователь олимпийского дви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27"/>
          <p:cNvPicPr/>
          <p:nvPr/>
        </p:nvPicPr>
        <p:blipFill>
          <a:blip r:embed="rId1"/>
          <a:stretch/>
        </p:blipFill>
        <p:spPr>
          <a:xfrm>
            <a:off x="468360" y="1341360"/>
            <a:ext cx="360036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4211640" y="126828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ателем современного олимпийского движения по праву считается барон Пьер де Куберт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 родился в Париже в 1863 году, закончил философский факультет Сорбонны, изучал историю и педагогику, активно занимался спортом: боксом, фехтованием, греблей и верховой езд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1894 году в Сорбонне прошел Международный атлетический конгресс, на котором было принято историческое решение о возрождении олимпийских игр и проведении Первой олимпиады в 1896 году в Афинах. Кубертен стал генеральным секретарем Международного олимпийского комитета, а потом и его президентом. Умер барон де Кубертен в 1937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6"/>
          <p:cNvSpPr/>
          <p:nvPr/>
        </p:nvSpPr>
        <p:spPr>
          <a:xfrm>
            <a:off x="971640" y="4005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неотъемлемых символов Олимпийских игр непрерывно горит на протяжении всей Олимпиады в городе ее проведения - начиная с церемонии открытия и заканчивая непосредственным окончанием Игр. Традиция зажжения Олимпийского огня существовала в Древней Греции - она служила напоминанием о подвиге титана Прометея, по легенде, похитившего огонь у Зевса и подарившего его людям. Традиция была возрождена в 1928 году и сохраняется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http://gdb.voanews.com/AD07A16B-F82F-4A56-99EF-C9D24A49A90A_w640_r1_s_cx0_cy8_cw0.jpg"/>
          <p:cNvPicPr/>
          <p:nvPr/>
        </p:nvPicPr>
        <p:blipFill>
          <a:blip r:embed="rId1"/>
          <a:stretch/>
        </p:blipFill>
        <p:spPr>
          <a:xfrm>
            <a:off x="1357200" y="857160"/>
            <a:ext cx="6675480" cy="3114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9"/>
          <p:cNvSpPr/>
          <p:nvPr/>
        </p:nvSpPr>
        <p:spPr>
          <a:xfrm>
            <a:off x="539640" y="9810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лимпийский флаг представляет собой белое шёлковое полотнище с вышитой на нём </a:t>
            </a: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олимпийской эмблемой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 – пятью переплетёнными кольцами. Эмблема придумана Пьером де Кубертеном в 1913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Шесть цветов (вместе с белым фоном полотна) скомбинированы так, что представляют собой национальные цвета всех без исключения стран ми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лимпийская эмблема и Олимпийский флаг впервые были представлены на VII летних Олимпийских играх в Антверпене </a:t>
            </a: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в 1920 году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лимпийский  фла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Олимпийский флаг"/>
          <p:cNvPicPr/>
          <p:nvPr/>
        </p:nvPicPr>
        <p:blipFill>
          <a:blip r:embed="rId1"/>
          <a:stretch/>
        </p:blipFill>
        <p:spPr>
          <a:xfrm>
            <a:off x="1643040" y="3214800"/>
            <a:ext cx="58132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йская символ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2000" y="112500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йц"/>
          <p:cNvPicPr/>
          <p:nvPr/>
        </p:nvPicPr>
        <p:blipFill>
          <a:blip r:embed="rId1"/>
          <a:stretch/>
        </p:blipFill>
        <p:spPr>
          <a:xfrm>
            <a:off x="0" y="1357200"/>
            <a:ext cx="4214880" cy="318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52"/>
          <p:cNvPicPr/>
          <p:nvPr/>
        </p:nvPicPr>
        <p:blipFill>
          <a:blip r:embed="rId2"/>
          <a:stretch/>
        </p:blipFill>
        <p:spPr>
          <a:xfrm>
            <a:off x="4689360" y="1428840"/>
            <a:ext cx="4454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Безимени-1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6320" y="0"/>
            <a:ext cx="8437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Безимени-2"/>
          <p:cNvPicPr/>
          <p:nvPr/>
        </p:nvPicPr>
        <p:blipFill>
          <a:blip r:embed="rId1"/>
          <a:stretch/>
        </p:blipFill>
        <p:spPr>
          <a:xfrm>
            <a:off x="0" y="0"/>
            <a:ext cx="3071880" cy="331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Безимени-3-gif"/>
          <p:cNvPicPr/>
          <p:nvPr/>
        </p:nvPicPr>
        <p:blipFill>
          <a:blip r:embed="rId2"/>
          <a:stretch/>
        </p:blipFill>
        <p:spPr>
          <a:xfrm>
            <a:off x="0" y="3357720"/>
            <a:ext cx="3032280" cy="3305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914400" y="153036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Безимени-4"/>
          <p:cNvPicPr/>
          <p:nvPr/>
        </p:nvPicPr>
        <p:blipFill>
          <a:blip r:embed="rId1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ПЕТРОВ</cp:lastModifiedBy>
  <dcterms:modified xsi:type="dcterms:W3CDTF">2017-08-21T16:09:30Z</dcterms:modified>
  <cp:revision>52</cp:revision>
  <dc:subject/>
  <dc:title>Слайд 1</dc:title>
</cp:coreProperties>
</file>