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DAB-A0DF-41A9-998E-5BE0C24E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576-CC14-46A2-A1FF-60229B09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E35-81F5-4C96-B03B-721AEFFC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950-C39C-49C3-B5FC-839B6745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F016-93E0-4092-AA8B-01049E6A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0379-0F82-4096-AA79-F1A50F59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E9A5-1767-49A0-AB33-4C9ED9EE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902C-62D8-4496-91F7-996F3E65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2CE3-B5B7-403C-986B-4335ED08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E56A-8EDC-4DDA-A560-011E5648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992C-A300-4629-852E-26C2182D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3D2-BCDB-449C-ADEE-0A1E0F4B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827F-29A2-444B-A1B1-001B3764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51F7-21B4-481D-9462-5BA17E18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0E91-5C4A-48B8-B504-0704C73B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3A21-F3B0-445C-B8BB-1E6CF5E1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334A-4182-452F-917D-D6BB9BF7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44547-A0DF-4DE8-818F-21F9EDAE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24681-508A-4829-B92B-AE4AC606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8EEB1-86F7-446D-8770-7974E4CD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67FA7-A171-417A-AECD-65E7F0BE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2BCDA-ED20-4450-A341-4D6850AF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467B-5472-4458-B007-881F6EDD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2F41D-9E7F-4F4D-AB10-7084B186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F11D4-4D1E-4FC3-8306-A9D72D8E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823A2-B40C-4EED-B1E4-453C8945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5590E-A3DF-43FB-869E-6AF4DA79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03AF6-06A1-46DD-B450-54BE1996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59BA5-5E19-45B5-B6FE-CEEAFD26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E8EFD-197E-4EAB-995E-DA0D95A5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54395-BAC0-477E-99C0-D0371756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454AD-C055-4C3E-8744-9FAB9B56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59ACE-9E13-4F2C-978F-545A0EBE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8D52-F34D-4F7C-953C-B1761A77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5F9E3-D3EF-48BA-A145-A6D05620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30889-1191-4AD5-8FF8-7A5F6461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73652-7078-437C-B57A-2BE1E62C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CFEBB-0C8F-427F-B20D-DF2F401C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D22FF-E457-4CBB-8BA4-BE81578D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A8AE5-79E0-429C-9294-D365C69B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863D8-48AC-44A8-A23F-DF68FFBA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06F2E-5226-4B67-B4E4-5753531A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49129-BC48-4FD5-ACF8-8F7CF2B4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59C7-70C9-49D7-90ED-1D4F90DA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078-4ED6-479D-A5D2-02760DFB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ADF-F2FF-41B4-BC64-05D6B073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808-1617-40F5-AD88-7CF716E0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526C-029C-4D55-A789-B20A183C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25.xml"/><Relationship Id="rId25" Type="http://schemas.openxmlformats.org/officeDocument/2006/relationships/slideLayout" Target="../slideLayouts/slideLayout26.xml"/><Relationship Id="rId26" Type="http://schemas.openxmlformats.org/officeDocument/2006/relationships/slideLayout" Target="../slideLayouts/slideLayout27.xml"/><Relationship Id="rId27" Type="http://schemas.openxmlformats.org/officeDocument/2006/relationships/slideLayout" Target="../slideLayouts/slideLayout28.xml"/><Relationship Id="rId28" Type="http://schemas.openxmlformats.org/officeDocument/2006/relationships/slideLayout" Target="../slideLayouts/slideLayout29.xml"/><Relationship Id="rId29" Type="http://schemas.openxmlformats.org/officeDocument/2006/relationships/slideLayout" Target="../slideLayouts/slideLayout30.xml"/><Relationship Id="rId30" Type="http://schemas.openxmlformats.org/officeDocument/2006/relationships/slideLayout" Target="../slideLayouts/slideLayout31.xml"/><Relationship Id="rId31" Type="http://schemas.openxmlformats.org/officeDocument/2006/relationships/slideLayout" Target="../slideLayouts/slideLayout32.xml"/><Relationship Id="rId32" Type="http://schemas.openxmlformats.org/officeDocument/2006/relationships/slideLayout" Target="../slideLayouts/slideLayout33.xml"/><Relationship Id="rId33" Type="http://schemas.openxmlformats.org/officeDocument/2006/relationships/slideLayout" Target="../slideLayouts/slideLayout34.xml"/><Relationship Id="rId34" Type="http://schemas.openxmlformats.org/officeDocument/2006/relationships/slideLayout" Target="../slideLayouts/slideLayout35.xml"/><Relationship Id="rId3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37.xml"/><Relationship Id="rId25" Type="http://schemas.openxmlformats.org/officeDocument/2006/relationships/slideLayout" Target="../slideLayouts/slideLayout38.xml"/><Relationship Id="rId26" Type="http://schemas.openxmlformats.org/officeDocument/2006/relationships/slideLayout" Target="../slideLayouts/slideLayout39.xml"/><Relationship Id="rId27" Type="http://schemas.openxmlformats.org/officeDocument/2006/relationships/slideLayout" Target="../slideLayouts/slideLayout40.xml"/><Relationship Id="rId28" Type="http://schemas.openxmlformats.org/officeDocument/2006/relationships/slideLayout" Target="../slideLayouts/slideLayout41.xml"/><Relationship Id="rId29" Type="http://schemas.openxmlformats.org/officeDocument/2006/relationships/slideLayout" Target="../slideLayouts/slideLayout42.xml"/><Relationship Id="rId30" Type="http://schemas.openxmlformats.org/officeDocument/2006/relationships/slideLayout" Target="../slideLayouts/slideLayout43.xml"/><Relationship Id="rId31" Type="http://schemas.openxmlformats.org/officeDocument/2006/relationships/slideLayout" Target="../slideLayouts/slideLayout44.xml"/><Relationship Id="rId32" Type="http://schemas.openxmlformats.org/officeDocument/2006/relationships/slideLayout" Target="../slideLayouts/slideLayout45.xml"/><Relationship Id="rId33" Type="http://schemas.openxmlformats.org/officeDocument/2006/relationships/slideLayout" Target="../slideLayouts/slideLayout46.xml"/><Relationship Id="rId34" Type="http://schemas.openxmlformats.org/officeDocument/2006/relationships/slideLayout" Target="../slideLayouts/slideLayout47.xml"/><Relationship Id="rId3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5BF6-39A8-4B66-B66D-0F05E617A033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57240" y="1424880"/>
              <a:ext cx="1108800" cy="1099080"/>
              <a:chOff x="5457240" y="1424880"/>
              <a:chExt cx="11088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7240" y="1424880"/>
                <a:ext cx="11088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5440" y="1600920"/>
                <a:ext cx="75132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4280" y="1401120"/>
              <a:ext cx="858240" cy="844920"/>
              <a:chOff x="5624280" y="1401120"/>
              <a:chExt cx="85824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4280" y="1401120"/>
                <a:ext cx="85824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6480" y="1540080"/>
                <a:ext cx="57420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68040"/>
              <a:ext cx="631800" cy="626400"/>
              <a:chOff x="5242680" y="1868040"/>
              <a:chExt cx="63180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68040"/>
                <a:ext cx="63180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48160" y="1975680"/>
                <a:ext cx="41652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3600" y="1791360"/>
              <a:ext cx="524520" cy="514080"/>
              <a:chOff x="5403600" y="1791360"/>
              <a:chExt cx="5245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3600" y="1791360"/>
                <a:ext cx="5245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6120" y="1879200"/>
                <a:ext cx="338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1960" cy="289440"/>
              <a:chOff x="4718160" y="2051280"/>
              <a:chExt cx="291960" cy="28944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19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3240" y="210996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5160" y="993600"/>
              <a:ext cx="298080" cy="295200"/>
              <a:chOff x="6095160" y="993600"/>
              <a:chExt cx="29808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5160" y="993600"/>
                <a:ext cx="2980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5280" y="105300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45760" y="1868040"/>
              <a:ext cx="238320" cy="236160"/>
              <a:chOff x="5045760" y="1868040"/>
              <a:chExt cx="23832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45760" y="186804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097600" y="19180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3160" y="1058400"/>
              <a:ext cx="238320" cy="236160"/>
              <a:chOff x="6113160" y="1058400"/>
              <a:chExt cx="238320" cy="23616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3160" y="105840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3200" y="11098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F372-0155-4E00-98B8-13B2D1CEF6AA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62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163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170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9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80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8261-EBD7-4A81-B08D-D35F05908E53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4"/>
    <p:sldLayoutId id="2147483676" r:id="rId25"/>
    <p:sldLayoutId id="2147483677" r:id="rId26"/>
    <p:sldLayoutId id="2147483678" r:id="rId27"/>
    <p:sldLayoutId id="2147483679" r:id="rId28"/>
    <p:sldLayoutId id="2147483680" r:id="rId29"/>
    <p:sldLayoutId id="2147483681" r:id="rId30"/>
    <p:sldLayoutId id="2147483682" r:id="rId31"/>
    <p:sldLayoutId id="2147483683" r:id="rId32"/>
    <p:sldLayoutId id="2147483684" r:id="rId33"/>
    <p:sldLayoutId id="2147483685" r:id="rId34"/>
    <p:sldLayoutId id="2147483686" r:id="rId3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230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31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238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1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248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FF82-9A3C-4480-883D-0BEECDB01E46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4"/>
    <p:sldLayoutId id="2147483689" r:id="rId25"/>
    <p:sldLayoutId id="2147483690" r:id="rId26"/>
    <p:sldLayoutId id="2147483691" r:id="rId27"/>
    <p:sldLayoutId id="2147483692" r:id="rId28"/>
    <p:sldLayoutId id="2147483693" r:id="rId29"/>
    <p:sldLayoutId id="2147483694" r:id="rId30"/>
    <p:sldLayoutId id="2147483695" r:id="rId31"/>
    <p:sldLayoutId id="2147483696" r:id="rId32"/>
    <p:sldLayoutId id="2147483697" r:id="rId33"/>
    <p:sldLayoutId id="2147483698" r:id="rId34"/>
    <p:sldLayoutId id="2147483699" r:id="rId3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Bookman Old Style"/>
              </a:rPr>
              <a:t>Русский язык</a:t>
            </a:r>
            <a:endParaRPr b="0" lang="en-US" sz="7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124000" y="3357720"/>
            <a:ext cx="46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Bookman Old Style"/>
              </a:rPr>
              <a:t>  </a:t>
            </a:r>
            <a:r>
              <a:rPr b="1" lang="ru-RU" sz="6000" spc="-1" strike="noStrike">
                <a:solidFill>
                  <a:srgbClr val="ff0000"/>
                </a:solidFill>
                <a:latin typeface="Bookman Old Style"/>
              </a:rPr>
              <a:t>2   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C:\Users\Учитель10\Desktop\RTEmagicC_shutterstock_5024194.jpg.jpg"/>
          <p:cNvPicPr/>
          <p:nvPr/>
        </p:nvPicPr>
        <p:blipFill>
          <a:blip r:embed="rId1"/>
          <a:stretch/>
        </p:blipFill>
        <p:spPr>
          <a:xfrm>
            <a:off x="395280" y="4363920"/>
            <a:ext cx="38098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250920" y="274680"/>
          <a:ext cx="8713800" cy="4451400"/>
        </p:xfrm>
        <a:graphic>
          <a:graphicData uri="http://schemas.openxmlformats.org/drawingml/2006/table">
            <a:tbl>
              <a:tblPr/>
              <a:tblGrid>
                <a:gridCol w="2041560"/>
                <a:gridCol w="1704960"/>
                <a:gridCol w="1557360"/>
                <a:gridCol w="1596960"/>
                <a:gridCol w="1812960"/>
              </a:tblGrid>
              <a:tr h="581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-ряем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рочные 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м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ение чис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форм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днокоренны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щест-витель-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ла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лага-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е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ы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ы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б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нет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ы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б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ы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б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а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ы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б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а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и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ы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б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ы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ка ... 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3" name="Picture 148" descr="C:\Users\Учитель10\Desktop\Без названия (1).jpg"/>
          <p:cNvPicPr/>
          <p:nvPr/>
        </p:nvPicPr>
        <p:blipFill>
          <a:blip r:embed="rId1"/>
          <a:stretch/>
        </p:blipFill>
        <p:spPr>
          <a:xfrm>
            <a:off x="6588000" y="4869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324000" y="260280"/>
          <a:ext cx="8507160" cy="4797360"/>
        </p:xfrm>
        <a:graphic>
          <a:graphicData uri="http://schemas.openxmlformats.org/drawingml/2006/table">
            <a:tbl>
              <a:tblPr/>
              <a:tblGrid>
                <a:gridCol w="1974600"/>
                <a:gridCol w="1708200"/>
                <a:gridCol w="1511280"/>
                <a:gridCol w="1584360"/>
                <a:gridCol w="1728720"/>
              </a:tblGrid>
              <a:tr h="581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-ряем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9a5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рочные 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м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ение чис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форм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днокоренны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щест-витель-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ла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лага-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е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ы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ы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б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нет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ы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б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ы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б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а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ы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б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а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и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ы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б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ы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ка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нет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ка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ка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ка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а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ка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ны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5" name="Picture 148" descr="C:\Users\Учитель10\Desktop\Без названия (1).jpg"/>
          <p:cNvPicPr/>
          <p:nvPr/>
        </p:nvPicPr>
        <p:blipFill>
          <a:blip r:embed="rId1"/>
          <a:stretch/>
        </p:blipFill>
        <p:spPr>
          <a:xfrm>
            <a:off x="6516720" y="51116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000066"/>
                </a:solidFill>
                <a:latin typeface="Monotype Corsiva"/>
              </a:rPr>
              <a:t>Молодцы!!!</a:t>
            </a:r>
            <a:endParaRPr b="0" lang="en-US" sz="7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27" name="Picture 5" descr="C:\Users\Учитель10\Desktop\uchebnye_posobija.jpg"/>
          <p:cNvPicPr/>
          <p:nvPr/>
        </p:nvPicPr>
        <p:blipFill>
          <a:blip r:embed="rId1"/>
          <a:stretch/>
        </p:blipFill>
        <p:spPr>
          <a:xfrm>
            <a:off x="4145040" y="2197080"/>
            <a:ext cx="36669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7704000" cy="35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0066"/>
                </a:solidFill>
                <a:latin typeface="Bookman Old Style"/>
              </a:rPr>
              <a:t>Спасибо за внимание.</a:t>
            </a:r>
            <a:r>
              <a:rPr b="1" lang="ru-RU" sz="4000" spc="-1" strike="noStrike">
                <a:solidFill>
                  <a:srgbClr val="404040"/>
                </a:solidFill>
                <a:latin typeface="Bookman Old Style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...Чтобы хорошо писать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надо хорошо знать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свой родной язык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                      М. Горький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Правописание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парных согласных</a:t>
            </a: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 в корне слова 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02" name="Picture 6" descr="C:\Users\Учитель10\Desktop\Без названия.jpg"/>
          <p:cNvPicPr/>
          <p:nvPr/>
        </p:nvPicPr>
        <p:blipFill>
          <a:blip r:embed="rId1"/>
          <a:stretch/>
        </p:blipFill>
        <p:spPr>
          <a:xfrm>
            <a:off x="5867280" y="2997360"/>
            <a:ext cx="2784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813744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Bookman Old Style"/>
              </a:rPr>
              <a:t>Парные согласные – </a:t>
            </a:r>
            <a:br>
              <a:rPr sz="3200"/>
            </a:br>
            <a:r>
              <a:rPr b="1" i="1" lang="ru-RU" sz="3200" spc="-1" strike="noStrike">
                <a:solidFill>
                  <a:srgbClr val="404040"/>
                </a:solidFill>
                <a:latin typeface="Bookman Old Style"/>
              </a:rPr>
              <a:t>Самые опасные!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Bookman Old Style"/>
              </a:rPr>
              <a:t>Звук согласный проверяй –</a:t>
            </a:r>
            <a:r>
              <a:rPr b="0" i="1" lang="ru-RU" sz="3200" spc="-1" strike="noStrike">
                <a:solidFill>
                  <a:srgbClr val="404040"/>
                </a:solidFill>
                <a:latin typeface="Bookman Old Style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Bookman Old Style"/>
              </a:rPr>
              <a:t>Рядом</a:t>
            </a:r>
            <a:r>
              <a:rPr b="0" i="1" lang="ru-RU" sz="3200" spc="-1" strike="noStrike">
                <a:solidFill>
                  <a:srgbClr val="40404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404040"/>
                </a:solidFill>
                <a:latin typeface="Bookman Old Style"/>
              </a:rPr>
              <a:t>гласный</a:t>
            </a:r>
            <a:r>
              <a:rPr b="0" i="1" lang="ru-RU" sz="3200" spc="-1" strike="noStrike">
                <a:solidFill>
                  <a:srgbClr val="404040"/>
                </a:solidFill>
                <a:latin typeface="Bookman Old Style"/>
              </a:rPr>
              <a:t>   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Bookman Old Style"/>
              </a:rPr>
              <a:t>                         </a:t>
            </a:r>
            <a:r>
              <a:rPr b="0" lang="ru-RU" sz="3200" spc="-1" strike="noStrike">
                <a:solidFill>
                  <a:srgbClr val="404040"/>
                </a:solidFill>
                <a:latin typeface="Bookman Old Style"/>
              </a:rPr>
              <a:t>подставляй!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04" name="Picture 5" descr="C:\Users\Учитель10\Desktop\images.jpg"/>
          <p:cNvPicPr/>
          <p:nvPr/>
        </p:nvPicPr>
        <p:blipFill>
          <a:blip r:embed="rId1"/>
          <a:stretch/>
        </p:blipFill>
        <p:spPr>
          <a:xfrm>
            <a:off x="5940360" y="442908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19"/>
          <p:cNvSpPr/>
          <p:nvPr/>
        </p:nvSpPr>
        <p:spPr>
          <a:xfrm rot="1363800">
            <a:off x="5230440" y="131400"/>
            <a:ext cx="3673440" cy="2592360"/>
          </a:xfrm>
          <a:prstGeom prst="cloudCallout">
            <a:avLst>
              <a:gd name="adj1" fmla="val 54226"/>
              <a:gd name="adj2" fmla="val 56384"/>
            </a:avLst>
          </a:prstGeom>
          <a:solidFill>
            <a:srgbClr val="c1ec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8"/>
          <p:cNvSpPr/>
          <p:nvPr/>
        </p:nvSpPr>
        <p:spPr>
          <a:xfrm>
            <a:off x="2771640" y="2133720"/>
            <a:ext cx="3672000" cy="2592360"/>
          </a:xfrm>
          <a:prstGeom prst="cloudCallout">
            <a:avLst>
              <a:gd name="adj1" fmla="val 33226"/>
              <a:gd name="adj2" fmla="val 46078"/>
            </a:avLst>
          </a:prstGeom>
          <a:solidFill>
            <a:srgbClr val="c1ec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179280" y="189000"/>
            <a:ext cx="3888000" cy="2592360"/>
          </a:xfrm>
          <a:prstGeom prst="cloudCallout">
            <a:avLst>
              <a:gd name="adj1" fmla="val 43138"/>
              <a:gd name="adj2" fmla="val 19134"/>
            </a:avLst>
          </a:prstGeom>
          <a:solidFill>
            <a:srgbClr val="c1ec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826920" y="836640"/>
            <a:ext cx="2303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ло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ж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Bookman Old Style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ко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ш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Bookman Old Style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3348000" y="2565360"/>
            <a:ext cx="26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рука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шка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ф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5796000" y="107316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6"/>
          <p:cNvSpPr/>
          <p:nvPr/>
        </p:nvSpPr>
        <p:spPr>
          <a:xfrm>
            <a:off x="6227640" y="692280"/>
            <a:ext cx="216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зу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б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у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2" descr="C:\Users\Учитель10\Desktop\Без названия (1).jpg"/>
          <p:cNvPicPr/>
          <p:nvPr/>
        </p:nvPicPr>
        <p:blipFill>
          <a:blip r:embed="rId1"/>
          <a:stretch/>
        </p:blipFill>
        <p:spPr>
          <a:xfrm>
            <a:off x="6438960" y="458136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395280" y="1700280"/>
          <a:ext cx="8229600" cy="3389400"/>
        </p:xfrm>
        <a:graphic>
          <a:graphicData uri="http://schemas.openxmlformats.org/drawingml/2006/table">
            <a:tbl>
              <a:tblPr/>
              <a:tblGrid>
                <a:gridCol w="1944720"/>
                <a:gridCol w="1871640"/>
                <a:gridCol w="1297080"/>
                <a:gridCol w="1584360"/>
                <a:gridCol w="1531800"/>
              </a:tblGrid>
              <a:tr h="581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-ряем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рочные 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о 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 ... 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 ... 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120"/>
          <p:cNvSpPr/>
          <p:nvPr/>
        </p:nvSpPr>
        <p:spPr>
          <a:xfrm>
            <a:off x="468360" y="189000"/>
            <a:ext cx="8675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Bookman Old Style"/>
              </a:rPr>
              <a:t>Способы провер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Bookman Old Style"/>
              </a:rPr>
              <a:t>правописания парных согла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21" descr="C:\Users\Учитель10\Desktop\Без названия (1).jpg"/>
          <p:cNvPicPr/>
          <p:nvPr/>
        </p:nvPicPr>
        <p:blipFill>
          <a:blip r:embed="rId1"/>
          <a:stretch/>
        </p:blipFill>
        <p:spPr>
          <a:xfrm>
            <a:off x="6516720" y="494172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274680"/>
          <a:ext cx="8435880" cy="4287960"/>
        </p:xfrm>
        <a:graphic>
          <a:graphicData uri="http://schemas.openxmlformats.org/drawingml/2006/table">
            <a:tbl>
              <a:tblPr/>
              <a:tblGrid>
                <a:gridCol w="1944720"/>
                <a:gridCol w="1871640"/>
                <a:gridCol w="1593720"/>
                <a:gridCol w="1287720"/>
                <a:gridCol w="1738080"/>
              </a:tblGrid>
              <a:tr h="581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-ряем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рочные 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м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ение чис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форм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днокоренны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о 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 ... 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 ... 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7" name="Picture 160" descr="C:\Users\Учитель10\Desktop\Без названия (1).jpg"/>
          <p:cNvPicPr/>
          <p:nvPr/>
        </p:nvPicPr>
        <p:blipFill>
          <a:blip r:embed="rId1"/>
          <a:stretch/>
        </p:blipFill>
        <p:spPr>
          <a:xfrm>
            <a:off x="6443640" y="4869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324000" y="274680"/>
          <a:ext cx="8362800" cy="4230720"/>
        </p:xfrm>
        <a:graphic>
          <a:graphicData uri="http://schemas.openxmlformats.org/drawingml/2006/table">
            <a:tbl>
              <a:tblPr/>
              <a:tblGrid>
                <a:gridCol w="2030400"/>
                <a:gridCol w="1712880"/>
                <a:gridCol w="1512720"/>
                <a:gridCol w="1411200"/>
                <a:gridCol w="1695600"/>
              </a:tblGrid>
              <a:tr h="581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-ряем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рочные 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м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ение чис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форм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днокоренны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ест-витель-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г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ага-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о 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 ... 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 ... 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9" name="Picture 154" descr="C:\Users\Учитель10\Desktop\Без названия (1).jpg"/>
          <p:cNvPicPr/>
          <p:nvPr/>
        </p:nvPicPr>
        <p:blipFill>
          <a:blip r:embed="rId1"/>
          <a:stretch/>
        </p:blipFill>
        <p:spPr>
          <a:xfrm>
            <a:off x="6300720" y="47242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179280" y="260280"/>
          <a:ext cx="8785440" cy="4429080"/>
        </p:xfrm>
        <a:graphic>
          <a:graphicData uri="http://schemas.openxmlformats.org/drawingml/2006/table">
            <a:tbl>
              <a:tblPr/>
              <a:tblGrid>
                <a:gridCol w="2108160"/>
                <a:gridCol w="1710000"/>
                <a:gridCol w="1511280"/>
                <a:gridCol w="1655640"/>
                <a:gridCol w="1800360"/>
              </a:tblGrid>
              <a:tr h="581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-ряем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рочные 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м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ение чис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форм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днокоренны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щест-витель-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ла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лага-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е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ы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ы ... 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ка ... 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1" name="Picture 169" descr="C:\Users\Учитель10\Desktop\Без названия (1).jpg"/>
          <p:cNvPicPr/>
          <p:nvPr/>
        </p:nvPicPr>
        <p:blipFill>
          <a:blip r:embed="rId1"/>
          <a:stretch/>
        </p:blipFill>
        <p:spPr>
          <a:xfrm>
            <a:off x="6516720" y="494172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09:40:49Z</dcterms:created>
  <dc:creator>ира</dc:creator>
  <dc:description/>
  <dc:language>en-US</dc:language>
  <cp:lastModifiedBy>Учитель10</cp:lastModifiedBy>
  <dcterms:modified xsi:type="dcterms:W3CDTF">2017-08-21T06:33:04Z</dcterms:modified>
  <cp:revision>10</cp:revision>
  <dc:subject/>
  <dc:title>Правописание  парных согласных   в корне слова </dc:title>
</cp:coreProperties>
</file>