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118C-B9DF-494D-99BD-5DEBBAD55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65BA-1D66-4250-96FD-A5863DF0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0FF0-711A-4D63-BE11-79B08444D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3186-60A0-422B-B2B0-D3C517963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6470-426B-4337-AB46-6F0269247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901B-6489-4AC0-A2D7-81BDB8FA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F5FC-2F77-4117-AE04-2AEAC5A5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6082-62F6-4B92-BE44-A53F96B9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7F44A-910E-4003-B48D-A7B57FFC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E42B-804C-4A72-9AA9-F8B437D4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D161-E8A1-4620-9FF6-8D8EEF01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49DF-86BD-4124-9A0B-67B476DD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C63B-9C3D-4ABC-8E17-A48EE89C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59D07-55D7-4D6E-94FF-FFD57386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B76C-D6F1-477B-9418-6D11E927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49A4-AAAD-4785-AE86-8E4058438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D0303-F285-48E9-B1B6-6CD4F838A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239B2-00B2-4931-9190-879DD6C35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409C2-B2BE-4E39-8722-84F016EA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6B089-F712-408B-9BA2-04E73639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21BD4-1037-418E-BE06-9CA35653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8B71F-F568-47D4-BDBD-C83D13C8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1B7F-64BC-439D-9D7E-D7D0F57E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1A513-DE17-4E12-ACD6-1CFC59C1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A83BF-461C-4B77-A7D5-F64ACDB5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FB692-A00E-42D5-9A1F-7F1D34ED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0EE28-14D2-4E23-9FAA-BB76D89B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34E96-0965-49D3-BFFE-4A087800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3A189-7298-485A-8409-68C6CABE3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D1A59-E6C9-4370-A6FA-15F9EAE62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55F49-0589-4A90-B234-E896741CB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57067-5586-43EB-88A4-3FFAAD82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295FA-5EB2-4168-A456-3ADE566D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2FB9-F9FD-43B0-B07D-CB0B6794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95102-19EC-4F48-B742-F5CEE184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68008-4967-4E6C-B6DB-526342B7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3C443-F2F6-421F-A4AA-64F6D5F7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B3CC6-9C13-47EF-A665-282B8467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1A545-E481-4E83-96FC-DFE15FBC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AEC31-9CFA-4F32-97F0-54CD79D5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0F905-B7F2-4200-9548-F4937572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8BA07-8342-418A-8222-7595194B3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C27C6-CCF5-4305-8540-1D39EE739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7A81-5ABE-4AA1-9920-966F0D1C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74EC-4D69-412D-98A0-466FF6BB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276E-556C-4CBF-A242-EC10FC5D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A253-181B-4ED3-8DFE-B618161D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B54A-DF88-4403-8C03-B41BECBE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13.xml"/><Relationship Id="rId33" Type="http://schemas.openxmlformats.org/officeDocument/2006/relationships/slideLayout" Target="../slideLayouts/slideLayout14.xml"/><Relationship Id="rId34" Type="http://schemas.openxmlformats.org/officeDocument/2006/relationships/slideLayout" Target="../slideLayouts/slideLayout15.xml"/><Relationship Id="rId35" Type="http://schemas.openxmlformats.org/officeDocument/2006/relationships/slideLayout" Target="../slideLayouts/slideLayout16.xml"/><Relationship Id="rId36" Type="http://schemas.openxmlformats.org/officeDocument/2006/relationships/slideLayout" Target="../slideLayouts/slideLayout17.xml"/><Relationship Id="rId37" Type="http://schemas.openxmlformats.org/officeDocument/2006/relationships/slideLayout" Target="../slideLayouts/slideLayout18.xml"/><Relationship Id="rId38" Type="http://schemas.openxmlformats.org/officeDocument/2006/relationships/slideLayout" Target="../slideLayouts/slideLayout19.xml"/><Relationship Id="rId39" Type="http://schemas.openxmlformats.org/officeDocument/2006/relationships/slideLayout" Target="../slideLayouts/slideLayout20.xml"/><Relationship Id="rId40" Type="http://schemas.openxmlformats.org/officeDocument/2006/relationships/slideLayout" Target="../slideLayouts/slideLayout21.xml"/><Relationship Id="rId41" Type="http://schemas.openxmlformats.org/officeDocument/2006/relationships/slideLayout" Target="../slideLayouts/slideLayout22.xml"/><Relationship Id="rId42" Type="http://schemas.openxmlformats.org/officeDocument/2006/relationships/slideLayout" Target="../slideLayouts/slideLayout23.xml"/><Relationship Id="rId4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25.xml"/><Relationship Id="rId25" Type="http://schemas.openxmlformats.org/officeDocument/2006/relationships/slideLayout" Target="../slideLayouts/slideLayout26.xml"/><Relationship Id="rId26" Type="http://schemas.openxmlformats.org/officeDocument/2006/relationships/slideLayout" Target="../slideLayouts/slideLayout27.xml"/><Relationship Id="rId27" Type="http://schemas.openxmlformats.org/officeDocument/2006/relationships/slideLayout" Target="../slideLayouts/slideLayout28.xml"/><Relationship Id="rId28" Type="http://schemas.openxmlformats.org/officeDocument/2006/relationships/slideLayout" Target="../slideLayouts/slideLayout29.xml"/><Relationship Id="rId29" Type="http://schemas.openxmlformats.org/officeDocument/2006/relationships/slideLayout" Target="../slideLayouts/slideLayout30.xml"/><Relationship Id="rId30" Type="http://schemas.openxmlformats.org/officeDocument/2006/relationships/slideLayout" Target="../slideLayouts/slideLayout31.xml"/><Relationship Id="rId31" Type="http://schemas.openxmlformats.org/officeDocument/2006/relationships/slideLayout" Target="../slideLayouts/slideLayout32.xml"/><Relationship Id="rId32" Type="http://schemas.openxmlformats.org/officeDocument/2006/relationships/slideLayout" Target="../slideLayouts/slideLayout33.xml"/><Relationship Id="rId33" Type="http://schemas.openxmlformats.org/officeDocument/2006/relationships/slideLayout" Target="../slideLayouts/slideLayout34.xml"/><Relationship Id="rId34" Type="http://schemas.openxmlformats.org/officeDocument/2006/relationships/slideLayout" Target="../slideLayouts/slideLayout35.xml"/><Relationship Id="rId3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37.xml"/><Relationship Id="rId25" Type="http://schemas.openxmlformats.org/officeDocument/2006/relationships/slideLayout" Target="../slideLayouts/slideLayout38.xml"/><Relationship Id="rId26" Type="http://schemas.openxmlformats.org/officeDocument/2006/relationships/slideLayout" Target="../slideLayouts/slideLayout39.xml"/><Relationship Id="rId27" Type="http://schemas.openxmlformats.org/officeDocument/2006/relationships/slideLayout" Target="../slideLayouts/slideLayout40.xml"/><Relationship Id="rId28" Type="http://schemas.openxmlformats.org/officeDocument/2006/relationships/slideLayout" Target="../slideLayouts/slideLayout41.xml"/><Relationship Id="rId29" Type="http://schemas.openxmlformats.org/officeDocument/2006/relationships/slideLayout" Target="../slideLayouts/slideLayout42.xml"/><Relationship Id="rId30" Type="http://schemas.openxmlformats.org/officeDocument/2006/relationships/slideLayout" Target="../slideLayouts/slideLayout43.xml"/><Relationship Id="rId31" Type="http://schemas.openxmlformats.org/officeDocument/2006/relationships/slideLayout" Target="../slideLayouts/slideLayout44.xml"/><Relationship Id="rId32" Type="http://schemas.openxmlformats.org/officeDocument/2006/relationships/slideLayout" Target="../slideLayouts/slideLayout45.xml"/><Relationship Id="rId33" Type="http://schemas.openxmlformats.org/officeDocument/2006/relationships/slideLayout" Target="../slideLayouts/slideLayout46.xml"/><Relationship Id="rId34" Type="http://schemas.openxmlformats.org/officeDocument/2006/relationships/slideLayout" Target="../slideLayouts/slideLayout47.xml"/><Relationship Id="rId3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16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452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55480"/>
                <a:ext cx="151416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5240" y="419040"/>
                <a:ext cx="180612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85600" y="3416760"/>
                <a:ext cx="186588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4400" y="4845240"/>
                <a:ext cx="163332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41960" y="3757320"/>
                <a:ext cx="720" cy="1440"/>
              </a:xfrm>
              <a:custGeom>
                <a:avLst/>
                <a:gdLst/>
                <a:ahLst/>
                <a:rect l="l" t="t" r="r" b="b"/>
                <a:pathLst>
                  <a:path w="879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4280" bIns="-4428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7452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5000"/>
                <a:ext cx="1325880" cy="149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25800" y="976320"/>
                <a:ext cx="82620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C4A6-9818-47DB-8972-689CF3419797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16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452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55480"/>
                <a:ext cx="151416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5240" y="419040"/>
                <a:ext cx="180612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85600" y="3416760"/>
                <a:ext cx="186588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4400" y="4845240"/>
                <a:ext cx="163332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41960" y="3757320"/>
                <a:ext cx="720" cy="1440"/>
              </a:xfrm>
              <a:custGeom>
                <a:avLst/>
                <a:gdLst/>
                <a:ahLst/>
                <a:rect l="l" t="t" r="r" b="b"/>
                <a:pathLst>
                  <a:path w="879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4280" bIns="-4428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7452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5000"/>
                <a:ext cx="1325880" cy="149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25800" y="976320"/>
                <a:ext cx="82620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96" name="Oval 31"/>
            <p:cNvGrpSpPr/>
            <p:nvPr/>
          </p:nvGrpSpPr>
          <p:grpSpPr>
            <a:xfrm>
              <a:off x="5457240" y="1424880"/>
              <a:ext cx="1108800" cy="1099080"/>
              <a:chOff x="5457240" y="1424880"/>
              <a:chExt cx="1108800" cy="1099080"/>
            </a:xfrm>
          </p:grpSpPr>
          <p:pic>
            <p:nvPicPr>
              <p:cNvPr id="97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57240" y="1424880"/>
                <a:ext cx="1108800" cy="109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635440" y="1600920"/>
                <a:ext cx="751320" cy="7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Oval 32"/>
            <p:cNvGrpSpPr/>
            <p:nvPr/>
          </p:nvGrpSpPr>
          <p:grpSpPr>
            <a:xfrm>
              <a:off x="5624280" y="1401120"/>
              <a:ext cx="858240" cy="844920"/>
              <a:chOff x="5624280" y="1401120"/>
              <a:chExt cx="858240" cy="844920"/>
            </a:xfrm>
          </p:grpSpPr>
          <p:pic>
            <p:nvPicPr>
              <p:cNvPr id="100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24280" y="1401120"/>
                <a:ext cx="858240" cy="84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766480" y="1540080"/>
                <a:ext cx="57420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Oval 28"/>
            <p:cNvGrpSpPr/>
            <p:nvPr/>
          </p:nvGrpSpPr>
          <p:grpSpPr>
            <a:xfrm>
              <a:off x="5242680" y="1868040"/>
              <a:ext cx="631800" cy="626400"/>
              <a:chOff x="5242680" y="1868040"/>
              <a:chExt cx="631800" cy="626400"/>
            </a:xfrm>
          </p:grpSpPr>
          <p:pic>
            <p:nvPicPr>
              <p:cNvPr id="103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2680" y="1868040"/>
                <a:ext cx="631800" cy="62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348160" y="1975680"/>
                <a:ext cx="41652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Oval 30"/>
            <p:cNvGrpSpPr/>
            <p:nvPr/>
          </p:nvGrpSpPr>
          <p:grpSpPr>
            <a:xfrm>
              <a:off x="5403600" y="1791360"/>
              <a:ext cx="524520" cy="514080"/>
              <a:chOff x="5403600" y="1791360"/>
              <a:chExt cx="524520" cy="514080"/>
            </a:xfrm>
          </p:grpSpPr>
          <p:pic>
            <p:nvPicPr>
              <p:cNvPr id="106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3600" y="1791360"/>
                <a:ext cx="524520" cy="5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496120" y="1879200"/>
                <a:ext cx="3384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Oval 27"/>
            <p:cNvGrpSpPr/>
            <p:nvPr/>
          </p:nvGrpSpPr>
          <p:grpSpPr>
            <a:xfrm>
              <a:off x="4718160" y="2051280"/>
              <a:ext cx="291960" cy="289440"/>
              <a:chOff x="4718160" y="2051280"/>
              <a:chExt cx="291960" cy="289440"/>
            </a:xfrm>
          </p:grpSpPr>
          <p:pic>
            <p:nvPicPr>
              <p:cNvPr id="109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1280"/>
                <a:ext cx="291960" cy="28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773240" y="2109960"/>
                <a:ext cx="17748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Oval 29"/>
            <p:cNvGrpSpPr/>
            <p:nvPr/>
          </p:nvGrpSpPr>
          <p:grpSpPr>
            <a:xfrm>
              <a:off x="6095160" y="993600"/>
              <a:ext cx="298080" cy="295200"/>
              <a:chOff x="6095160" y="993600"/>
              <a:chExt cx="298080" cy="295200"/>
            </a:xfrm>
          </p:grpSpPr>
          <p:pic>
            <p:nvPicPr>
              <p:cNvPr id="112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095160" y="993600"/>
                <a:ext cx="29808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6155280" y="1053000"/>
                <a:ext cx="17748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Oval 33"/>
            <p:cNvGrpSpPr/>
            <p:nvPr/>
          </p:nvGrpSpPr>
          <p:grpSpPr>
            <a:xfrm>
              <a:off x="5045760" y="1868040"/>
              <a:ext cx="238320" cy="236160"/>
              <a:chOff x="5045760" y="1868040"/>
              <a:chExt cx="238320" cy="236160"/>
            </a:xfrm>
          </p:grpSpPr>
          <p:pic>
            <p:nvPicPr>
              <p:cNvPr id="115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45760" y="1868040"/>
                <a:ext cx="23832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5097600" y="1918080"/>
                <a:ext cx="13644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Oval 34"/>
            <p:cNvGrpSpPr/>
            <p:nvPr/>
          </p:nvGrpSpPr>
          <p:grpSpPr>
            <a:xfrm>
              <a:off x="6113160" y="1058400"/>
              <a:ext cx="238320" cy="236160"/>
              <a:chOff x="6113160" y="1058400"/>
              <a:chExt cx="238320" cy="236160"/>
            </a:xfrm>
          </p:grpSpPr>
          <p:pic>
            <p:nvPicPr>
              <p:cNvPr id="118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3160" y="1058400"/>
                <a:ext cx="23832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6163200" y="1109880"/>
                <a:ext cx="13644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6F0A-3147-496E-A4F5-89CDDCC66E5F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2"/>
    <p:sldLayoutId id="2147483663" r:id="rId33"/>
    <p:sldLayoutId id="2147483664" r:id="rId34"/>
    <p:sldLayoutId id="2147483665" r:id="rId35"/>
    <p:sldLayoutId id="2147483666" r:id="rId36"/>
    <p:sldLayoutId id="2147483667" r:id="rId37"/>
    <p:sldLayoutId id="2147483668" r:id="rId38"/>
    <p:sldLayoutId id="2147483669" r:id="rId39"/>
    <p:sldLayoutId id="2147483670" r:id="rId40"/>
    <p:sldLayoutId id="2147483671" r:id="rId41"/>
    <p:sldLayoutId id="2147483672" r:id="rId42"/>
    <p:sldLayoutId id="2147483673" r:id="rId4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62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163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16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452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55480"/>
                <a:ext cx="151416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5240" y="419040"/>
                <a:ext cx="180612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85600" y="3416760"/>
                <a:ext cx="186588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4400" y="4845240"/>
                <a:ext cx="163332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9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170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" name="Freeform 73"/>
              <p:cNvSpPr/>
              <p:nvPr/>
            </p:nvSpPr>
            <p:spPr>
              <a:xfrm rot="1542000">
                <a:off x="7041960" y="3757320"/>
                <a:ext cx="720" cy="1440"/>
              </a:xfrm>
              <a:custGeom>
                <a:avLst/>
                <a:gdLst/>
                <a:ahLst/>
                <a:rect l="l" t="t" r="r" b="b"/>
                <a:pathLst>
                  <a:path w="879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4280" bIns="-4428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3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9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80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7452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5000"/>
                <a:ext cx="1325880" cy="149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25800" y="976320"/>
                <a:ext cx="82620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9C92-3304-4A2A-82B3-28D44FFE71E6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4"/>
    <p:sldLayoutId id="2147483676" r:id="rId25"/>
    <p:sldLayoutId id="2147483677" r:id="rId26"/>
    <p:sldLayoutId id="2147483678" r:id="rId27"/>
    <p:sldLayoutId id="2147483679" r:id="rId28"/>
    <p:sldLayoutId id="2147483680" r:id="rId29"/>
    <p:sldLayoutId id="2147483681" r:id="rId30"/>
    <p:sldLayoutId id="2147483682" r:id="rId31"/>
    <p:sldLayoutId id="2147483683" r:id="rId32"/>
    <p:sldLayoutId id="2147483684" r:id="rId33"/>
    <p:sldLayoutId id="2147483685" r:id="rId34"/>
    <p:sldLayoutId id="2147483686" r:id="rId3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230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31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16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452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55480"/>
                <a:ext cx="151416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5240" y="419040"/>
                <a:ext cx="180612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85600" y="3416760"/>
                <a:ext cx="186588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4400" y="4845240"/>
                <a:ext cx="163332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7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238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Freeform 73"/>
              <p:cNvSpPr/>
              <p:nvPr/>
            </p:nvSpPr>
            <p:spPr>
              <a:xfrm rot="1542000">
                <a:off x="7041960" y="3757320"/>
                <a:ext cx="720" cy="1440"/>
              </a:xfrm>
              <a:custGeom>
                <a:avLst/>
                <a:gdLst/>
                <a:ahLst/>
                <a:rect l="l" t="t" r="r" b="b"/>
                <a:pathLst>
                  <a:path w="879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4280" bIns="-4428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1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4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7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248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1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7452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2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5000"/>
                <a:ext cx="1325880" cy="149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4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5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25800" y="976320"/>
                <a:ext cx="82620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6D53-3C98-473A-8AAD-11E4D12A8927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4"/>
    <p:sldLayoutId id="2147483689" r:id="rId25"/>
    <p:sldLayoutId id="2147483690" r:id="rId26"/>
    <p:sldLayoutId id="2147483691" r:id="rId27"/>
    <p:sldLayoutId id="2147483692" r:id="rId28"/>
    <p:sldLayoutId id="2147483693" r:id="rId29"/>
    <p:sldLayoutId id="2147483694" r:id="rId30"/>
    <p:sldLayoutId id="2147483695" r:id="rId31"/>
    <p:sldLayoutId id="2147483696" r:id="rId32"/>
    <p:sldLayoutId id="2147483697" r:id="rId33"/>
    <p:sldLayoutId id="2147483698" r:id="rId34"/>
    <p:sldLayoutId id="2147483699" r:id="rId3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7200" spc="-1" strike="noStrike">
                <a:solidFill>
                  <a:srgbClr val="ff0000"/>
                </a:solidFill>
                <a:latin typeface="Bookman Old Style"/>
              </a:rPr>
              <a:t>Русский язык</a:t>
            </a:r>
            <a:endParaRPr b="0" lang="en-US" sz="7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2124000" y="3357720"/>
            <a:ext cx="46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Bookman Old Style"/>
              </a:rPr>
              <a:t>  </a:t>
            </a:r>
            <a:r>
              <a:rPr b="1" lang="ru-RU" sz="6000" spc="-1" strike="noStrike">
                <a:solidFill>
                  <a:srgbClr val="ff0000"/>
                </a:solidFill>
                <a:latin typeface="Bookman Old Style"/>
              </a:rPr>
              <a:t>2    клас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6" descr="C:\Users\Учитель10\Desktop\RTEmagicC_shutterstock_5024194.jpg.jpg"/>
          <p:cNvPicPr/>
          <p:nvPr/>
        </p:nvPicPr>
        <p:blipFill>
          <a:blip r:embed="rId1"/>
          <a:stretch/>
        </p:blipFill>
        <p:spPr>
          <a:xfrm>
            <a:off x="395280" y="4363920"/>
            <a:ext cx="380988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2" name=""/>
          <p:cNvGraphicFramePr/>
          <p:nvPr/>
        </p:nvGraphicFramePr>
        <p:xfrm>
          <a:off x="250920" y="274680"/>
          <a:ext cx="8713800" cy="4451400"/>
        </p:xfrm>
        <a:graphic>
          <a:graphicData uri="http://schemas.openxmlformats.org/drawingml/2006/table">
            <a:tbl>
              <a:tblPr/>
              <a:tblGrid>
                <a:gridCol w="2041560"/>
                <a:gridCol w="1704960"/>
                <a:gridCol w="1557360"/>
                <a:gridCol w="1596960"/>
                <a:gridCol w="1812960"/>
              </a:tblGrid>
              <a:tr h="5814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рове-ряемые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лов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роверочные слов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зме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ение чис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(формы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ec76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днокоренные сл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ec7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8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ущест-витель-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лаг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рилага-тель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оро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Bookman Old Style"/>
                        </a:rPr>
                        <a:t>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оро</a:t>
                      </a: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Bookman Old Style"/>
                        </a:rPr>
                        <a:t>з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оро</a:t>
                      </a: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Bookman Old Style"/>
                        </a:rPr>
                        <a:t>з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е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ц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оро</a:t>
                      </a: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Bookman Old Style"/>
                        </a:rPr>
                        <a:t>з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оро</a:t>
                      </a: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Bookman Old Style"/>
                        </a:rPr>
                        <a:t>з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ы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ы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Bookman Old Style"/>
                        </a:rPr>
                        <a:t>б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(нет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ы</a:t>
                      </a: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Bookman Old Style"/>
                        </a:rPr>
                        <a:t>б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ы</a:t>
                      </a: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Bookman Old Style"/>
                        </a:rPr>
                        <a:t>б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а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ы</a:t>
                      </a: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Bookman Old Style"/>
                        </a:rPr>
                        <a:t>б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а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чи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ы</a:t>
                      </a: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Bookman Old Style"/>
                        </a:rPr>
                        <a:t>б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ы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ка ... 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3" name="Picture 148" descr="C:\Users\Учитель10\Desktop\Без названия (1).jpg"/>
          <p:cNvPicPr/>
          <p:nvPr/>
        </p:nvPicPr>
        <p:blipFill>
          <a:blip r:embed="rId1"/>
          <a:stretch/>
        </p:blipFill>
        <p:spPr>
          <a:xfrm>
            <a:off x="6588000" y="486900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"/>
          <p:cNvGraphicFramePr/>
          <p:nvPr/>
        </p:nvGraphicFramePr>
        <p:xfrm>
          <a:off x="324000" y="260280"/>
          <a:ext cx="8507160" cy="4797360"/>
        </p:xfrm>
        <a:graphic>
          <a:graphicData uri="http://schemas.openxmlformats.org/drawingml/2006/table">
            <a:tbl>
              <a:tblPr/>
              <a:tblGrid>
                <a:gridCol w="1974600"/>
                <a:gridCol w="1708200"/>
                <a:gridCol w="1511280"/>
                <a:gridCol w="1584360"/>
                <a:gridCol w="1728720"/>
              </a:tblGrid>
              <a:tr h="5814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рове-ряемые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лов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9a5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роверочные слов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зме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ение чис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(формы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ec76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днокоренные сл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ec7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8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ущест-витель-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лаг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рилага-тель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оро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Bookman Old Style"/>
                        </a:rPr>
                        <a:t>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оро</a:t>
                      </a: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Bookman Old Style"/>
                        </a:rPr>
                        <a:t>з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оро</a:t>
                      </a: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Bookman Old Style"/>
                        </a:rPr>
                        <a:t>з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е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ц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оро</a:t>
                      </a: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Bookman Old Style"/>
                        </a:rPr>
                        <a:t>з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оро</a:t>
                      </a: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Bookman Old Style"/>
                        </a:rPr>
                        <a:t>з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ы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ы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Bookman Old Style"/>
                        </a:rPr>
                        <a:t>б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(нет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ы</a:t>
                      </a: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Bookman Old Style"/>
                        </a:rPr>
                        <a:t>б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ы</a:t>
                      </a: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Bookman Old Style"/>
                        </a:rPr>
                        <a:t>б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а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ы</a:t>
                      </a: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Bookman Old Style"/>
                        </a:rPr>
                        <a:t>б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а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чи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ы</a:t>
                      </a: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Bookman Old Style"/>
                        </a:rPr>
                        <a:t>б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ы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ка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Bookman Old Style"/>
                        </a:rPr>
                        <a:t>з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(нет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ка</a:t>
                      </a: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Bookman Old Style"/>
                        </a:rPr>
                        <a:t>з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ка</a:t>
                      </a: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Bookman Old Style"/>
                        </a:rPr>
                        <a:t>з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чк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ка</a:t>
                      </a: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Bookman Old Style"/>
                        </a:rPr>
                        <a:t>з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а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ка</a:t>
                      </a: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Bookman Old Style"/>
                        </a:rPr>
                        <a:t>з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чны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5" name="Picture 148" descr="C:\Users\Учитель10\Desktop\Без названия (1).jpg"/>
          <p:cNvPicPr/>
          <p:nvPr/>
        </p:nvPicPr>
        <p:blipFill>
          <a:blip r:embed="rId1"/>
          <a:stretch/>
        </p:blipFill>
        <p:spPr>
          <a:xfrm>
            <a:off x="6516720" y="511164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200" spc="-1" strike="noStrike">
                <a:solidFill>
                  <a:srgbClr val="000066"/>
                </a:solidFill>
                <a:latin typeface="Monotype Corsiva"/>
              </a:rPr>
              <a:t>Молодцы!!!</a:t>
            </a:r>
            <a:endParaRPr b="0" lang="en-US" sz="7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27" name="Picture 5" descr="C:\Users\Учитель10\Desktop\uchebnye_posobija.jpg"/>
          <p:cNvPicPr/>
          <p:nvPr/>
        </p:nvPicPr>
        <p:blipFill>
          <a:blip r:embed="rId1"/>
          <a:stretch/>
        </p:blipFill>
        <p:spPr>
          <a:xfrm>
            <a:off x="4145040" y="2197080"/>
            <a:ext cx="366696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11280" y="1988640"/>
            <a:ext cx="7704000" cy="35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000066"/>
                </a:solidFill>
                <a:latin typeface="Bookman Old Style"/>
              </a:rPr>
              <a:t>Спасибо за внимание.</a:t>
            </a:r>
            <a:r>
              <a:rPr b="1" lang="ru-RU" sz="4000" spc="-1" strike="noStrike">
                <a:solidFill>
                  <a:srgbClr val="404040"/>
                </a:solidFill>
                <a:latin typeface="Bookman Old Style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Bookman Old Style"/>
              </a:rPr>
              <a:t>...Чтобы хорошо писать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Bookman Old Style"/>
              </a:rPr>
              <a:t>надо хорошо знать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Bookman Old Style"/>
              </a:rPr>
              <a:t>свой родной язык.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Bookman Old Style"/>
              </a:rPr>
              <a:t>                      М. Горький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-360" y="2276280"/>
            <a:ext cx="889308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Bookman Old Style"/>
              </a:rPr>
              <a:t>Правописание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парных согласных</a:t>
            </a:r>
            <a:r>
              <a:rPr b="0" lang="ru-RU" sz="54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Bookman Old Style"/>
              </a:rPr>
              <a:t> в корне слова </a:t>
            </a:r>
            <a:endParaRPr b="0" lang="en-US" sz="54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02" name="Picture 6" descr="C:\Users\Учитель10\Desktop\Без названия.jpg"/>
          <p:cNvPicPr/>
          <p:nvPr/>
        </p:nvPicPr>
        <p:blipFill>
          <a:blip r:embed="rId1"/>
          <a:stretch/>
        </p:blipFill>
        <p:spPr>
          <a:xfrm>
            <a:off x="5867280" y="2997360"/>
            <a:ext cx="27846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813744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Bookman Old Style"/>
              </a:rPr>
              <a:t>Парные согласные – </a:t>
            </a:r>
            <a:br>
              <a:rPr sz="3200"/>
            </a:br>
            <a:r>
              <a:rPr b="1" i="1" lang="ru-RU" sz="3200" spc="-1" strike="noStrike">
                <a:solidFill>
                  <a:srgbClr val="404040"/>
                </a:solidFill>
                <a:latin typeface="Bookman Old Style"/>
              </a:rPr>
              <a:t>Самые опасные!</a:t>
            </a:r>
            <a:br>
              <a:rPr sz="3200"/>
            </a:br>
            <a:r>
              <a:rPr b="0" lang="ru-RU" sz="3200" spc="-1" strike="noStrike">
                <a:solidFill>
                  <a:srgbClr val="404040"/>
                </a:solidFill>
                <a:latin typeface="Bookman Old Style"/>
              </a:rPr>
              <a:t>Звук согласный проверяй –</a:t>
            </a:r>
            <a:r>
              <a:rPr b="0" i="1" lang="ru-RU" sz="3200" spc="-1" strike="noStrike">
                <a:solidFill>
                  <a:srgbClr val="404040"/>
                </a:solidFill>
                <a:latin typeface="Bookman Old Style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404040"/>
                </a:solidFill>
                <a:latin typeface="Bookman Old Style"/>
              </a:rPr>
              <a:t>Рядом</a:t>
            </a:r>
            <a:r>
              <a:rPr b="0" i="1" lang="ru-RU" sz="3200" spc="-1" strike="noStrike">
                <a:solidFill>
                  <a:srgbClr val="404040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404040"/>
                </a:solidFill>
                <a:latin typeface="Bookman Old Style"/>
              </a:rPr>
              <a:t>гласный</a:t>
            </a:r>
            <a:r>
              <a:rPr b="0" i="1" lang="ru-RU" sz="3200" spc="-1" strike="noStrike">
                <a:solidFill>
                  <a:srgbClr val="404040"/>
                </a:solidFill>
                <a:latin typeface="Bookman Old Style"/>
              </a:rPr>
              <a:t>   </a:t>
            </a:r>
            <a:br>
              <a:rPr sz="3200"/>
            </a:br>
            <a:r>
              <a:rPr b="0" i="1" lang="ru-RU" sz="3200" spc="-1" strike="noStrike">
                <a:solidFill>
                  <a:srgbClr val="404040"/>
                </a:solidFill>
                <a:latin typeface="Bookman Old Style"/>
              </a:rPr>
              <a:t>                         </a:t>
            </a:r>
            <a:r>
              <a:rPr b="0" lang="ru-RU" sz="3200" spc="-1" strike="noStrike">
                <a:solidFill>
                  <a:srgbClr val="404040"/>
                </a:solidFill>
                <a:latin typeface="Bookman Old Style"/>
              </a:rPr>
              <a:t>подставляй!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04" name="Picture 5" descr="C:\Users\Учитель10\Desktop\images.jpg"/>
          <p:cNvPicPr/>
          <p:nvPr/>
        </p:nvPicPr>
        <p:blipFill>
          <a:blip r:embed="rId1"/>
          <a:stretch/>
        </p:blipFill>
        <p:spPr>
          <a:xfrm>
            <a:off x="5940360" y="4429080"/>
            <a:ext cx="22860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AutoShape 19"/>
          <p:cNvSpPr/>
          <p:nvPr/>
        </p:nvSpPr>
        <p:spPr>
          <a:xfrm rot="1363800">
            <a:off x="5230440" y="131400"/>
            <a:ext cx="3673440" cy="2592360"/>
          </a:xfrm>
          <a:prstGeom prst="cloudCallout">
            <a:avLst>
              <a:gd name="adj1" fmla="val 54226"/>
              <a:gd name="adj2" fmla="val 56384"/>
            </a:avLst>
          </a:prstGeom>
          <a:solidFill>
            <a:srgbClr val="c1ec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18"/>
          <p:cNvSpPr/>
          <p:nvPr/>
        </p:nvSpPr>
        <p:spPr>
          <a:xfrm>
            <a:off x="2771640" y="2133720"/>
            <a:ext cx="3672000" cy="2592360"/>
          </a:xfrm>
          <a:prstGeom prst="cloudCallout">
            <a:avLst>
              <a:gd name="adj1" fmla="val 33226"/>
              <a:gd name="adj2" fmla="val 46078"/>
            </a:avLst>
          </a:prstGeom>
          <a:solidFill>
            <a:srgbClr val="c1ec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7"/>
          <p:cNvSpPr/>
          <p:nvPr/>
        </p:nvSpPr>
        <p:spPr>
          <a:xfrm>
            <a:off x="179280" y="189000"/>
            <a:ext cx="3888000" cy="2592360"/>
          </a:xfrm>
          <a:prstGeom prst="cloudCallout">
            <a:avLst>
              <a:gd name="adj1" fmla="val 43138"/>
              <a:gd name="adj2" fmla="val 19134"/>
            </a:avLst>
          </a:prstGeom>
          <a:solidFill>
            <a:srgbClr val="c1ec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826920" y="836640"/>
            <a:ext cx="2303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ло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ж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Bookman Old Style"/>
              </a:rPr>
              <a:t>к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ко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ш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Bookman Old Style"/>
              </a:rPr>
              <a:t>к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3348000" y="2565360"/>
            <a:ext cx="266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рука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в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ч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шка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ф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ч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5796000" y="1073160"/>
            <a:ext cx="23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6"/>
          <p:cNvSpPr/>
          <p:nvPr/>
        </p:nvSpPr>
        <p:spPr>
          <a:xfrm>
            <a:off x="6227640" y="692280"/>
            <a:ext cx="216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зу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б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ц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ку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п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ц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2" descr="C:\Users\Учитель10\Desktop\Без названия (1).jpg"/>
          <p:cNvPicPr/>
          <p:nvPr/>
        </p:nvPicPr>
        <p:blipFill>
          <a:blip r:embed="rId1"/>
          <a:stretch/>
        </p:blipFill>
        <p:spPr>
          <a:xfrm>
            <a:off x="6438960" y="458136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"/>
          <p:cNvGraphicFramePr/>
          <p:nvPr/>
        </p:nvGraphicFramePr>
        <p:xfrm>
          <a:off x="395280" y="1700280"/>
          <a:ext cx="8229600" cy="3389400"/>
        </p:xfrm>
        <a:graphic>
          <a:graphicData uri="http://schemas.openxmlformats.org/drawingml/2006/table">
            <a:tbl>
              <a:tblPr/>
              <a:tblGrid>
                <a:gridCol w="1944720"/>
                <a:gridCol w="1871640"/>
                <a:gridCol w="1297080"/>
                <a:gridCol w="1584360"/>
                <a:gridCol w="1531800"/>
              </a:tblGrid>
              <a:tr h="5814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рове-ряемые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лов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роверочные слов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ec76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ec7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5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о 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 ... 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а ... 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4" name="Text Box 120"/>
          <p:cNvSpPr/>
          <p:nvPr/>
        </p:nvSpPr>
        <p:spPr>
          <a:xfrm>
            <a:off x="468360" y="189000"/>
            <a:ext cx="8675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Bookman Old Style"/>
              </a:rPr>
              <a:t>Способы провер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Bookman Old Style"/>
              </a:rPr>
              <a:t>правописания парных соглас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121" descr="C:\Users\Учитель10\Desktop\Без названия (1).jpg"/>
          <p:cNvPicPr/>
          <p:nvPr/>
        </p:nvPicPr>
        <p:blipFill>
          <a:blip r:embed="rId1"/>
          <a:stretch/>
        </p:blipFill>
        <p:spPr>
          <a:xfrm>
            <a:off x="6516720" y="494172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457200" y="274680"/>
          <a:ext cx="8435880" cy="4287960"/>
        </p:xfrm>
        <a:graphic>
          <a:graphicData uri="http://schemas.openxmlformats.org/drawingml/2006/table">
            <a:tbl>
              <a:tblPr/>
              <a:tblGrid>
                <a:gridCol w="1944720"/>
                <a:gridCol w="1871640"/>
                <a:gridCol w="1593720"/>
                <a:gridCol w="1287720"/>
                <a:gridCol w="1738080"/>
              </a:tblGrid>
              <a:tr h="5814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рове-ряемые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лов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роверочные слов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зме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ение чис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(формы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ec76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днокоренные сл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ec7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8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о 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 ... 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а ... 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17" name="Picture 160" descr="C:\Users\Учитель10\Desktop\Без названия (1).jpg"/>
          <p:cNvPicPr/>
          <p:nvPr/>
        </p:nvPicPr>
        <p:blipFill>
          <a:blip r:embed="rId1"/>
          <a:stretch/>
        </p:blipFill>
        <p:spPr>
          <a:xfrm>
            <a:off x="6443640" y="486900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8" name=""/>
          <p:cNvGraphicFramePr/>
          <p:nvPr/>
        </p:nvGraphicFramePr>
        <p:xfrm>
          <a:off x="324000" y="274680"/>
          <a:ext cx="8362800" cy="4230720"/>
        </p:xfrm>
        <a:graphic>
          <a:graphicData uri="http://schemas.openxmlformats.org/drawingml/2006/table">
            <a:tbl>
              <a:tblPr/>
              <a:tblGrid>
                <a:gridCol w="2030400"/>
                <a:gridCol w="1712880"/>
                <a:gridCol w="1512720"/>
                <a:gridCol w="1411200"/>
                <a:gridCol w="1695600"/>
              </a:tblGrid>
              <a:tr h="5814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рове-ряемые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лов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роверочные слов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зме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ение чис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(формы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ec76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днокоренные сл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ec7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8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щест-витель-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г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лага-тель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о 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 ... 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а ... 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19" name="Picture 154" descr="C:\Users\Учитель10\Desktop\Без названия (1).jpg"/>
          <p:cNvPicPr/>
          <p:nvPr/>
        </p:nvPicPr>
        <p:blipFill>
          <a:blip r:embed="rId1"/>
          <a:stretch/>
        </p:blipFill>
        <p:spPr>
          <a:xfrm>
            <a:off x="6300720" y="472428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179280" y="260280"/>
          <a:ext cx="8785440" cy="4429080"/>
        </p:xfrm>
        <a:graphic>
          <a:graphicData uri="http://schemas.openxmlformats.org/drawingml/2006/table">
            <a:tbl>
              <a:tblPr/>
              <a:tblGrid>
                <a:gridCol w="2108160"/>
                <a:gridCol w="1710000"/>
                <a:gridCol w="1511280"/>
                <a:gridCol w="1655640"/>
                <a:gridCol w="1800360"/>
              </a:tblGrid>
              <a:tr h="5814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рове-ряемые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лов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роверочные слов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зме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ение чис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(формы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ec76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днокоренные сл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ec7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8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ущест-витель-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лаг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рилага-тель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оро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Bookman Old Style"/>
                        </a:rPr>
                        <a:t>з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оро</a:t>
                      </a: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Bookman Old Style"/>
                        </a:rPr>
                        <a:t>з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оро</a:t>
                      </a: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Bookman Old Style"/>
                        </a:rPr>
                        <a:t>з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е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ц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оро</a:t>
                      </a: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Bookman Old Style"/>
                        </a:rPr>
                        <a:t>з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оро</a:t>
                      </a: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Bookman Old Style"/>
                        </a:rPr>
                        <a:t>з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ы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ы ... 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ка ... 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1" name="Picture 169" descr="C:\Users\Учитель10\Desktop\Без названия (1).jpg"/>
          <p:cNvPicPr/>
          <p:nvPr/>
        </p:nvPicPr>
        <p:blipFill>
          <a:blip r:embed="rId1"/>
          <a:stretch/>
        </p:blipFill>
        <p:spPr>
          <a:xfrm>
            <a:off x="6516720" y="494172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09:40:49Z</dcterms:created>
  <dc:creator>ира</dc:creator>
  <dc:description/>
  <dc:language>en-US</dc:language>
  <cp:lastModifiedBy>Учитель10</cp:lastModifiedBy>
  <dcterms:modified xsi:type="dcterms:W3CDTF">2017-08-21T06:33:04Z</dcterms:modified>
  <cp:revision>10</cp:revision>
  <dc:subject/>
  <dc:title>Правописание  парных согласных   в корне слова </dc:title>
</cp:coreProperties>
</file>