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A9039-FB3B-4CFE-AAF3-2844A7BF42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A16B7-2F19-4EA4-A304-E3ED20B4AE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D2A54-D635-4F28-B4D7-5E6C46B92B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64E-C15E-4023-B765-31066B29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473-844D-4922-8811-C5E2A082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A25-7754-48C5-906C-F8909360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390-ED32-4E47-AB9D-D2A742B3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959-7481-4201-A934-C58F93B5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B9A-AB43-4B51-A89F-E8E157AA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2FD-7822-4B1B-8C51-73415B53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0D4-83F2-428D-B9EE-CDC01886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742-461A-4DB1-9985-89798B4D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F9E-FF85-4469-BAA9-14482856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4AB-148B-4170-A1D8-5EF98E38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7FE-AB5F-43A4-B91E-A66756E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57EA8D-4FE1-4B91-AB0F-7B2007D47A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76360" y="226440"/>
            <a:ext cx="6767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аемые родите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384720" y="1188720"/>
            <a:ext cx="4321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cccff"/>
                </a:solidFill>
                <a:latin typeface="Arial"/>
              </a:rPr>
              <a:t>С 1 сентября 2011 года все образовательные учреждения России перешли на новый Федеральный государственный образовательный стандарт начального общего образования (ФГОС НОО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2920" y="1332000"/>
            <a:ext cx="90694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яду с традиционным письм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сразу начинает осваивать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авиатурный набор тек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будут использоваться различные источники информации, в том числе, в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1258560"/>
            <a:ext cx="90694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Что такое обучение деятельност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7280" y="2123640"/>
            <a:ext cx="950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-ом классе реализуется цикл проектов, участвуя в которых,  дети знакомятся друг с другом, обмениваются информацией о себе, о школе, о своих интересах и увлечен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, например, проек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и мое им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оя семь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здание Азбуки и многое друг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6920" y="1332000"/>
            <a:ext cx="90694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интегрированный подход к обуч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2411280"/>
            <a:ext cx="906948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й подход к обучению предполагает активное использование знаний, полученных при изучении одного предмета, на уроках по другим предметам. Например, на уроке русского языка идет работа над текстами-описаниями, эта же работа продолжается на уроке окружающего мира, например, в связи с изучением времен года. Результатом этой деятельности становится проект, например, видеорепортаж, описывающий картины природы, природные явления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6360" y="1186920"/>
            <a:ext cx="906912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внеурочная деятельность, каковы ее особеннос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2339640"/>
            <a:ext cx="9361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иться требуемых образовательных  результатов только на уроке нельзя. Поэтому очень важно, чтобы ребенок посещал специальные занятия во второй половине дня (внеурочную деятельнос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 внеурочную деятельность могут входит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уальные занятия учителя с детьми, требующими психолого-педагогической  и коррекционной поддержки (в том числе – индивидуальные занятия по постановке устной речи, почерка и письменной речи и т.д.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скурсии, кружки, секции, олимпиады, соревнова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исковые исследования и выполнение проек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ка родителям первоклас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ивайте в ребёнке его стремление стать школьником. Ваша искренняя заинтересованность в его школьных делах и заботах, серьёзное отношение к его первым достижениям и возможным трудностям помогут первокласснику подтвердить значимость его нового положения 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дите с ребёнком те правила и нормы, с которыми он встретится в школе. Объясните их необходимость и целесообраз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ш ребёнок пришёл в школу, чтобы учиться. Когда человек учится, у него может что-то не получаться – это естественно. Ребёнок имеет право на ошиб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вместе с первоклассником распорядок дня, следите за его соблю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ивайте первоклассника в его желании добиться успеха. В каждой работе обязательно найдите за что можно было бы его похва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ас что-то беспокоит в поведении ребёнка. Его учебных делах, не стесняйтесь обращаться за советом и консультацией к педагогу или школьному психол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не должен панически бояться ошибиться. Помните. невозможно научиться чему-то не ошиба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равнивайте ребёнка с другими, признайте за ребёнком право на индивид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ступлением в школу в жизни вашего ребёнка появился человек более авторитетный, чем Вы. Это учитель. Уважайте мнение первоклассника о своём педаг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щании не напутствуйте ребёнка: «Смотри. Не балуйся» или « Чтобы сегодня не было плохих отметок». Лучше будет, если вы пожелаете ему удачи. Найдёте несколько ласковых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упление в школу существенно меняет жизнь ребёнка, но не должно лишать его многообразия, радости, игры. У первоклассника должно оставаться достаточно времени для игровых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a-RU" sz="3200" spc="-1" strike="noStrike">
                <a:solidFill>
                  <a:srgbClr val="3333cc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76360" y="1485360"/>
            <a:ext cx="89280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ая цель в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едеральных Государственных образовательных стандартов начального общего образования (ФГОС НОО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ышение качества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1331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Федеральный государственный стандарт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ачального общего образ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843280"/>
            <a:ext cx="906948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- совокупность требований, которые обязательно должна выполнить каждая школа, организуя процесс обучен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1186920"/>
            <a:ext cx="9069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2195280"/>
            <a:ext cx="906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арты  первого поколения               Стандарты второго пок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, давать знания                                 Развивать 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но и 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вить цель и добиваться е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о добывать и применять зн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авлять план своих действий и самостоятельно оценивать их посл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вать вопрос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сно выражать свои мысл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ботиться о других, быть нравственным челове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хранять и укреплять своё здоровь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ом обществе главными стали не знания, а умения ими пользовать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31640" y="4140360"/>
            <a:ext cx="9288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1332000"/>
            <a:ext cx="4272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27640" y="125892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63640" y="5796000"/>
            <a:ext cx="4176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287280" y="586728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256360" y="586728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977080" y="5940360"/>
            <a:ext cx="4103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7280" y="1979640"/>
            <a:ext cx="403236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208480" y="1979640"/>
            <a:ext cx="487224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.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здает ситуацию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Учен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87640" y="2195640"/>
            <a:ext cx="12844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887640" y="2987640"/>
            <a:ext cx="129564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3887640" y="3780000"/>
            <a:ext cx="13446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3816360" y="4788000"/>
            <a:ext cx="14050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1079640" y="5229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яется и 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31640" y="1258920"/>
            <a:ext cx="2689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400720" y="118728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92000" y="5219640"/>
            <a:ext cx="4872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87280" y="529272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5688000" y="543564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6408720" y="5219640"/>
            <a:ext cx="39481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87280" y="2124000"/>
            <a:ext cx="453564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Успешный ученик тот – кто читает весь учебник и выполняет все задания – «от корки до кор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822920" y="2124000"/>
            <a:ext cx="5257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я и тексты в учебнике   даны с избытком – для выб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4968720" y="3274920"/>
            <a:ext cx="53769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1152360" y="4642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19280" y="536400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84240" y="5764320"/>
            <a:ext cx="583920" cy="5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968720" y="579600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88000" y="543564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60360" y="2124000"/>
            <a:ext cx="420048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703760" y="2050920"/>
            <a:ext cx="537696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1152360" y="4858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719280" y="4859280"/>
            <a:ext cx="41162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84240" y="5375160"/>
            <a:ext cx="583920" cy="5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208480" y="537516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5796000" y="4932360"/>
            <a:ext cx="42847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16000" y="2266920"/>
            <a:ext cx="4608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968720" y="2266920"/>
            <a:ext cx="45356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1079640" y="3924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63640" y="1332000"/>
            <a:ext cx="7980480" cy="5330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04720" y="6904080"/>
            <a:ext cx="20163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>Тимур</dc:creator>
  <dc:description/>
  <dc:language>en-US</dc:language>
  <cp:lastModifiedBy>Тимур</cp:lastModifiedBy>
  <dcterms:modified xsi:type="dcterms:W3CDTF">2017-08-21T07:49:58Z</dcterms:modified>
  <cp:revision>22</cp:revision>
  <dc:subject/>
  <dc:title>Слайд 1</dc:title>
</cp:coreProperties>
</file>