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7E29E9-1420-449D-BE82-5DC5BABC280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BBDC5-11BF-4A65-B219-8BA3A50B256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20B382-149E-449E-B1BF-E4DE8A0691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1585-BD45-4EB4-A8C2-702C3A30F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B4AE-114C-422D-A1FE-9758F747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42AF-4464-47CA-B6E2-B15F13281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EB6E-EC65-4291-98DA-5B1D4EDB6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B895-D6D7-4836-B9D1-02DB0305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0188-519E-48BC-B268-611BFDD4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9E5C-5ED9-4794-AE57-D24FE85D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9FDE-1003-435B-B990-CC671491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445D-4917-4212-B45C-A071BFD1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715B-814A-4815-AA0C-3182E822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94CD-5B6F-42EB-94FF-57CA17D4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F5EA-E127-4446-A930-90D8400A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40B4485-8B81-4F28-95C9-E3471714D34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376360" y="226440"/>
            <a:ext cx="67676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важаемые родител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384720" y="1188720"/>
            <a:ext cx="43210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ccccff"/>
                </a:solidFill>
                <a:latin typeface="Arial"/>
              </a:rPr>
              <a:t>С 1 сентября 2011 года все образовательные учреждения России перешли на новый Федеральный государственный образовательный стандарт начального общего образования (ФГОС НОО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02920" y="1332000"/>
            <a:ext cx="906948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личительной особенностью начала обучения является то, ч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ряду с традиционным письм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бенок сразу начинает осваивать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лавиатурный набор текс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онтексте изучения всех предметов будут использоваться различные источники информации, в том числе, в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рн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1258560"/>
            <a:ext cx="90694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Что такое обучение деятельностью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7280" y="2123640"/>
            <a:ext cx="95061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-ом классе реализуется цикл проектов, участвуя в которых,  дети знакомятся друг с другом, обмениваются информацией о себе, о школе, о своих интересах и увлечения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, например, проек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Я и мое имя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Моя семья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местное издание Азбуки и многое друго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6920" y="1332000"/>
            <a:ext cx="906948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Что такое интегрированный подход к обучени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2411280"/>
            <a:ext cx="9069480" cy="434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грированный подход к обучению предполагает активное использование знаний, полученных при изучении одного предмета, на уроках по другим предметам. Например, на уроке русского языка идет работа над текстами-описаниями, эта же работа продолжается на уроке окружающего мира, например, в связи с изучением времен года. Результатом этой деятельности становится проект, например, видеорепортаж, описывающий картины природы, природные явления и т.п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6360" y="1186920"/>
            <a:ext cx="906912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Что такое внеурочная деятельность, каковы ее особенности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2339640"/>
            <a:ext cx="936144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биться требуемых образовательных  результатов только на уроке нельзя. Поэтому очень важно, чтобы ребенок посещал специальные занятия во второй половине дня (внеурочную деятельность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  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о внеурочную деятельность могут входить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дивидуальные занятия учителя с детьми, требующими психолого-педагогической  и коррекционной поддержки (в том числе – индивидуальные занятия по постановке устной речи, почерка и письменной речи и т.д.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кскурсии, кружки, секции, олимпиады, соревнования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исковые исследования и выполнение проек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    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амятка родителям первокласс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3000"/>
          </a:bodyPr>
          <a:p>
            <a:pPr marL="318960" indent="-3189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держивайте в ребёнке его стремление стать школьником. Ваша искренняя заинтересованность в его школьных делах и заботах, серьёзное отношение к его первым достижениям и возможным трудностям помогут первокласснику подтвердить значимость его нового положения и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судите с ребёнком те правила и нормы, с которыми он встретится в школе. Объясните их необходимость и целесообраз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ш ребёнок пришёл в школу, чтобы учиться. Когда человек учится, у него может что-то не получаться – это естественно. Ребёнок имеет право на ошиб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ьте вместе с первоклассником распорядок дня, следите за его соблюд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держивайте первоклассника в его желании добиться успеха. В каждой работе обязательно найдите за что можно было бы его похвал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Вас что-то беспокоит в поведении ребёнка. Его учебных делах, не стесняйтесь обращаться за советом и консультацией к педагогу или школьному психол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бёнок не должен панически бояться ошибиться. Помните. невозможно научиться чему-то не ошибая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сравнивайте ребёнка с другими, признайте за ребёнком право на индивидуа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поступлением в школу в жизни вашего ребёнка появился человек более авторитетный, чем Вы. Это учитель. Уважайте мнение первоклассника о своём педагог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прощании не напутствуйте ребёнка: «Смотри. Не балуйся» или « Чтобы сегодня не было плохих отметок». Лучше будет, если вы пожелаете ему удачи. Найдёте несколько ласковых с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упление в школу существенно меняет жизнь ребёнка, но не должно лишать его многообразия, радости, игры. У первоклассника должно оставаться достаточно времени для игровых зан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ba-RU" sz="3200" spc="-1" strike="noStrike">
                <a:solidFill>
                  <a:srgbClr val="3333cc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576360" y="1485360"/>
            <a:ext cx="8928000" cy="34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авная цель введ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едеральных Государственных образовательных стандартов начального общего образования (ФГОС НОО)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вышение качества образ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13316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Что такое </a:t>
            </a:r>
            <a:br>
              <a:rPr sz="3200"/>
            </a:b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Федеральный государственный стандарт</a:t>
            </a:r>
            <a:br>
              <a:rPr sz="3200"/>
            </a:b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начального общего образов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2843280"/>
            <a:ext cx="906948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- совокупность требований, которые обязательно должна выполнить каждая школа, организуя процесс обучения и вос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1280" y="1186920"/>
            <a:ext cx="906948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Что является отличительной особенностью нового Стандар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6360" y="2195280"/>
            <a:ext cx="9069120" cy="4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ндарты  первого поколения               Стандарты второго поко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ть, давать знания                                 Развивать ум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ю школы становятся не только знания, но и  ум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авить цель и добиваться е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амостоятельно добывать и применять зн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ставлять план своих действий и самостоятельно оценивать их последств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давать вопросы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сно выражать свои мысл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ботиться о других, быть нравственным человек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хранять и укреплять своё здоровь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формационном обществе главными стали не знания, а умения ими пользоваться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431640" y="4140360"/>
            <a:ext cx="9288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0" y="1332000"/>
            <a:ext cx="427212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Так учили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327640" y="1258920"/>
            <a:ext cx="42004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Так будут учит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863640" y="5796000"/>
            <a:ext cx="417672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Не заставляйте ребенка заучивать учебник и искать готовые ответы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1"/>
          <a:stretch/>
        </p:blipFill>
        <p:spPr>
          <a:xfrm>
            <a:off x="287280" y="5867280"/>
            <a:ext cx="584280" cy="534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"/>
          <p:cNvPicPr/>
          <p:nvPr/>
        </p:nvPicPr>
        <p:blipFill>
          <a:blip r:embed="rId2"/>
          <a:stretch/>
        </p:blipFill>
        <p:spPr>
          <a:xfrm>
            <a:off x="5256360" y="5867280"/>
            <a:ext cx="585720" cy="5461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5977080" y="5940360"/>
            <a:ext cx="4103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Текст нужно понять и уметь использовать!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287280" y="1979640"/>
            <a:ext cx="4032360" cy="30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оверяет Д/з.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чени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выучил – пересказал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ъявляет новую т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чител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ясняет новую тему («сиди и слушай!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оверяет, как поняли «повтори!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5208480" y="1979640"/>
            <a:ext cx="4872240" cy="30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.Учен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ами вспоминают знания, которые пригодя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здает ситуацию.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Ученик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ют тему, вопро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чен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ами открывают новые знания (в диалоге с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чител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учебник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чен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елают вывод по те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3887640" y="2195640"/>
            <a:ext cx="1284480" cy="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3887640" y="2987640"/>
            <a:ext cx="1295640" cy="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>
            <a:off x="3887640" y="3780000"/>
            <a:ext cx="1344600" cy="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6"/>
          <p:cNvSpPr/>
          <p:nvPr/>
        </p:nvSpPr>
        <p:spPr>
          <a:xfrm>
            <a:off x="3816360" y="4788000"/>
            <a:ext cx="1405080" cy="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1079640" y="5229000"/>
            <a:ext cx="756108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няется и роль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431640" y="1258920"/>
            <a:ext cx="268956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Так учили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5400720" y="1187280"/>
            <a:ext cx="42004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Так будут учит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792000" y="5219640"/>
            <a:ext cx="487224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Не требуйте, чтобы ребенок читал и выполнял все, что есть в учебнике!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287280" y="5292720"/>
            <a:ext cx="584280" cy="534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5688000" y="5435640"/>
            <a:ext cx="585720" cy="5461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>
            <a:off x="6408720" y="5219640"/>
            <a:ext cx="394812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Нужно учиться выбирать главное и интересное!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287280" y="2124000"/>
            <a:ext cx="4535640" cy="16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Успешный ученик тот – кто читает весь учебник и выполняет все задания – «от корки до корки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4822920" y="2124000"/>
            <a:ext cx="525780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дания и тексты в учебнике   даны с избытком – для выбор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4968720" y="3274920"/>
            <a:ext cx="53769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контрольных спрашивается только малая часть того, что есть в учебник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7"/>
          <p:cNvSpPr/>
          <p:nvPr/>
        </p:nvSpPr>
        <p:spPr>
          <a:xfrm>
            <a:off x="1152360" y="4642920"/>
            <a:ext cx="75614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ль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287280" y="1332000"/>
            <a:ext cx="41166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к уч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4753080" y="1258920"/>
            <a:ext cx="453528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к будут 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719280" y="5364000"/>
            <a:ext cx="4116240" cy="17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Нельзя останавливать ребенка словами: «Мал еще, взрослые лучше знают!»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84240" y="5764320"/>
            <a:ext cx="583920" cy="53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4968720" y="5796000"/>
            <a:ext cx="584280" cy="5461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5688000" y="5435640"/>
            <a:ext cx="4116240" cy="17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Поддержите ребенка, если он высказывает и аргументирует свою точку зрения.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60360" y="2124000"/>
            <a:ext cx="4200480" cy="26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учебнике всегда есть один правильный ответ!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учебнике излагается одна «правильная» точка зре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4703760" y="2050920"/>
            <a:ext cx="537696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асто в учебнике нет готового ответа, его надо создать самим, опираясь на текст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чти на любой творческий вопрос может быть несколько правильных ответ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1152360" y="4858920"/>
            <a:ext cx="75614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ль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719280" y="4859280"/>
            <a:ext cx="411624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Не надо делать за ребенка домашнее задание и другие дела, которые он может сделать сам.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84240" y="5375160"/>
            <a:ext cx="583920" cy="536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2"/>
          <a:stretch/>
        </p:blipFill>
        <p:spPr>
          <a:xfrm>
            <a:off x="5208480" y="5375160"/>
            <a:ext cx="584280" cy="5461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7"/>
          <p:cNvSpPr/>
          <p:nvPr/>
        </p:nvSpPr>
        <p:spPr>
          <a:xfrm>
            <a:off x="5796000" y="4932360"/>
            <a:ext cx="428472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Поддержите стремление ребенка быть самостоятельным.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216000" y="2266920"/>
            <a:ext cx="46083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Если не успел что-то сделать на уроке – дома с родителями разберешься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4968720" y="2266920"/>
            <a:ext cx="453564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машнее задание – это способ развития самостоятельн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287280" y="1332000"/>
            <a:ext cx="41166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к уч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753080" y="1258920"/>
            <a:ext cx="453528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к будут 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1079640" y="3924000"/>
            <a:ext cx="756108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ль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863640" y="1332000"/>
            <a:ext cx="7980480" cy="53308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504720" y="6904080"/>
            <a:ext cx="201636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5:18:47Z</dcterms:created>
  <dc:creator>Тимур</dc:creator>
  <dc:description/>
  <dc:language>en-US</dc:language>
  <cp:lastModifiedBy>Тимур</cp:lastModifiedBy>
  <dcterms:modified xsi:type="dcterms:W3CDTF">2017-08-21T07:49:58Z</dcterms:modified>
  <cp:revision>22</cp:revision>
  <dc:subject/>
  <dc:title>Слайд 1</dc:title>
</cp:coreProperties>
</file>