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gla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717-D3FA-4F68-A3A2-F1E625AD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C13-E8C1-428D-A30B-A4951D39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E3D-DBE8-460B-BE99-FE6631B0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408-1E1A-4A11-81A5-084B625B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0ABE-C467-47D8-B6A2-17615A33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3C0D-2212-4840-AE7C-0EEC358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832-04D8-451B-A4D2-029E8BD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047C-8FC4-412D-9A3D-9ADFF27B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E80F-7F5C-456D-AAB3-78D6F1BA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D4A7-E9DC-4C9D-8C5D-463DE95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4143-E901-400D-9629-FF88B23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214-CB3A-4DF8-A78C-1CBCD27D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245-A033-4AA4-89A7-C135E14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669-3002-4DC7-B7F4-1920B07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693-E4F1-4D05-9BA0-29D9E4A6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2286-6581-41C0-832D-55B80F4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1CB7-36EB-47FD-B228-1CDEB39C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45F-A7A2-4FF2-B9FD-894FB24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76E-EAE5-400B-A713-859F9504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7E8-9F62-4193-8EE5-8E33D56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BA-1B89-45D5-9061-54D8BFBC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D87-8F3F-45D0-884F-F73752B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041-24E4-4989-AE0C-18C95D7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E42-A989-43CB-AC1F-6643226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55C-4D86-497F-800C-598304F2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6D66-22DE-4ED2-9F0D-8DB078A0A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ТЕСТ    ПО    РУССКОМУ ЯЗЫКУ</a:t>
            </a:r>
            <a:br>
              <a:rPr sz="20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35313"/>
                </a:solidFill>
                <a:latin typeface="Times New Roman"/>
              </a:rPr>
              <a:t>«ЗВУКИ И БУКВЫ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учебнику Л.М. Зелениной, Т.Е. Хохлов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сский язык. 1 класс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94004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5E0A-7459-48FE-A03B-7315A1B306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212-B52D-4F76-8444-1F5456A81A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284-4C7D-4C19-84F3-81AE407350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34D-0103-4090-ABB9-CD2FA18635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E4D-59C2-47FE-ABE4-CFC91C2C20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769-B091-4168-BC4D-7A84A14886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endshow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2B1-6468-45DA-93C5-8542FC9D9C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endshow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E39-230A-4963-AF98-B405B2AA91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bd83"/>
                </a:solidFill>
                <a:latin typeface="Times New Roman"/>
              </a:rPr>
              <a:t>Автор презентации  Валентина Миро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5313"/>
                </a:solidFill>
                <a:latin typeface="Times New Roman"/>
              </a:rPr>
              <a:t>Вы скачали презентацию на сайте – </a:t>
            </a:r>
            <a:r>
              <a:rPr b="0" lang="en-US" sz="2000" spc="-1" strike="noStrike">
                <a:solidFill>
                  <a:srgbClr val="835313"/>
                </a:solidFill>
                <a:latin typeface="Times New Roman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1D9-6E2E-4BFF-9833-29F512D3D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1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Что такое гласные звуки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1676520" y="2209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676520" y="4495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057400"/>
            <a:ext cx="556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звуки, при произношении 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 встречает преграду: зубы, гу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язы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114800"/>
            <a:ext cx="556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звуки, при произношении 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 свободно выходит изо рта и 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речает прегр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E55-55D0-4821-9B67-AF1BF6BC4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2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Verdana"/>
                <a:ea typeface="Times New Roman"/>
              </a:rPr>
              <a:t>Перечисли парные звонкие согласные</a:t>
            </a: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752480" y="2514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1752480" y="41911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, В, Г, Д, 3, 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, Ф, К, Т, С, 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99E-4660-4F86-8968-D5B6D6DFF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3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Перечисли сонорные согласные</a:t>
            </a: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828800" y="2209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495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, В, Г, Д, 3, 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800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, М, Н, Р, 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30D-2C88-4200-892F-D1302C122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4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Сколько гласных звуков в русском языке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495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9810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усском языке 6 гласных зву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, О, У, Ы, Э,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4197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усском языке 10 гласных зву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, Я, О, Ё, У, Ю, Ы, И, Э, 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B03-EB2F-413F-8D49-529A23B1F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5</a:t>
            </a:r>
            <a:br>
              <a:rPr sz="3200"/>
            </a:br>
            <a:r>
              <a:rPr b="1" lang="en-US" sz="2800" spc="-1" strike="noStrike">
                <a:solidFill>
                  <a:srgbClr val="221304"/>
                </a:solidFill>
                <a:latin typeface="Arial"/>
                <a:ea typeface="Times New Roman"/>
              </a:rPr>
              <a:t>Перечисли всегда мягкие согласные.</a:t>
            </a:r>
            <a:r>
              <a:rPr b="0" lang="en-US" sz="28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1337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8098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, Ш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191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, Щ, 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D6A-24A5-470E-B01B-1461D44173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350-22D0-4C26-8C82-578D90B22C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89B-2576-4092-BE04-A8FC3DC548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DB7-B68F-4EA1-8B0A-F130A91914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1</cp:lastModifiedBy>
  <dcterms:modified xsi:type="dcterms:W3CDTF">2008-05-27T15:57:20Z</dcterms:modified>
  <cp:revision>66</cp:revision>
  <dc:subject/>
  <dc:title>ТЕСТ  ПО РУССКОМУ ЯЗЫКУ по теме «ПРЕДЛОЖЕНИЕ»</dc:title>
</cp:coreProperties>
</file>