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gla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C62-C199-4DD2-8A7D-1CED2707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AE7-B34A-49C7-811B-2C8C6161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000-9193-46B0-A29E-9D355FA7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69C-8276-4BF3-9399-47AB11C2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85F0-D60F-45F1-8334-FAC7FFFE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90F5-0D06-40CA-9610-46FAF95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01B7-5238-4349-A1BD-65F5DD19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F4E9-99A2-46B3-ACB7-986C22B3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802A-62B5-4EB1-A3A3-26C9C643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2CD4-3123-444B-BAD4-F617E2A3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A32F-9361-4572-B93E-251C3A21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264-40CE-4497-BE69-20CF4BE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BCB6-64E7-47AD-BBD6-CBD8C494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05DC-942B-41B5-B22D-23592F15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10C7-1B02-4999-977C-9E1F1D31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A7FF-6B4B-424F-A75C-A6D42398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0B96-C8E7-4997-8149-D89E794F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C47-CC14-463B-B18E-68AFC9DB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C2A-5E48-4214-AD50-8393D7B5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554-04D3-4298-85CC-BDB79AD2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18C-4814-4724-9685-800C9352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FBB-6317-4FA5-AF91-7FE8C5A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297-1433-4B9D-A8AF-2BA6B8B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A7C-677F-4AD6-B6BD-7D19267A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04E1-54AB-484B-9FEB-6B47B66C1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5C3F-F373-4EA2-B0EA-B2D3898B5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ТЕСТ    ПО    РУССКОМУ ЯЗЫКУ</a:t>
            </a:r>
            <a:br>
              <a:rPr sz="20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835313"/>
                </a:solidFill>
                <a:latin typeface="Times New Roman"/>
              </a:rPr>
              <a:t>«ЗВУКИ И БУКВЫ»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учебнику Л.М. Зелениной, Т.Е. Хохлов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усский язык. 1 класс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94004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A31F-89B8-4F7D-BDDE-1468EDAF5C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4F2-2DA0-4D21-8427-23F5754ABC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397-AD5A-41CB-9C6F-2E414C99E6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FA8-8AAA-4322-A63B-EEF0F0D2532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A05-C397-46CF-A3D4-EA9C0AEF2F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B74-332C-4D86-A629-6E17CFB809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endshow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ст закон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B5D-EF2D-4BD5-AA47-E4EF60A663C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endshow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ст закон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FF8-25D4-484B-878B-13BC5E41CCF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конец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bd83"/>
                </a:solidFill>
                <a:latin typeface="Times New Roman"/>
              </a:rPr>
              <a:t>Автор презентации  Валентина Мирон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5313"/>
                </a:solidFill>
                <a:latin typeface="Times New Roman"/>
              </a:rPr>
              <a:t>Вы скачали презентацию на сайте – </a:t>
            </a:r>
            <a:r>
              <a:rPr b="0" lang="en-US" sz="2000" spc="-1" strike="noStrike">
                <a:solidFill>
                  <a:srgbClr val="835313"/>
                </a:solidFill>
                <a:latin typeface="Times New Roman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85A-DEF8-4218-B394-114FBB45E8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1</a:t>
            </a:r>
            <a:br>
              <a:rPr sz="3200"/>
            </a:b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Times New Roman"/>
              </a:rPr>
              <a:t>Что такое гласные звуки?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1676520" y="2209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1676520" y="4495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057400"/>
            <a:ext cx="556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звуки, при произношении котор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дух встречает преграду: зубы, гу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язы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114800"/>
            <a:ext cx="556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звуки, при произношении котор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дух свободно выходит изо рта и 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речает прегр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2F7-98BE-413B-8375-79223BB68F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2</a:t>
            </a:r>
            <a:br>
              <a:rPr sz="3200"/>
            </a:br>
            <a:r>
              <a:rPr b="1" lang="en-US" sz="2400" spc="-1" strike="noStrike">
                <a:solidFill>
                  <a:srgbClr val="221304"/>
                </a:solidFill>
                <a:latin typeface="Verdana"/>
                <a:ea typeface="Times New Roman"/>
              </a:rPr>
              <a:t>Перечисли парные звонкие согласные</a:t>
            </a: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1752480" y="2514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1752480" y="41911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, В, Г, Д, 3, 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, Ф, К, Т, С, 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271-EDCB-437F-AF14-5DC791D60B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3</a:t>
            </a:r>
            <a:br>
              <a:rPr sz="3200"/>
            </a:b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Times New Roman"/>
              </a:rPr>
              <a:t>Перечисли сонорные согласные</a:t>
            </a: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1828800" y="22096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4956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, В, Г, Д, 3, 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800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, М, Н, Р, 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3D1-A638-41DB-A9B3-F0427FEF9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4</a:t>
            </a:r>
            <a:br>
              <a:rPr sz="3200"/>
            </a:br>
            <a:r>
              <a:rPr b="1" lang="en-US" sz="2400" spc="-1" strike="noStrike">
                <a:solidFill>
                  <a:srgbClr val="221304"/>
                </a:solidFill>
                <a:latin typeface="Arial"/>
                <a:ea typeface="Times New Roman"/>
              </a:rPr>
              <a:t>Сколько гласных звуков в русском языке?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4956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98108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усском языке 6 гласных звук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, О, У, Ы, Э,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44197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усском языке 10 гласных звук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, Я, О, Ё, У, Ю, Ы, И, Э, 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D11-B7B3-4541-9DC0-4A8885F41C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Вопрос №5</a:t>
            </a:r>
            <a:br>
              <a:rPr sz="3200"/>
            </a:br>
            <a:r>
              <a:rPr b="1" lang="en-US" sz="2800" spc="-1" strike="noStrike">
                <a:solidFill>
                  <a:srgbClr val="221304"/>
                </a:solidFill>
                <a:latin typeface="Arial"/>
                <a:ea typeface="Times New Roman"/>
              </a:rPr>
              <a:t>Перечисли всегда мягкие согласные.</a:t>
            </a:r>
            <a:r>
              <a:rPr b="0" lang="en-US" sz="2800" spc="-1" strike="noStrike">
                <a:solidFill>
                  <a:srgbClr val="221304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1337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8098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, Ш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4191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, Щ, 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E83-CEBE-4909-96C0-9AA1838D8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CD9-F8BF-4A70-8AC2-28CD1701C73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1F8-D1DA-4F69-8FE1-08D2B8454D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Электронное пособие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CB8-B523-47D5-A016-037CF24EED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1</dc:creator>
  <dc:description/>
  <dc:language>en-US</dc:language>
  <cp:lastModifiedBy>1</cp:lastModifiedBy>
  <dcterms:modified xsi:type="dcterms:W3CDTF">2008-05-27T15:57:20Z</dcterms:modified>
  <cp:revision>66</cp:revision>
  <dc:subject/>
  <dc:title>ТЕСТ  ПО РУССКОМУ ЯЗЫКУ по теме «ПРЕДЛОЖЕНИЕ»</dc:title>
</cp:coreProperties>
</file>