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11B-F2EF-4398-8F34-BB2FC026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5E5-A625-4C6B-8C8A-2CD3CBAA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841-BD78-4B09-8511-CF3FBA91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CFE-1840-44B9-A4E9-AA631C98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10AC-119B-4F56-BE50-F1F48713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E94A-AB91-468F-882F-6FE5F57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C27C-C36A-433B-B438-1E26A6C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BD67-7B39-4D1C-82C8-D70E885F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D67F-907E-466B-9180-60D1921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B6D3-96E8-4A6A-99F8-5DA498B5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0E0-2504-4E43-91DB-A015D18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91B-C449-4B62-B5BA-80ACCCE2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ED3-8E8C-4D83-B3B1-3B3AF41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FAE9-4BD4-4B3A-A8E5-19EA04A7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5446-20DE-4770-864C-9F70A20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2B9-6DD9-4414-B06B-CD5E1DB9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FB6-0B9F-43F7-B1F8-57155C0E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91E-A6AE-4138-A7E1-07949C18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878-F077-427F-ACDB-F75EF24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3BE-3BA6-44CA-9A0F-DEF1444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1A0-7D39-4E0A-BC79-F5EF89F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ACE-D50B-4E0B-BF76-31918F1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846-937D-4147-971E-10B1BE9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FDA-BCB9-4FAF-88A0-40A8421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bde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a7b8"/>
                    </a:gs>
                    <a:gs pos="100000">
                      <a:srgbClr val="eaeb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c1a1a"/>
                    </a:gs>
                    <a:gs pos="100000">
                      <a:srgbClr val="66a7b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7c1a1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c1a1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EE9B-4A73-4DA8-9813-F8C41A5F06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600" y="245520"/>
            <a:ext cx="6896160" cy="5451480"/>
            <a:chOff x="201060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600" y="245520"/>
              <a:ext cx="6896160" cy="5451480"/>
              <a:chOff x="201060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600" y="245520"/>
                <a:ext cx="6891480" cy="5451480"/>
                <a:chOff x="2010600" y="245520"/>
                <a:chExt cx="689148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bde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eaebd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600" y="245520"/>
                  <a:ext cx="6891480" cy="5451480"/>
                  <a:chOff x="2010600" y="245520"/>
                  <a:chExt cx="689148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000"/>
                    <a:ext cx="2559600" cy="2742120"/>
                    <a:chOff x="5761440" y="2322000"/>
                    <a:chExt cx="2559600" cy="27421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940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5560" y="4146480"/>
                      <a:ext cx="1140120" cy="60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080" y="2148120"/>
                    <a:ext cx="3040560" cy="2529360"/>
                    <a:chOff x="5788080" y="2148120"/>
                    <a:chExt cx="304056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5600" cy="42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4160" y="3720600"/>
                      <a:ext cx="1199880" cy="67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240"/>
                    <a:chOff x="5776200" y="2065320"/>
                    <a:chExt cx="309636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3960" y="3246120"/>
                      <a:ext cx="114768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520"/>
                    <a:chOff x="5806080" y="1879920"/>
                    <a:chExt cx="2940120" cy="100152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0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920" cy="2530080"/>
                    <a:chOff x="2085120" y="2366640"/>
                    <a:chExt cx="304092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70360" y="2969640"/>
                      <a:ext cx="223560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39120"/>
                      <a:ext cx="120240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600"/>
                    <a:chOff x="2040480" y="2283480"/>
                    <a:chExt cx="309744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92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5360"/>
                      <a:ext cx="1149120" cy="58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600" y="2188440"/>
                    <a:ext cx="3134520" cy="1608120"/>
                    <a:chOff x="2010600" y="218844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88360"/>
                      <a:ext cx="1110600" cy="65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600"/>
                    <a:chOff x="216648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720"/>
                      <a:ext cx="190584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720"/>
                      <a:ext cx="102348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960" y="1786680"/>
                      <a:ext cx="152172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75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240"/>
                    <a:ext cx="2171160" cy="1508040"/>
                    <a:chOff x="3160800" y="831240"/>
                    <a:chExt cx="217116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680" y="335520"/>
                    <a:ext cx="1459800" cy="1885680"/>
                    <a:chOff x="4027680" y="335520"/>
                    <a:chExt cx="145980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4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880" y="245520"/>
                    <a:ext cx="1121760" cy="1945440"/>
                    <a:chOff x="4448880" y="245520"/>
                    <a:chExt cx="1121760" cy="19454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480"/>
                      <a:ext cx="13078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8280" y="439920"/>
                      <a:ext cx="7012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52200"/>
                    <a:ext cx="2317680" cy="1112040"/>
                    <a:chOff x="5661360" y="952200"/>
                    <a:chExt cx="231768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1800" y="1090440"/>
                      <a:ext cx="81828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240" y="626040"/>
                    <a:ext cx="2199240" cy="1450800"/>
                    <a:chOff x="5529240" y="626040"/>
                    <a:chExt cx="219924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74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2680" y="810720"/>
                      <a:ext cx="81720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7000" cy="1901160"/>
                    <a:chOff x="5355720" y="270360"/>
                    <a:chExt cx="119700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7320"/>
                      <a:ext cx="131040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880" y="486720"/>
                      <a:ext cx="703080" cy="35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6360" y="388800"/>
                    <a:ext cx="1893240" cy="1796400"/>
                    <a:chOff x="5346360" y="388800"/>
                    <a:chExt cx="189324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5920" y="1388160"/>
                      <a:ext cx="142704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1880" y="585000"/>
                      <a:ext cx="76716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4680"/>
                      <a:ext cx="117612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3200" y="534240"/>
                      <a:ext cx="631080" cy="16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1520"/>
                    <a:ext cx="2195280" cy="3002400"/>
                    <a:chOff x="3063240" y="253152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6680"/>
                      <a:ext cx="21283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800" y="4591440"/>
                      <a:ext cx="11390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3200" cy="2999880"/>
                    <a:chOff x="3791520" y="2650680"/>
                    <a:chExt cx="148320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160" y="3442320"/>
                      <a:ext cx="19695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480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240"/>
                    <a:ext cx="874440" cy="2926800"/>
                    <a:chOff x="4508280" y="2703240"/>
                    <a:chExt cx="87444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4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9600"/>
                      <a:ext cx="101160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6840" y="2484000"/>
                    <a:ext cx="2281680" cy="2952360"/>
                    <a:chOff x="5676840" y="2484000"/>
                    <a:chExt cx="2281680" cy="29523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3320" y="325260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080"/>
                    <a:ext cx="1757880" cy="3032280"/>
                    <a:chOff x="5648040" y="2593080"/>
                    <a:chExt cx="175788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160"/>
                      <a:ext cx="2034720" cy="37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3640" y="4721400"/>
                      <a:ext cx="108936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800" cy="2986200"/>
                    <a:chOff x="5576400" y="2710800"/>
                    <a:chExt cx="1225800" cy="298620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400"/>
                      <a:ext cx="197208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160" y="4882320"/>
                      <a:ext cx="1059480" cy="47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7320" cy="2777760"/>
                    <a:chOff x="5521320" y="2840400"/>
                    <a:chExt cx="69732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8880" y="3605400"/>
                      <a:ext cx="181116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3480" cy="2717640"/>
                    <a:chOff x="496116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840" y="4933080"/>
                      <a:ext cx="9507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20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b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796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c1a1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60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b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c1a1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9280" y="682560"/>
                    <a:ext cx="228132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b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3240" y="1875960"/>
                    <a:ext cx="9388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a7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372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c1a1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6120" y="2181600"/>
                  <a:ext cx="54720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66a7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3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604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c1a1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E931-B973-4EC7-85C7-E372CA240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4"/>
          <p:cNvSpPr txBox="1"/>
          <p:nvPr/>
        </p:nvSpPr>
        <p:spPr>
          <a:xfrm>
            <a:off x="611280" y="1125360"/>
            <a:ext cx="7489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З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ом са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TextBox 2"/>
          <p:cNvSpPr/>
          <p:nvPr/>
        </p:nvSpPr>
        <p:spPr>
          <a:xfrm>
            <a:off x="2916360" y="602136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спитатель Н. М. Алексеев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ТРИЗ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теория решения изобретательских задач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как технология, подкрепленная научными исследованиями появилась в 50-х годах 20 века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- отечественный изобретатель Г.С. Альтшуллер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ТРИЗ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в дошкольном детстве</a:t>
            </a: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ВОЗМОЖНОСТЬ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В ПЕРИОД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ИСТОКОВ ФОРМИРОВАНИЯ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ЛИЧНОСТИ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РАСКРЫТЬ ТВОРЧЕСКИЙ ПОТЕНЦИАЛ КАЖДОГО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РЕБЕН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Цель использования ТРИЗ – педагогики в детском саду</a:t>
            </a:r>
            <a:r>
              <a:rPr b="1" lang="ru-RU" sz="4000" spc="-1" strike="noStrike">
                <a:solidFill>
                  <a:srgbClr val="676a55"/>
                </a:solidFill>
                <a:latin typeface="Arial Black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развитие качеств мышления:</a:t>
            </a:r>
            <a:endParaRPr b="0" lang="en-US" sz="40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2787480"/>
            <a:ext cx="38163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Гибк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Подвиж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Систем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Диалектич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1480" y="2787480"/>
            <a:ext cx="38163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Поисковой актив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Стремления к новизне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Развития реч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Развитие творче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cc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ff"/>
                </a:solidFill>
                <a:latin typeface="Arial Black"/>
              </a:rPr>
              <a:t>Метод контрольных</a:t>
            </a:r>
            <a:br>
              <a:rPr sz="3600"/>
            </a:br>
            <a:r>
              <a:rPr b="0" lang="ru-RU" sz="3600" spc="-1" strike="noStrike">
                <a:solidFill>
                  <a:srgbClr val="cc00ff"/>
                </a:solidFill>
                <a:latin typeface="Arial Black"/>
              </a:rPr>
              <a:t> ( наводящих) вопросов</a:t>
            </a:r>
            <a:endParaRPr b="0" lang="en-US" sz="36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ормировать представления о признаках предметов, явлений…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ть воображение,  познавательную активность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Сущность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метод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том, что воспитатель заранее готовит вопросы, наводящие ребенка на ответ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процессе метода используется «память» всех анализатор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( тактильный, зрительный….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Методика проведения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В младших группах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остые вопросы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 называется? Как играть? Какого цвета?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В старших группах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просы сложне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ие особенности? Чем можно заменить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питатель </a:t>
            </a:r>
            <a:r>
              <a:rPr b="0" lang="ru-RU" sz="2000" spc="-1" strike="noStrike">
                <a:solidFill>
                  <a:srgbClr val="ff0066"/>
                </a:solidFill>
                <a:latin typeface="Arial Black"/>
              </a:rPr>
              <a:t>дает подсказк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(загадку), просит отгадать, что это за предмет. Например:«Соленый, зеленый, хрустящий, овальный, ароматный, мокрый…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(соленый огурец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(хорошо использовать модель схемы: среда обитания – части тела – характерные особенности – кто ухаживает – какая помощь и т.д.)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Результат: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озволяет формировать представления о признаках предметов, явлений…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вивает мышление, воображение,  познавательную активность…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Метод мозгового штурма</a:t>
            </a:r>
            <a:endParaRPr b="0" lang="en-US" sz="32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052640"/>
            <a:ext cx="8007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тие быстроты мыслительных процесс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Сущность метода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Хоровые ответы детей; не нужно устанавливать авторство; запрещается крит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Методика проведения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Воспитатель задает вопрос всем детям сразу. Все услышанные ответы записывает на доске, а затем разбирает с детьм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Значимость метода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Позволяет активизировать мыслительную деятельность, дает каждому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ебенку возможность высказать любое свое мнение (предположение) без оценивания ответ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Эмпатия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пособность перенестись на место другого предмета или человека</a:t>
            </a:r>
            <a:br>
              <a:rPr sz="2400"/>
            </a:br>
            <a:endParaRPr b="0" lang="en-US" sz="2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3887640" cy="4970520"/>
          </a:xfrm>
          <a:prstGeom prst="rect">
            <a:avLst/>
          </a:prstGeom>
          <a:solidFill>
            <a:srgbClr val="f4dcef"/>
          </a:solidFill>
          <a:ln w="38160">
            <a:solidFill>
              <a:srgbClr val="cc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 Black"/>
              </a:rPr>
              <a:t>Младший возраст</a:t>
            </a:r>
            <a:r>
              <a:rPr b="1" lang="ru-RU" sz="2400" spc="-1" strike="noStrike">
                <a:solidFill>
                  <a:srgbClr val="bb2727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играть в «киску», «МАМУ», «бабочку»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 Black"/>
              </a:rPr>
              <a:t>Старший возраст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Я чувствую, что я превращаюс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в ветерок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в песенку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в цветок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Я-светлячок…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17960" y="1125000"/>
            <a:ext cx="3927600" cy="5472360"/>
          </a:xfrm>
          <a:prstGeom prst="rect">
            <a:avLst/>
          </a:prstGeom>
          <a:solidFill>
            <a:srgbClr val="b0fec4"/>
          </a:solidFill>
          <a:ln w="38160">
            <a:solidFill>
              <a:srgbClr val="cc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 Black"/>
              </a:rPr>
              <a:t>Игра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 Black"/>
              </a:rPr>
              <a:t>«Точка зрения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 Black"/>
              </a:rPr>
              <a:t>Дети изображают не говорящие предметы , но говорят от их лиц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«СТУЛ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то чувствует стул вечером, когда уже все ушл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«Колобок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то чувствует Колобок когда лиса его съела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 что чувствует лиса, когда хочет съесть Колобка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 что чувствует дорожка в лесу, по которой катится Колобок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 Black"/>
              </a:rPr>
              <a:t>МЕТОД ПРОТИВОРЕЧИЙ</a:t>
            </a:r>
            <a:endParaRPr b="0" lang="en-US" sz="28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 Black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активизация интереса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систематизация знаний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формирование понятий относительно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7" name="Organization Chart 6"/>
          <p:cNvGrpSpPr/>
          <p:nvPr/>
        </p:nvGrpSpPr>
        <p:grpSpPr>
          <a:xfrm>
            <a:off x="4030560" y="2101680"/>
            <a:ext cx="4789080" cy="3993120"/>
            <a:chOff x="4030560" y="2101680"/>
            <a:chExt cx="4789080" cy="3993120"/>
          </a:xfrm>
        </p:grpSpPr>
        <p:cxnSp>
          <p:nvCxnSpPr>
            <p:cNvPr id="368" name="_s1028"/>
            <p:cNvCxnSpPr>
              <a:stCxn id="369" idx="0"/>
              <a:endCxn id="370" idx="2"/>
            </p:cNvCxnSpPr>
            <p:nvPr/>
          </p:nvCxnSpPr>
          <p:spPr>
            <a:xfrm flipV="1" rot="16200000">
              <a:off x="6669720" y="3452760"/>
              <a:ext cx="799200" cy="1290240"/>
            </a:xfrm>
            <a:prstGeom prst="bentConnector3">
              <a:avLst>
                <a:gd name="adj1" fmla="val 125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1" name="_s1029"/>
            <p:cNvCxnSpPr>
              <a:stCxn id="372" idx="0"/>
              <a:endCxn id="370" idx="2"/>
            </p:cNvCxnSpPr>
            <p:nvPr/>
          </p:nvCxnSpPr>
          <p:spPr>
            <a:xfrm flipH="1" flipV="1" rot="5400000">
              <a:off x="5380560" y="3453480"/>
              <a:ext cx="799200" cy="1289520"/>
            </a:xfrm>
            <a:prstGeom prst="bentConnector3">
              <a:avLst>
                <a:gd name="adj1" fmla="val 125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0" name="_s1030"/>
            <p:cNvSpPr/>
            <p:nvPr/>
          </p:nvSpPr>
          <p:spPr>
            <a:xfrm>
              <a:off x="5319360" y="2101680"/>
              <a:ext cx="2210400" cy="1597320"/>
            </a:xfrm>
            <a:prstGeom prst="roundRect">
              <a:avLst>
                <a:gd name="adj" fmla="val 16667"/>
              </a:avLst>
            </a:prstGeom>
            <a:solidFill>
              <a:srgbClr val="b2f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Black"/>
                </a:rPr>
                <a:t>КНИГА</a:t>
              </a:r>
              <a:endParaRPr b="0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4030560" y="4497480"/>
              <a:ext cx="2210400" cy="1597320"/>
            </a:xfrm>
            <a:prstGeom prst="roundRect">
              <a:avLst>
                <a:gd name="adj" fmla="val 16667"/>
              </a:avLst>
            </a:prstGeom>
            <a:solidFill>
              <a:srgbClr val="b2f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 Black"/>
                </a:rPr>
                <a:t>хорошо</a:t>
              </a:r>
              <a:endParaRPr b="0" lang="en-US" sz="3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9" name="_s1032"/>
            <p:cNvSpPr/>
            <p:nvPr/>
          </p:nvSpPr>
          <p:spPr>
            <a:xfrm>
              <a:off x="6609240" y="4497480"/>
              <a:ext cx="2210400" cy="1597320"/>
            </a:xfrm>
            <a:prstGeom prst="roundRect">
              <a:avLst>
                <a:gd name="adj" fmla="val 16667"/>
              </a:avLst>
            </a:prstGeom>
            <a:solidFill>
              <a:srgbClr val="b2f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 Black"/>
                </a:rPr>
                <a:t>плохо</a:t>
              </a:r>
              <a:endParaRPr b="0" lang="en-US" sz="3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1:13:09Z</dcterms:created>
  <dc:creator>User</dc:creator>
  <dc:description/>
  <dc:language>en-US</dc:language>
  <cp:lastModifiedBy>Дядя Саша</cp:lastModifiedBy>
  <dcterms:modified xsi:type="dcterms:W3CDTF">2017-08-21T14:52:12Z</dcterms:modified>
  <cp:revision>22</cp:revision>
  <dc:subject/>
  <dc:title>Слайд 1</dc:title>
</cp:coreProperties>
</file>